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F6C-E528-4749-A250-9EA5A35B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CFA-180B-48AE-8A1A-509E04F7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45B-176B-44D8-AFCC-61E48954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65E-8EF1-4202-A5F5-F1FE2C18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5CA3-9F07-4062-8E3A-D24D9CB8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8FEC-09D9-4BAE-B811-AB242227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845B-BBBC-47CB-AB7D-747495A1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B483-B7B2-4D1D-8401-30BC4351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A5D0-01DC-408F-AB8C-359C8BB7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7907-8A2E-424C-8E5B-9271FA62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BD4F-1ADD-42DC-851F-67699A71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058-80B3-44E2-9668-055421D4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6C1D-1BC1-4D12-ACF3-75FE3DA3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1384-3308-4ACE-A047-258C1149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9B8F-6E95-4F1E-9393-C55D2DD5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58E6-F39A-4E51-B349-87B56BF0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9F3B-0FE8-46E8-A345-5733F74F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49E-A77B-429A-BB30-94C4D390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2F7-1819-4C9A-9442-E580C9A3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5D6-F8FE-4159-8BC0-7239ED0F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A65-3441-4E3B-AC3D-F5AB1807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162-A5EE-49A8-B605-898459CA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6AB-C6D9-47F1-AE0C-88DD7811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DBA-2181-431C-A85E-1B777D3F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3292-23C5-4748-B47B-0B143203ED2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FE29-49B8-4476-AD54-7CC9E364155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66"/>
                </a:solidFill>
                <a:latin typeface="Monotype Corsiva"/>
              </a:rPr>
              <a:t>Презентація громади Заболотцівської сільської ради</a:t>
            </a:r>
            <a:br>
              <a:rPr sz="5000"/>
            </a:br>
            <a:br>
              <a:rPr sz="5000"/>
            </a:br>
            <a:br>
              <a:rPr sz="5000"/>
            </a:br>
            <a:r>
              <a:rPr b="0" lang="uk-UA" sz="2800" spc="-1" strike="noStrike">
                <a:solidFill>
                  <a:srgbClr val="ffcc66"/>
                </a:solidFill>
                <a:latin typeface="Monotype Corsiva"/>
              </a:rPr>
              <a:t>Львівська область</a:t>
            </a:r>
            <a:br>
              <a:rPr sz="2800"/>
            </a:br>
            <a:r>
              <a:rPr b="0" lang="uk-UA" sz="2800" spc="-1" strike="noStrike">
                <a:solidFill>
                  <a:srgbClr val="ffcc66"/>
                </a:solidFill>
                <a:latin typeface="Monotype Corsiva"/>
              </a:rPr>
              <a:t>Україна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cc66"/>
                </a:solidFill>
                <a:latin typeface="Times New Roman"/>
              </a:rPr>
              <a:t>Структура презентації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Times New Roman"/>
              </a:rPr>
              <a:t>Заболотцівська сільська комунальна служб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Times New Roman"/>
              </a:rPr>
              <a:t>Кооперативи по газифікації сіл сільської рад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Times New Roman"/>
              </a:rPr>
              <a:t>Формування з охорони громадського порядк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Times New Roman"/>
              </a:rPr>
              <a:t>Етапи створення Заболотцівської сільської комунальної служб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28800" y="25146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Збори (сходи) громадя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Сесія сільської рад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Укладення угоди з центром   зайнятості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Співпраця з громадою та місцевими підприємствам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Times New Roman"/>
              </a:rPr>
              <a:t>Послуги, що надаються комунальною службо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Організація водопостачанн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Вуличне освітлення сіл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Впорядкування території та   організація вивозу смітт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Утримання па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яток архітектури, па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ятників, старих недіючих    поховань, кладови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Times New Roman"/>
              </a:rPr>
              <a:t>Водопровідна мережа                с. Заболотці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5120" y="2057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145 користувачів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Система є самодостатньо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Знаходиться на балансі комунальної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служби сільської рад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Відпрацьована система контрол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оплати за використання вод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5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Times New Roman"/>
              </a:rPr>
              <a:t>Етапи створення    кооперативів по газифікації </a:t>
            </a:r>
            <a:br>
              <a:rPr sz="4400"/>
            </a:br>
            <a:r>
              <a:rPr b="0" lang="uk-UA" sz="4400" spc="-1" strike="noStrike">
                <a:solidFill>
                  <a:srgbClr val="ffcc66"/>
                </a:solidFill>
                <a:latin typeface="Times New Roman"/>
              </a:rPr>
              <a:t>сіл сільської рад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9051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Збори (сходи) громадя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Сесія сільської ради, реєстрація кооперативі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Співпраця з громадою та бізнес – структурам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Times New Roman"/>
              </a:rPr>
              <a:t>Формування з охорони громадського порядку   </a:t>
            </a:r>
            <a:r>
              <a:rPr b="0" lang="uk-UA" sz="3000" spc="-1" strike="noStrike">
                <a:solidFill>
                  <a:srgbClr val="ffcc66"/>
                </a:solidFill>
                <a:latin typeface="Times New Roman"/>
              </a:rPr>
              <a:t>(добровільна народна дружина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Забезпечення правопорядку в громад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Збереження майна громадян та комунального майна в селах сільської рад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Times New Roman"/>
              </a:rPr>
              <a:t>Співпраця з органами внутрішніх справ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Times New Roman"/>
              </a:rPr>
              <a:t>Громадська діяльність нашої громад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Збір продуктів для лікарні та благодійних їдален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Ефективне використання пасови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Спортивне товариство “Сі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Дитяча екологічна оргнаізація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Еко - Око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Спеціальні рахунки шкі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Збір коштів для лікування членів громад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imes New Roman"/>
              </a:rPr>
              <a:t>Народна самодіяльність (хор бабусь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1337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66"/>
                </a:solidFill>
                <a:latin typeface="Monotype Corsiva"/>
              </a:rPr>
              <a:t>УСПІХІВ ВАМ І ВАШИМ ГРОМАДАМ 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06:00:14Z</dcterms:created>
  <dc:creator>Work</dc:creator>
  <dc:description/>
  <dc:language>en-US</dc:language>
  <cp:lastModifiedBy>Work</cp:lastModifiedBy>
  <dcterms:modified xsi:type="dcterms:W3CDTF">2003-07-09T08:06:29Z</dcterms:modified>
  <cp:revision>3</cp:revision>
  <dc:subject/>
  <dc:title>Презентація громади Заболотівської сільської ради  (Львівська обл.)</dc:title>
</cp:coreProperties>
</file>