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E296-0D1E-4760-80CD-551ADC99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818D-D14B-4CE5-B812-E26A3BB9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367E-7B90-42D7-8BE1-15DE2603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9573-515A-435F-9ACD-24CC7C3F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C87B-5A26-4CBA-B1A2-0D276587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6F30-19B4-4555-B2EA-92ECD7DE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116E-C649-487E-8039-86577AD0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5E07-8198-4CE5-A4E4-D832D594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F5E5-1625-467B-A6B7-7D119825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C25E-883A-4A78-8147-2903EAB2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300F-55B0-45DD-B267-8A9B521E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F69D-32CE-47E9-917D-E4C22767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AA20-1AEE-43A1-9AB9-A4296E84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3FAB-0C2A-4482-A3F0-2D810190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95BF-B25A-4AB9-AE92-9CADEC02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1C3B-DC77-4356-A575-E2C7C202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2CAA-25F0-4BC1-B3AC-49748168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2DE-2EF2-4888-B391-EF6E2289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00C-17EE-4BC4-B52F-BFBC78E7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72FC-9074-4EF9-B40C-9ABDB32E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9B4-0F8F-41F7-B119-56B645B7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EBF-1682-444A-B247-5B7D63BE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D57F-9BC2-4D96-AA37-F71DECEB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456-18EB-4D3A-ACB2-649C6F3C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C626-9851-477D-93BD-4B73AD6310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D0A4-2245-4B00-B61A-76B0088AE6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LASS.WAV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533520" y="380880"/>
            <a:ext cx="2232000" cy="2895840"/>
            <a:chOff x="533520" y="380880"/>
            <a:chExt cx="2232000" cy="2895840"/>
          </a:xfrm>
        </p:grpSpPr>
        <p:pic>
          <p:nvPicPr>
            <p:cNvPr id="84" name="DAD%20%20logo%20ua" descr=""/>
            <p:cNvPicPr/>
            <p:nvPr/>
          </p:nvPicPr>
          <p:blipFill>
            <a:blip r:embed="rId1"/>
            <a:stretch/>
          </p:blipFill>
          <p:spPr>
            <a:xfrm>
              <a:off x="533520" y="380880"/>
              <a:ext cx="223200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 txBox="1"/>
            <p:nvPr/>
          </p:nvSpPr>
          <p:spPr>
            <a:xfrm>
              <a:off x="533520" y="380880"/>
              <a:ext cx="2232000" cy="289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Logo_URLP" descr=""/>
          <p:cNvPicPr/>
          <p:nvPr/>
        </p:nvPicPr>
        <p:blipFill>
          <a:blip r:embed="rId2"/>
          <a:stretch/>
        </p:blipFill>
        <p:spPr>
          <a:xfrm>
            <a:off x="7086600" y="5562720"/>
            <a:ext cx="1473120" cy="790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38080" y="4419720"/>
            <a:ext cx="624852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ставляе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ксим Шинкарен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лен 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2133720"/>
            <a:ext cx="63244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Альтернативные методы финансирования сельских коммунальных предприят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41B0-59A5-4221-B63A-05593DF8FF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3520" y="371520"/>
            <a:ext cx="8610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Состояние сферы коммунальных услуг  в сельской местности Донецкой обла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4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Данные по 15 сельским общинам  = 61 село = 33 707 жителей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4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ahoma"/>
              </a:rPr>
              <a:t>организованн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ый</a:t>
            </a:r>
            <a:r>
              <a:rPr b="0" lang="uk-UA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вывоз мусора - в 17 селах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4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ремонтно-строительные услуги - в 3 селах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4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транспортные услуги - в 3 селах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4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ремонт оборудования техники - в 29 селах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4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ритуальные услуги - в 21 селе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50A3-6DC7-468A-B920-F6F661F3FA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6800" y="1885680"/>
            <a:ext cx="77216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Законодательное ограничение рентабельности коммунальных услу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Неплатежеспособность сельских жите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Сельские жители привыкли не платить за коммунальны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е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услуг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Отсутствие материально-технической баз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Ограниченная государственная поддерж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Проблемы деятельности сельских коммунальных предприятий (КП)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ED0-90E8-4296-9FB2-BFA678F229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Альтернативные методы финансирования сельских К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37720" y="16956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7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Природные ископаемые/ресурсы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7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Сельхозпроизводство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7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итуальные услуги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7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Ремонтно-строительные услуги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7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Бытовые  и транспортные услуги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7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Офисные услуги (ксерокопирование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CF0-55F7-4D3D-A791-129EE15943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343080"/>
            <a:ext cx="8610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Примеры альтернативного финансирования сельских К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62120" y="1847880"/>
            <a:ext cx="3504960" cy="3473640"/>
            <a:chOff x="762120" y="1847880"/>
            <a:chExt cx="3504960" cy="3473640"/>
          </a:xfrm>
        </p:grpSpPr>
        <p:sp>
          <p:nvSpPr>
            <p:cNvPr id="97" name=""/>
            <p:cNvSpPr/>
            <p:nvPr/>
          </p:nvSpPr>
          <p:spPr>
            <a:xfrm>
              <a:off x="762120" y="2090880"/>
              <a:ext cx="3374640" cy="3034080"/>
            </a:xfrm>
            <a:prstGeom prst="ellipse">
              <a:avLst/>
            </a:prstGeom>
            <a:solidFill>
              <a:srgbClr val="dddddd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2120" y="1847880"/>
              <a:ext cx="3504960" cy="34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Доходы, $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 го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грузка песка-249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аспортные услуги-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серокопирование-17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a50021"/>
                  </a:solidFill>
                  <a:latin typeface="Times New Roman"/>
                </a:rPr>
                <a:t>итого 251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-171360" y="5715000"/>
            <a:ext cx="52578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В КП трудоустрое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8 чел. (з/п-72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обслуживается 4014 ч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6600">
            <a:off x="2018520" y="4952520"/>
            <a:ext cx="838440" cy="838440"/>
          </a:xfrm>
          <a:prstGeom prst="rightArrow">
            <a:avLst>
              <a:gd name="adj1" fmla="val 50000"/>
              <a:gd name="adj2" fmla="val 4090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915080" y="2114640"/>
            <a:ext cx="3733560" cy="3245760"/>
            <a:chOff x="4915080" y="2114640"/>
            <a:chExt cx="3733560" cy="3245760"/>
          </a:xfrm>
        </p:grpSpPr>
        <p:sp>
          <p:nvSpPr>
            <p:cNvPr id="102" name=""/>
            <p:cNvSpPr/>
            <p:nvPr/>
          </p:nvSpPr>
          <p:spPr>
            <a:xfrm>
              <a:off x="5108040" y="2114640"/>
              <a:ext cx="3347280" cy="3048480"/>
            </a:xfrm>
            <a:prstGeom prst="ellipse">
              <a:avLst/>
            </a:prstGeom>
            <a:solidFill>
              <a:srgbClr val="ffcc99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15080" y="2345760"/>
              <a:ext cx="3733560" cy="30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Доходы, $ в го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дсолнечник-69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укуруза-46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одоснабжение-120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трой.цех-108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a50021"/>
                  </a:solidFill>
                  <a:latin typeface="Times New Roman"/>
                </a:rPr>
                <a:t>итого 139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600360" y="5597640"/>
            <a:ext cx="6477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В КП трудоустроено 5 ч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з/п - 31 $ в мес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обслуживается 4400 ч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386800">
            <a:off x="6456960" y="4894920"/>
            <a:ext cx="760680" cy="838080"/>
          </a:xfrm>
          <a:prstGeom prst="rightArrow">
            <a:avLst>
              <a:gd name="adj1" fmla="val 50000"/>
              <a:gd name="adj2" fmla="val 4090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53200" y="1924200"/>
            <a:ext cx="2867040" cy="1581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301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Tahoma"/>
              </a:rPr>
              <a:t>С/х производство</a:t>
            </a:r>
            <a:endParaRPr b="0" lang="en-US" sz="2800" spc="1" strike="noStrike">
              <a:ln w="324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Tahoma"/>
              <a:ea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62080" y="1886040"/>
            <a:ext cx="2590920" cy="1238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42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Tahoma"/>
              </a:rPr>
              <a:t>Продажа песка</a:t>
            </a:r>
            <a:endParaRPr b="0" lang="en-US" sz="2800" spc="1" strike="noStrike">
              <a:ln w="324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6F8-B453-4337-B4BE-4FB9AE5B08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6858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Дальнейшее развитие сельских К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3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100 % опл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 за полученные услуги  со стороны населени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3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Повышать качество коммунальных услуг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3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Расширять спектр оказываемых услуг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Ком.предприятие%20Дмитр.(Ш,)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343400" cy="313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F36-D261-468A-A09B-DEEBED394C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819520" y="2133720"/>
            <a:ext cx="63244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Альтернативные методы финансирования сельских коммунальных предприятий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DAD%20%20logo%20ua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80880"/>
            <a:ext cx="2232000" cy="2895840"/>
          </a:xfrm>
          <a:prstGeom prst="rect">
            <a:avLst/>
          </a:prstGeom>
          <a:ln w="0">
            <a:noFill/>
          </a:ln>
        </p:spPr>
      </p:pic>
      <p:pic>
        <p:nvPicPr>
          <p:cNvPr id="113" name="Logo_URLP" descr=""/>
          <p:cNvPicPr/>
          <p:nvPr/>
        </p:nvPicPr>
        <p:blipFill>
          <a:blip r:embed="rId3"/>
          <a:stretch/>
        </p:blipFill>
        <p:spPr>
          <a:xfrm>
            <a:off x="7086600" y="5562720"/>
            <a:ext cx="1473120" cy="790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009800" y="4419720"/>
            <a:ext cx="62481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стави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ксим Шинкарен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лен 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474F-A114-4143-AE7A-17DDC7DBE6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7:09:15Z</dcterms:created>
  <dc:creator>Max</dc:creator>
  <dc:description/>
  <dc:language>en-US</dc:language>
  <cp:lastModifiedBy>Viktor R. KLYMONCHUK</cp:lastModifiedBy>
  <cp:lastPrinted>2003-06-28T02:13:07Z</cp:lastPrinted>
  <dcterms:modified xsi:type="dcterms:W3CDTF">2003-07-06T08:07:14Z</dcterms:modified>
  <cp:revision>28</cp:revision>
  <dc:subject/>
  <dc:title>No Slide Title</dc:title>
</cp:coreProperties>
</file>