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3CF-24CB-43D3-BB24-89226F37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A15-C5BF-414E-A8FE-94813603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D98-0344-4BA8-B0D9-C78664D0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218-343B-435F-850D-47DE6222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97AE-C6DF-4F34-B418-5C273C2D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62A3-EEEE-40DC-8624-32234523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EC63-4677-43D8-8755-0C9B619F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6595-71D4-4AA5-BBC8-1ABA1C7B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5B68-F399-4D25-9C63-20805C4A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5D17-6DD6-4732-B64B-4B4F35DC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4742-F747-4F35-AAE6-29CD658D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17C-72D4-4C4E-933B-F19DBC86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7B34-41E1-455A-91E3-4B539CFA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CF24-FB64-46C3-96BA-7FC1725E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57DC-83E7-4044-BA83-67F8B241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72EA-6FB3-4649-83DA-BF57F54C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0509-B98F-48B7-95AB-6302EE3B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62D-0954-485E-9045-415EE94B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5C3-2A7B-444D-9F83-03CBE01E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F5E-CA1F-4A99-9984-2D0E128C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193-726E-4B0F-8BEA-516C538F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332-634D-4B35-9BD7-04F6E92C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CFC-737B-4409-A2D8-A1343440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285-CB23-45BB-87B8-D48421EB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D5E5-DC96-4D16-BC38-E569D00D3A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D308-8FA1-4BF6-83C3-BC4497A7BD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ole1" descr=""/>
          <p:cNvPicPr/>
          <p:nvPr/>
        </p:nvPicPr>
        <p:blipFill>
          <a:blip r:embed="rId1"/>
          <a:srcRect l="13199" t="0" r="0" b="0"/>
          <a:stretch/>
        </p:blipFill>
        <p:spPr>
          <a:xfrm>
            <a:off x="380880" y="0"/>
            <a:ext cx="8915400" cy="6548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2560" y="1599840"/>
            <a:ext cx="846144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Job creation and service provision in rur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6754680" cy="11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57240" y="509112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Mykola</a:t>
            </a:r>
            <a:r>
              <a:rPr b="1" lang="uk-UA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Hrytsenk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yiv Project Team Leader, UR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819520"/>
            <a:ext cx="7924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 Narrow"/>
              </a:rPr>
              <a:t>Training</a:t>
            </a:r>
            <a:r>
              <a:rPr b="1" lang="ru-RU" sz="2000" spc="-1" strike="noStrike">
                <a:solidFill>
                  <a:srgbClr val="ff0033"/>
                </a:solidFill>
                <a:latin typeface="Arial Narrow"/>
              </a:rPr>
              <a:t>. </a:t>
            </a:r>
            <a:r>
              <a:rPr b="1" lang="en-US" sz="2000" spc="-1" strike="noStrike">
                <a:solidFill>
                  <a:srgbClr val="ff0033"/>
                </a:solidFill>
                <a:latin typeface="Arial Narrow"/>
              </a:rPr>
              <a:t>Microfinance</a:t>
            </a:r>
            <a:r>
              <a:rPr b="1" lang="ru-RU" sz="2000" spc="-1" strike="noStrike">
                <a:solidFill>
                  <a:srgbClr val="ff0033"/>
                </a:solidFill>
                <a:latin typeface="Arial Narrow"/>
              </a:rPr>
              <a:t>. </a:t>
            </a:r>
            <a:r>
              <a:rPr b="1" lang="en-US" sz="2000" spc="-1" strike="noStrike">
                <a:solidFill>
                  <a:srgbClr val="ff0033"/>
                </a:solidFill>
                <a:latin typeface="Arial Narrow"/>
              </a:rPr>
              <a:t>Organisation</a:t>
            </a:r>
            <a:r>
              <a:rPr b="1" lang="ru-RU" sz="2000" spc="-1" strike="noStrike">
                <a:solidFill>
                  <a:srgbClr val="ff0033"/>
                </a:solidFill>
                <a:latin typeface="Arial Narrow"/>
              </a:rPr>
              <a:t>. </a:t>
            </a:r>
            <a:r>
              <a:rPr b="1" lang="en-US" sz="2000" spc="-1" strike="noStrike">
                <a:solidFill>
                  <a:srgbClr val="ff0033"/>
                </a:solidFill>
                <a:latin typeface="Arial Narrow"/>
              </a:rPr>
              <a:t>Right protectio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33526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Narrow"/>
              </a:rPr>
              <a:t>Support to the development of </a:t>
            </a:r>
            <a:r>
              <a:rPr b="1" i="1" lang="en-US" sz="4800" spc="-1" strike="noStrike">
                <a:solidFill>
                  <a:srgbClr val="000099"/>
                </a:solidFill>
                <a:latin typeface="Arial Narrow"/>
              </a:rPr>
              <a:t>Rural Service Centre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991040"/>
            <a:ext cx="876312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991040"/>
            <a:ext cx="378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769000"/>
            <a:ext cx="914400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68600"/>
            <a:ext cx="914400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34d"/>
                </a:solidFill>
                <a:latin typeface="Arial"/>
              </a:rPr>
              <a:t>Low employment level and insufficient service provision in rural areas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280" y="1488960"/>
            <a:ext cx="228600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ool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І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uzzle2"/>
          <p:cNvSpPr/>
          <p:nvPr/>
        </p:nvSpPr>
        <p:spPr>
          <a:xfrm>
            <a:off x="7924680" y="228600"/>
            <a:ext cx="1040040" cy="6494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ining course in rural business develop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263196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ool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ІІ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upport to the development of Rural Service Cent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774960"/>
            <a:ext cx="2667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ool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ІІ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upport to the development of local arts </a:t>
            </a:r>
            <a:r>
              <a:rPr b="0" lang="ru-MD" sz="3200" spc="-1" strike="noStrike">
                <a:solidFill>
                  <a:srgbClr val="ffcc66"/>
                </a:solidFill>
                <a:latin typeface="Arial"/>
              </a:rPr>
              <a:t>and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51460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65760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80060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994280"/>
            <a:ext cx="2667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ool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Microfi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55627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5832360"/>
            <a:ext cx="2667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ool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5638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reation of co-operatives and communal enterpri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4320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234d"/>
                </a:solidFill>
                <a:latin typeface="Arial"/>
              </a:rPr>
              <a:t>Undeveloped service provision in rural are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2590560"/>
            <a:ext cx="7086600" cy="327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epair of home appli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hoes rep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irdresser’s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oduction of souvenirs and other types of 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Veterina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ilk collection and other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5238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trategy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Tool</a:t>
            </a: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II</a:t>
            </a:r>
            <a:r>
              <a:rPr b="1" lang="uk-UA" sz="2800" spc="-1" strike="noStrike">
                <a:solidFill>
                  <a:srgbClr val="ffcc66"/>
                </a:solidFill>
                <a:latin typeface="Arial Narrow"/>
              </a:rPr>
              <a:t>.</a:t>
            </a:r>
            <a:r>
              <a:rPr b="0" lang="ru-RU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Support to the development of 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Rural</a:t>
            </a:r>
            <a:r>
              <a:rPr b="1" lang="ru-RU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Service Cen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380880" y="2590920"/>
            <a:ext cx="2286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rvices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1676520" y="5867280"/>
            <a:ext cx="35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plic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58672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ore than 170 jobs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34d"/>
                </a:solidFill>
                <a:latin typeface="Arial"/>
              </a:rPr>
              <a:t>Limited means of production and </a:t>
            </a:r>
            <a:br>
              <a:rPr sz="3200"/>
            </a:br>
            <a:r>
              <a:rPr b="0" lang="en-US" sz="3200" spc="-1" strike="noStrike">
                <a:solidFill>
                  <a:srgbClr val="ff234d"/>
                </a:solidFill>
                <a:latin typeface="Arial"/>
              </a:rPr>
              <a:t>no access to agro-technical servi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380880" y="152388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trategy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Tool</a:t>
            </a: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V</a:t>
            </a:r>
            <a:r>
              <a:rPr b="1" lang="uk-UA" sz="2800" spc="-1" strike="noStrike">
                <a:solidFill>
                  <a:srgbClr val="ffcc66"/>
                </a:solidFill>
                <a:latin typeface="Arial Narrow"/>
              </a:rPr>
              <a:t>.</a:t>
            </a:r>
            <a:r>
              <a:rPr b="1" lang="ru-RU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Support to the development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agricultural service co-opera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380880" y="2590920"/>
            <a:ext cx="2286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rvices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5627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plic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5562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ore than 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10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-operatives established in pilot communities, more than 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5000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ceived access to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057040" y="2590920"/>
            <a:ext cx="7086600" cy="3047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oil culti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rv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lant pro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ransportation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put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4080" y="2192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naire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2:36:13Z</dcterms:created>
  <dc:creator>SG</dc:creator>
  <dc:description/>
  <dc:language>en-US</dc:language>
  <cp:lastModifiedBy>Yurii Kukharuk</cp:lastModifiedBy>
  <dcterms:modified xsi:type="dcterms:W3CDTF">2003-07-06T07:52:41Z</dcterms:modified>
  <cp:revision>32</cp:revision>
  <dc:subject/>
  <dc:title>Презентация PowerPoint</dc:title>
</cp:coreProperties>
</file>