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65D5-193E-4149-9146-247EEA3C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490E-8267-4AA4-9A50-3E242567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D2D7-1492-4EA4-B884-DD7E593F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5A7C-7403-4E4C-85B7-685B32E98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1DE1-6B42-4B99-A28C-37008123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5216-BA71-4A6F-8C60-8E934ADA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75FD-5515-420D-841D-EC86E4E3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F460-80B6-415E-8D5A-3BCC3D58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B81F-F11C-40BF-B9E8-87A5BEDF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1098-F71D-4252-9DE3-9781F540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FCD0-9730-4EBA-A6E2-416D6C8B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CC36-26BB-4597-AA6D-20B1709D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A1F8-81C3-45B2-A2A6-87E0813922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Charles Duff</a:t>
            </a:r>
            <a:br>
              <a:rPr sz="4500"/>
            </a:b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Project Manager</a:t>
            </a:r>
            <a:br>
              <a:rPr sz="4500"/>
            </a:br>
            <a:br>
              <a:rPr sz="45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ocial Sphere Assets Transfer and Maintenance (SSATM) Project</a:t>
            </a:r>
            <a:br>
              <a:rPr sz="3600"/>
            </a:br>
            <a:br>
              <a:rPr sz="4500"/>
            </a:b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Donetsk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ping with Increasing Dema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48200" indent="-448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transfer process leaves municipalities owning more assets than they need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8200" indent="-448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municipalities do not always have the management and administration capacity to deliver these services effect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8200" indent="-448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key to addressing this problem is to consider alternative ways of delivering services by externalising either the ownership or the delivery of specific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8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ping with Increasing Dema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option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direct ownership and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ontracting o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omplete dives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ping with Increasing Dema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the SSATM project helps public administration units evaluate service delivery options and implement their chosen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llective or Individual Pay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programme considers activities currently carried out by the local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where the local authority is considering who should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delive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those services in the future and, perhaps, who should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pay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for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llective or Individual Pay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3" name=""/>
          <p:cNvGrpSpPr/>
          <p:nvPr/>
        </p:nvGrpSpPr>
        <p:grpSpPr>
          <a:xfrm>
            <a:off x="838080" y="1676520"/>
            <a:ext cx="6770520" cy="3746520"/>
            <a:chOff x="838080" y="1676520"/>
            <a:chExt cx="6770520" cy="3746520"/>
          </a:xfrm>
        </p:grpSpPr>
        <p:grpSp>
          <p:nvGrpSpPr>
            <p:cNvPr id="124" name=""/>
            <p:cNvGrpSpPr/>
            <p:nvPr/>
          </p:nvGrpSpPr>
          <p:grpSpPr>
            <a:xfrm>
              <a:off x="843480" y="1681200"/>
              <a:ext cx="6758640" cy="3736800"/>
              <a:chOff x="843480" y="1681200"/>
              <a:chExt cx="6758640" cy="373680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843480" y="1681200"/>
                <a:ext cx="2252520" cy="1006560"/>
                <a:chOff x="843480" y="1681200"/>
                <a:chExt cx="2252520" cy="10065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923040" y="1681200"/>
                  <a:ext cx="2093760" cy="10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843480" y="1681200"/>
                  <a:ext cx="2252520" cy="100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3096360" y="1681200"/>
                <a:ext cx="2252880" cy="1006560"/>
                <a:chOff x="3096360" y="1681200"/>
                <a:chExt cx="2252880" cy="10065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3096360" y="1681200"/>
                  <a:ext cx="2252880" cy="1006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0" name=""/>
                <p:cNvGrpSpPr/>
                <p:nvPr/>
              </p:nvGrpSpPr>
              <p:grpSpPr>
                <a:xfrm>
                  <a:off x="3096360" y="1681200"/>
                  <a:ext cx="2252520" cy="1006560"/>
                  <a:chOff x="3096360" y="1681200"/>
                  <a:chExt cx="2252520" cy="100656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3175920" y="1681200"/>
                    <a:ext cx="2093400" cy="100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Collective Paymen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3096360" y="1681200"/>
                    <a:ext cx="2252520" cy="1006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3" name=""/>
              <p:cNvGrpSpPr/>
              <p:nvPr/>
            </p:nvGrpSpPr>
            <p:grpSpPr>
              <a:xfrm>
                <a:off x="5349600" y="1681200"/>
                <a:ext cx="2252520" cy="1006560"/>
                <a:chOff x="5349600" y="1681200"/>
                <a:chExt cx="2252520" cy="100656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5349600" y="1681200"/>
                  <a:ext cx="2252520" cy="1006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" name=""/>
                <p:cNvGrpSpPr/>
                <p:nvPr/>
              </p:nvGrpSpPr>
              <p:grpSpPr>
                <a:xfrm>
                  <a:off x="5349600" y="1681200"/>
                  <a:ext cx="2252160" cy="1006560"/>
                  <a:chOff x="5349600" y="1681200"/>
                  <a:chExt cx="2252160" cy="100656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5429160" y="1681200"/>
                    <a:ext cx="2093400" cy="100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Individual Paymen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5349600" y="1681200"/>
                    <a:ext cx="2252160" cy="1006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8" name=""/>
              <p:cNvGrpSpPr/>
              <p:nvPr/>
            </p:nvGrpSpPr>
            <p:grpSpPr>
              <a:xfrm>
                <a:off x="843480" y="2687760"/>
                <a:ext cx="2252520" cy="1280880"/>
                <a:chOff x="843480" y="2687760"/>
                <a:chExt cx="2252520" cy="12808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843480" y="2687760"/>
                  <a:ext cx="2252520" cy="1280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" name=""/>
                <p:cNvGrpSpPr/>
                <p:nvPr/>
              </p:nvGrpSpPr>
              <p:grpSpPr>
                <a:xfrm>
                  <a:off x="843480" y="2687760"/>
                  <a:ext cx="2252160" cy="1280880"/>
                  <a:chOff x="843480" y="2687760"/>
                  <a:chExt cx="2252160" cy="128088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923040" y="2687760"/>
                    <a:ext cx="2093400" cy="12808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ublic Sector Delivery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843480" y="2687760"/>
                    <a:ext cx="2252160" cy="1280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3" name=""/>
              <p:cNvGrpSpPr/>
              <p:nvPr/>
            </p:nvGrpSpPr>
            <p:grpSpPr>
              <a:xfrm>
                <a:off x="3096360" y="2687760"/>
                <a:ext cx="2252880" cy="1280880"/>
                <a:chOff x="3096360" y="2687760"/>
                <a:chExt cx="2252880" cy="128088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175920" y="2687760"/>
                  <a:ext cx="2093760" cy="12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School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096360" y="2687760"/>
                  <a:ext cx="2252880" cy="128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5349600" y="2687760"/>
                <a:ext cx="2252520" cy="1280880"/>
                <a:chOff x="5349600" y="2687760"/>
                <a:chExt cx="2252520" cy="128088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429160" y="2687760"/>
                  <a:ext cx="2093760" cy="12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Bus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349600" y="2687760"/>
                  <a:ext cx="2252520" cy="128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843480" y="3968640"/>
                <a:ext cx="2252520" cy="1449360"/>
                <a:chOff x="843480" y="3968640"/>
                <a:chExt cx="2252520" cy="14493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843480" y="3968640"/>
                  <a:ext cx="2252520" cy="1449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1" name=""/>
                <p:cNvGrpSpPr/>
                <p:nvPr/>
              </p:nvGrpSpPr>
              <p:grpSpPr>
                <a:xfrm>
                  <a:off x="843480" y="3968640"/>
                  <a:ext cx="2252160" cy="1449360"/>
                  <a:chOff x="843480" y="3968640"/>
                  <a:chExt cx="2252160" cy="144936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>
                    <a:off x="923040" y="3968640"/>
                    <a:ext cx="2093400" cy="144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rivate Sector Delivery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843480" y="3968640"/>
                    <a:ext cx="2252160" cy="14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4" name=""/>
              <p:cNvGrpSpPr/>
              <p:nvPr/>
            </p:nvGrpSpPr>
            <p:grpSpPr>
              <a:xfrm>
                <a:off x="3096360" y="3968640"/>
                <a:ext cx="2252880" cy="1449360"/>
                <a:chOff x="3096360" y="3968640"/>
                <a:chExt cx="2252880" cy="14493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175920" y="3968640"/>
                  <a:ext cx="2093760" cy="14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Stationer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096360" y="3968640"/>
                  <a:ext cx="2252880" cy="14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349600" y="3968640"/>
                <a:ext cx="2252520" cy="1449360"/>
                <a:chOff x="5349600" y="3968640"/>
                <a:chExt cx="2252520" cy="14493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5429160" y="3968640"/>
                  <a:ext cx="2093760" cy="14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Private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S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349600" y="3968640"/>
                  <a:ext cx="2252520" cy="14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0" name=""/>
            <p:cNvSpPr/>
            <p:nvPr/>
          </p:nvSpPr>
          <p:spPr>
            <a:xfrm>
              <a:off x="838080" y="1676520"/>
              <a:ext cx="6770520" cy="37465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llective or Individual Pay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the issue is not therefore whether the authority should or should not externalise service provision, but rather where the boundaries of the authority should lie between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making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or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buying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th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ndatory or Discretionar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72680" indent="-472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need to differentiate between mandatory and discretiona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2680" indent="-472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greater freedom of choice in discretiona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2680" indent="-472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n many cases though the authority does not have a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ndatory or Discretionar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9" name=""/>
          <p:cNvGrpSpPr/>
          <p:nvPr/>
        </p:nvGrpSpPr>
        <p:grpSpPr>
          <a:xfrm>
            <a:off x="914400" y="1676520"/>
            <a:ext cx="6770160" cy="3746520"/>
            <a:chOff x="914400" y="1676520"/>
            <a:chExt cx="6770160" cy="3746520"/>
          </a:xfrm>
        </p:grpSpPr>
        <p:grpSp>
          <p:nvGrpSpPr>
            <p:cNvPr id="180" name=""/>
            <p:cNvGrpSpPr/>
            <p:nvPr/>
          </p:nvGrpSpPr>
          <p:grpSpPr>
            <a:xfrm>
              <a:off x="919800" y="1681200"/>
              <a:ext cx="6757920" cy="3736800"/>
              <a:chOff x="919800" y="1681200"/>
              <a:chExt cx="6757920" cy="3736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919800" y="1681200"/>
                <a:ext cx="2252160" cy="1006560"/>
                <a:chOff x="919800" y="1681200"/>
                <a:chExt cx="2252160" cy="10065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999360" y="1681200"/>
                  <a:ext cx="2093400" cy="10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919800" y="1681200"/>
                  <a:ext cx="2252160" cy="100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3172320" y="1681200"/>
                <a:ext cx="2252880" cy="1006560"/>
                <a:chOff x="3172320" y="1681200"/>
                <a:chExt cx="2252880" cy="100656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3172320" y="1681200"/>
                  <a:ext cx="2252880" cy="1006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6" name=""/>
                <p:cNvGrpSpPr/>
                <p:nvPr/>
              </p:nvGrpSpPr>
              <p:grpSpPr>
                <a:xfrm>
                  <a:off x="3172320" y="1681200"/>
                  <a:ext cx="2252520" cy="1006560"/>
                  <a:chOff x="3172320" y="1681200"/>
                  <a:chExt cx="2252520" cy="100656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3251880" y="1681200"/>
                    <a:ext cx="2093400" cy="100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Discretionary Service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3172320" y="1681200"/>
                    <a:ext cx="2252520" cy="1006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9" name=""/>
              <p:cNvGrpSpPr/>
              <p:nvPr/>
            </p:nvGrpSpPr>
            <p:grpSpPr>
              <a:xfrm>
                <a:off x="5425560" y="1681200"/>
                <a:ext cx="2252160" cy="1006560"/>
                <a:chOff x="5425560" y="1681200"/>
                <a:chExt cx="2252160" cy="10065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5425560" y="1681200"/>
                  <a:ext cx="2252160" cy="1006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1" name=""/>
                <p:cNvGrpSpPr/>
                <p:nvPr/>
              </p:nvGrpSpPr>
              <p:grpSpPr>
                <a:xfrm>
                  <a:off x="5425560" y="1681200"/>
                  <a:ext cx="2251800" cy="1006560"/>
                  <a:chOff x="5425560" y="1681200"/>
                  <a:chExt cx="2251800" cy="10065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5505120" y="1681200"/>
                    <a:ext cx="2093040" cy="100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Mandatory Service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5425560" y="1681200"/>
                    <a:ext cx="2251800" cy="1006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4" name=""/>
              <p:cNvGrpSpPr/>
              <p:nvPr/>
            </p:nvGrpSpPr>
            <p:grpSpPr>
              <a:xfrm>
                <a:off x="919800" y="2687760"/>
                <a:ext cx="2252160" cy="1280880"/>
                <a:chOff x="919800" y="2687760"/>
                <a:chExt cx="2252160" cy="12808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919800" y="2687760"/>
                  <a:ext cx="2252160" cy="1280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919800" y="2687760"/>
                  <a:ext cx="2251800" cy="1280880"/>
                  <a:chOff x="919800" y="2687760"/>
                  <a:chExt cx="2251800" cy="128088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999360" y="2687760"/>
                    <a:ext cx="2093040" cy="12808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ublic Sector Delivery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919800" y="2687760"/>
                    <a:ext cx="2251800" cy="1280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9" name=""/>
              <p:cNvGrpSpPr/>
              <p:nvPr/>
            </p:nvGrpSpPr>
            <p:grpSpPr>
              <a:xfrm>
                <a:off x="3172320" y="2687760"/>
                <a:ext cx="2252880" cy="1280880"/>
                <a:chOff x="3172320" y="2687760"/>
                <a:chExt cx="2252880" cy="12808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251880" y="2687760"/>
                  <a:ext cx="2093760" cy="12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Bus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172320" y="2687760"/>
                  <a:ext cx="2252880" cy="128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5425560" y="2687760"/>
                <a:ext cx="2252160" cy="1280880"/>
                <a:chOff x="5425560" y="2687760"/>
                <a:chExt cx="2252160" cy="12808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5505120" y="2687760"/>
                  <a:ext cx="2093400" cy="12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School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425560" y="2687760"/>
                  <a:ext cx="2252160" cy="128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919800" y="3968640"/>
                <a:ext cx="2252160" cy="1449360"/>
                <a:chOff x="919800" y="3968640"/>
                <a:chExt cx="2252160" cy="14493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919800" y="3968640"/>
                  <a:ext cx="2252160" cy="1449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919800" y="3968640"/>
                  <a:ext cx="2251800" cy="1449360"/>
                  <a:chOff x="919800" y="3968640"/>
                  <a:chExt cx="2251800" cy="144936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999360" y="3968640"/>
                    <a:ext cx="2093040" cy="144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rivate Sector Delivery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919800" y="3968640"/>
                    <a:ext cx="2251800" cy="14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0" name=""/>
              <p:cNvGrpSpPr/>
              <p:nvPr/>
            </p:nvGrpSpPr>
            <p:grpSpPr>
              <a:xfrm>
                <a:off x="3172320" y="3968640"/>
                <a:ext cx="2252880" cy="1449360"/>
                <a:chOff x="3172320" y="3968640"/>
                <a:chExt cx="2252880" cy="14493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251880" y="3968640"/>
                  <a:ext cx="2093760" cy="14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Car Parking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172320" y="3968640"/>
                  <a:ext cx="2252880" cy="14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5425560" y="3968640"/>
                <a:ext cx="2252160" cy="1449360"/>
                <a:chOff x="5425560" y="3968640"/>
                <a:chExt cx="2252160" cy="14493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5505120" y="3968640"/>
                  <a:ext cx="2093400" cy="14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Private Health Car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425560" y="3968640"/>
                  <a:ext cx="2252160" cy="14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6" name=""/>
            <p:cNvSpPr/>
            <p:nvPr/>
          </p:nvSpPr>
          <p:spPr>
            <a:xfrm>
              <a:off x="914400" y="1676520"/>
              <a:ext cx="6770160" cy="37465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tract-Out or Privatis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need to distinguish between privatisation and contracting-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rivatisation involves divesting all further interest in delivery and pa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tract-Out or Privatis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f the authority retains an obligation to deliver the services or to pay for it, then the process of changing to an external form of service delivery is called contracting-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f privatisation refers to only one type of process, we need a new word to encompass both processes -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xterna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Project Purpo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to advise and assist with the development and replication of models for the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maintenan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and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transfer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of social sphere as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tract-Out or Privatis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"/>
          <p:cNvGrpSpPr/>
          <p:nvPr/>
        </p:nvGrpSpPr>
        <p:grpSpPr>
          <a:xfrm>
            <a:off x="914400" y="1676520"/>
            <a:ext cx="6770160" cy="3746520"/>
            <a:chOff x="914400" y="1676520"/>
            <a:chExt cx="6770160" cy="3746520"/>
          </a:xfrm>
        </p:grpSpPr>
        <p:grpSp>
          <p:nvGrpSpPr>
            <p:cNvPr id="235" name=""/>
            <p:cNvGrpSpPr/>
            <p:nvPr/>
          </p:nvGrpSpPr>
          <p:grpSpPr>
            <a:xfrm>
              <a:off x="919800" y="1681200"/>
              <a:ext cx="6757920" cy="3736800"/>
              <a:chOff x="919800" y="1681200"/>
              <a:chExt cx="6757920" cy="373680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919800" y="1681200"/>
                <a:ext cx="2252160" cy="1006560"/>
                <a:chOff x="919800" y="1681200"/>
                <a:chExt cx="2252160" cy="10065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999360" y="1681200"/>
                  <a:ext cx="2093400" cy="1006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919800" y="1681200"/>
                  <a:ext cx="2252160" cy="100656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3172320" y="1681200"/>
                <a:ext cx="2252880" cy="1006560"/>
                <a:chOff x="3172320" y="1681200"/>
                <a:chExt cx="2252880" cy="10065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3172320" y="1681200"/>
                  <a:ext cx="2252880" cy="100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1" name=""/>
                <p:cNvGrpSpPr/>
                <p:nvPr/>
              </p:nvGrpSpPr>
              <p:grpSpPr>
                <a:xfrm>
                  <a:off x="3172320" y="1681200"/>
                  <a:ext cx="2252520" cy="1006560"/>
                  <a:chOff x="3172320" y="1681200"/>
                  <a:chExt cx="2252520" cy="100656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3251880" y="1681200"/>
                    <a:ext cx="2093400" cy="100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Collective Paymen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3172320" y="1681200"/>
                    <a:ext cx="2252520" cy="1006560"/>
                  </a:xfrm>
                  <a:prstGeom prst="rect">
                    <a:avLst/>
                  </a:prstGeom>
                  <a:noFill/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4" name=""/>
              <p:cNvGrpSpPr/>
              <p:nvPr/>
            </p:nvGrpSpPr>
            <p:grpSpPr>
              <a:xfrm>
                <a:off x="5425560" y="1681200"/>
                <a:ext cx="2252160" cy="1006560"/>
                <a:chOff x="5425560" y="1681200"/>
                <a:chExt cx="2252160" cy="10065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5425560" y="1681200"/>
                  <a:ext cx="2252160" cy="100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6" name=""/>
                <p:cNvGrpSpPr/>
                <p:nvPr/>
              </p:nvGrpSpPr>
              <p:grpSpPr>
                <a:xfrm>
                  <a:off x="5425560" y="1681200"/>
                  <a:ext cx="2251800" cy="1006560"/>
                  <a:chOff x="5425560" y="1681200"/>
                  <a:chExt cx="2251800" cy="100656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5505120" y="1681200"/>
                    <a:ext cx="2093040" cy="100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Individual Paymen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5425560" y="1681200"/>
                    <a:ext cx="2251800" cy="1006560"/>
                  </a:xfrm>
                  <a:prstGeom prst="rect">
                    <a:avLst/>
                  </a:prstGeom>
                  <a:noFill/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9" name=""/>
              <p:cNvGrpSpPr/>
              <p:nvPr/>
            </p:nvGrpSpPr>
            <p:grpSpPr>
              <a:xfrm>
                <a:off x="919800" y="2687760"/>
                <a:ext cx="2252160" cy="1280880"/>
                <a:chOff x="919800" y="2687760"/>
                <a:chExt cx="2252160" cy="12808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919800" y="2687760"/>
                  <a:ext cx="2252160" cy="1280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1" name=""/>
                <p:cNvGrpSpPr/>
                <p:nvPr/>
              </p:nvGrpSpPr>
              <p:grpSpPr>
                <a:xfrm>
                  <a:off x="919800" y="2687760"/>
                  <a:ext cx="2251800" cy="1280880"/>
                  <a:chOff x="919800" y="2687760"/>
                  <a:chExt cx="2251800" cy="128088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999360" y="2687760"/>
                    <a:ext cx="2093040" cy="12808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ublic Sector Delivery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919800" y="2687760"/>
                    <a:ext cx="2251800" cy="1280880"/>
                  </a:xfrm>
                  <a:prstGeom prst="rect">
                    <a:avLst/>
                  </a:prstGeom>
                  <a:noFill/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4" name=""/>
              <p:cNvGrpSpPr/>
              <p:nvPr/>
            </p:nvGrpSpPr>
            <p:grpSpPr>
              <a:xfrm>
                <a:off x="3172320" y="2687760"/>
                <a:ext cx="2252880" cy="1280880"/>
                <a:chOff x="3172320" y="2687760"/>
                <a:chExt cx="2252880" cy="128088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3251880" y="2687760"/>
                  <a:ext cx="2093760" cy="12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172320" y="2687760"/>
                  <a:ext cx="2252880" cy="1280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5425560" y="2687760"/>
                <a:ext cx="2252160" cy="1280880"/>
                <a:chOff x="5425560" y="2687760"/>
                <a:chExt cx="2252160" cy="12808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5505120" y="2687760"/>
                  <a:ext cx="2093400" cy="1280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425560" y="2687760"/>
                  <a:ext cx="2252160" cy="1280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919800" y="3968640"/>
                <a:ext cx="2252160" cy="1449360"/>
                <a:chOff x="919800" y="3968640"/>
                <a:chExt cx="2252160" cy="14493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919800" y="3968640"/>
                  <a:ext cx="2252160" cy="1449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2" name=""/>
                <p:cNvGrpSpPr/>
                <p:nvPr/>
              </p:nvGrpSpPr>
              <p:grpSpPr>
                <a:xfrm>
                  <a:off x="919800" y="3968640"/>
                  <a:ext cx="2251800" cy="1449360"/>
                  <a:chOff x="919800" y="3968640"/>
                  <a:chExt cx="2251800" cy="144936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999360" y="3968640"/>
                    <a:ext cx="2093040" cy="144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rivate Sector Delivery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919800" y="3968640"/>
                    <a:ext cx="2251800" cy="1449360"/>
                  </a:xfrm>
                  <a:prstGeom prst="rect">
                    <a:avLst/>
                  </a:prstGeom>
                  <a:noFill/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5" name=""/>
              <p:cNvGrpSpPr/>
              <p:nvPr/>
            </p:nvGrpSpPr>
            <p:grpSpPr>
              <a:xfrm>
                <a:off x="3172320" y="3968640"/>
                <a:ext cx="2252880" cy="1449360"/>
                <a:chOff x="3172320" y="3968640"/>
                <a:chExt cx="2252880" cy="144936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3251880" y="3968640"/>
                  <a:ext cx="2093760" cy="14493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Contract-Ou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172320" y="3968640"/>
                  <a:ext cx="2252880" cy="144936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5425560" y="3968640"/>
                <a:ext cx="2252160" cy="1449360"/>
                <a:chOff x="5425560" y="3968640"/>
                <a:chExt cx="2252160" cy="144936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5505120" y="3968640"/>
                  <a:ext cx="2093400" cy="14493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Privatisat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425560" y="3968640"/>
                  <a:ext cx="2252160" cy="144936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1" name=""/>
            <p:cNvSpPr/>
            <p:nvPr/>
          </p:nvSpPr>
          <p:spPr>
            <a:xfrm>
              <a:off x="914400" y="1676520"/>
              <a:ext cx="6770160" cy="374652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4267080" y="2971800"/>
            <a:ext cx="0" cy="571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77120" y="2971800"/>
            <a:ext cx="0" cy="571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electing an Appropriate Form of Delivery – The SSATM Gu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48200" indent="-448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the process of considering options,the underlying issues and implementing an alternative delivery approach is the subject of the SSATM Gu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8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8200" indent="-448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the guide is for elected representatives and local government officers who wish to reassess how local authority services could best be delivered in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8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electing an Appropriate Form of Delivery – The SSATM Gu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t provides frameworks for considering future delivery op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t includes three decision tool exercises to assist local authorities to make policy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t does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no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favour and single model of service delivery but aims to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clarify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the decision mak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ere Next for SSAT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hanges in the way social services are delivered seem cer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the issue is not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f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, but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this change is to be eff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SATM Case Pro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8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Housing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Communal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Heating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Community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Care of the Elderly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Respite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Transpor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Waste Dis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6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rategic Plan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82400" indent="-4824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consideration of SSATM service delivery issues in the 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400" indent="-4824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development of a realistic operation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400" indent="-4824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matching the plan to budget and allocating respon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mun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roactive rather than re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management of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dentification of realistic PSA tar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8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mun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policy of transpar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community access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citizens report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use of the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ood New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mproved understanding of need to pay through fees or ta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willingness to pay where benefits appa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ood New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erception that public sector delivery is not the only option – effectiv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existing infrastructure and technical skills to support most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6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indings from SSATM Surve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72680" indent="-472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most transfers from enterprises have been completed or are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2680" indent="-472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most transfers have the effect of increasing net expenditure of the recipient municip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2680" indent="-472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the quality of fee paying services tends to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d N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tate of technical infrastructure very po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many people cannot afford to p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ublic tariffs set too low to meet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2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d N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ultural inertia in the public sector obstructing alternative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legal system is acting as a brake on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8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Will to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biggest barrier to improvement is the willingness to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where desperation has forced radical thinking, the results have been surpr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4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Will to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mproving SSATM delivery is as much about vision, as it is about m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the Guide is written to help those who want to have a go, to succ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0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externalisation has a significant part to 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tep change improvement means roll-out and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6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need for continuing legal refo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define PSAs and encourage alternative service delivery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2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urther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www.ssatm.org.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www.snezhnoye.dn.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8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indings from SSATM Surve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the quality of services provided free at the point of delivery tends to stay the same or dec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nly limited attempts to experiment with alternative forms of services pro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fer and Maintenance or Maintenance and Transf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ocus of activities should be on the maintenance and sustainability of social services provision rather than on the transfer process from enterprises to municipal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undamental reason for municipalities struggling to maintain viable social services is shortage of 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fer and Maintenance or Maintenance and Transf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while there are no quick-fix solutions, there are established practices by which public bodies can increase the efficiency of service provi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these practices are the main focus of the SSATM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ne option includes the transfer of the service to an alternative service prov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ublic Sector Reform Proc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reduction in the role of the public sector in the direct delivery of public services pioneered in the UK in the 1980s and has proceeded relentlessly throughout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nitial emphasis on privatisation but the process continued through contracting-out of public service provision and public/private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ublic Sector Reform Proc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33800" indent="-433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whilst the process has its critics – few would doubt cost savings and efficiency improvements have been achie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3800" indent="-433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n Ukraine the process is at a quite different stage with market reform emphasis being on reduction of the role of the state in ownership and management of commercial enterprises – as a result of which social assets are being transferred to municipal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ublic Sector Reform Proc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s this happens – greater emphasis on the delivery of these services by the public sector, raising issues of the ownership and delivery of public services gener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12:55:46Z</dcterms:created>
  <dc:creator>Enterplan</dc:creator>
  <dc:description/>
  <dc:language>en-US</dc:language>
  <cp:lastModifiedBy>Viktor R. KLYMONCHUK</cp:lastModifiedBy>
  <dcterms:modified xsi:type="dcterms:W3CDTF">2003-07-07T10:05:41Z</dcterms:modified>
  <cp:revision>30</cp:revision>
  <dc:subject/>
  <dc:title>Social Sphere Assets and Transfer Maintenance  Donetsk, Ukraine</dc:title>
</cp:coreProperties>
</file>