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4EC-8089-4B99-B7E2-D19A6714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4F8-3E09-4CCA-976D-C1B3025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3A8-23A3-4E4A-8B97-3D9519A0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AD9-44B5-410F-9001-493544A4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FE88-CF82-40F0-A0FE-100B06CF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42A2-8722-4A91-83EB-21D7CB0A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1B31-D2F5-40F3-A1A7-0C987372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9BE7-F234-477B-984D-ED784F0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8EA1-EFF3-461B-A85A-33569CDF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1277-B129-4535-AAAE-90ACBB72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95F2-0172-408B-A61C-2131B94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69C-72A9-4AEC-8456-8F31B6C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4088-D422-4E75-B744-A0F417DD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F3B5-9267-44FB-8D91-DE4DBD8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A4A1-D42A-44E1-A529-07C77221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06A1-2B22-4D66-968C-04681DE3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EE1E-DDF9-487C-A75D-910BB79C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E3E-7C12-4256-A7AC-30C039B7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FCE-3AD9-4055-ABDA-512BAEE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619-4582-4604-BBFE-51D9F837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AF8-599C-4072-A4C2-A0FCAA69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82D-EC48-4ED9-A1D4-CA8CD04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64B-5EFA-4969-B8C0-7E7A756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FF7-E042-40FA-81F6-7DF4DE1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C1F5-40A4-4425-9237-30D96F536A31}" type="slidenum"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763-BD8E-4FB8-AD77-7AEB8F15E3E4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-104760"/>
            <a:ext cx="8978760" cy="6734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2560" y="1599840"/>
            <a:ext cx="846144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Restructuring and maintenance of social sphere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6754680" cy="111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24000" y="5091120"/>
            <a:ext cx="6791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leh Cherny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airman of the Board, public organisation “Agriculture, Rural Development and Legal U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048120"/>
            <a:ext cx="7238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33"/>
                </a:solidFill>
                <a:latin typeface="Arial Narrow"/>
              </a:rPr>
              <a:t>«</a:t>
            </a:r>
            <a:r>
              <a:rPr b="0" lang="en-US" sz="4000" spc="-1" strike="noStrike">
                <a:solidFill>
                  <a:srgbClr val="ff0033"/>
                </a:solidFill>
                <a:latin typeface="Arial Narrow"/>
              </a:rPr>
              <a:t>Access to and improv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Arial Narrow"/>
              </a:rPr>
              <a:t>of the quality of communal services</a:t>
            </a:r>
            <a:r>
              <a:rPr b="0" lang="ru-RU" sz="4000" spc="-1" strike="noStrike">
                <a:solidFill>
                  <a:srgbClr val="ff0033"/>
                </a:solidFill>
                <a:latin typeface="Arial Narrow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No access </a:t>
            </a:r>
            <a:br>
              <a:rPr sz="3200"/>
            </a:b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to communal serv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2614680"/>
            <a:ext cx="7086600" cy="2566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enterprise based on ownership of a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llage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erty in communal ownership of the village counci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23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rategy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Narrow"/>
              </a:rPr>
              <a:t>Development of communal enterpri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080" y="2666880"/>
            <a:ext cx="187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bc8"/>
                </a:solidFill>
                <a:latin typeface="Arial Narrow"/>
              </a:rPr>
              <a:t>Communal enterpr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8640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4864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847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bc8"/>
                </a:solidFill>
                <a:latin typeface="Arial Narrow"/>
              </a:rPr>
              <a:t>Founder</a:t>
            </a:r>
            <a:r>
              <a:rPr b="1" lang="en-US" sz="1800" spc="-1" strike="noStrike">
                <a:solidFill>
                  <a:srgbClr val="ffbbc8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bbc8"/>
                </a:solidFill>
                <a:latin typeface="Arial Narrow"/>
              </a:rPr>
              <a:t>and controlling ag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1102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bc8"/>
                </a:solidFill>
                <a:latin typeface="Arial Narrow"/>
              </a:rPr>
              <a:t>Foundation</a:t>
            </a:r>
            <a:r>
              <a:rPr b="1" lang="en-US" sz="1800" spc="-1" strike="noStrike">
                <a:solidFill>
                  <a:srgbClr val="ffbbc8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bbc8"/>
                </a:solidFill>
                <a:latin typeface="Arial Narrow"/>
              </a:rPr>
              <a:t>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types of activity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su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 of sewag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ehold service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 of funeral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ment and maintenance of rural community territor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dvantages of the communal enterprise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ccess to a broad range of servi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servation and maintenance of social sphere asse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ving of rural people’s time and resour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mple registration proced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tained control and right of disposal for municipal propert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ssibility of getting government subsidies and state budget financ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ssibility to create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rawbacks of the communal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nterprise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ability of the enterprise depends on material and technical base and the range of services provi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 regulates prices for part of services offered by the communal enter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rural people have little money and are not ready to pay 100% costs of services provi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78760" cy="12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e0027"/>
                </a:solidFill>
                <a:latin typeface="Arial"/>
              </a:rPr>
              <a:t>Replication:</a:t>
            </a: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 2 municipal enterprises created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e0027"/>
                </a:solidFill>
                <a:latin typeface="Arial"/>
              </a:rPr>
              <a:t>Result:</a:t>
            </a:r>
            <a:r>
              <a:rPr b="0" lang="en-US" sz="2600" spc="-1" strike="noStrike">
                <a:solidFill>
                  <a:srgbClr val="ffcc66"/>
                </a:solidFill>
                <a:latin typeface="Arial"/>
              </a:rPr>
              <a:t> Access to services created for 31% of the population at the level of rural community and for 17% of the population at the rayon level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234d"/>
                </a:solidFill>
                <a:uFillTx/>
                <a:latin typeface="Times New Roman"/>
              </a:rPr>
              <a:t>Practical less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fficient material and technical b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ruiting a proper mana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siness plan development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nsparency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ral people understand clearly mechanisms of operation and the very essence of the communal enterpri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2:36:13Z</dcterms:created>
  <dc:creator>SG</dc:creator>
  <dc:description/>
  <dc:language>en-US</dc:language>
  <cp:lastModifiedBy>Viktor R. KLYMONCHUK</cp:lastModifiedBy>
  <dcterms:modified xsi:type="dcterms:W3CDTF">2003-07-06T10:27:19Z</dcterms:modified>
  <cp:revision>41</cp:revision>
  <dc:subject/>
  <dc:title>Презентация PowerPoint</dc:title>
</cp:coreProperties>
</file>