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7E8-65C2-439D-AFB5-77DEC010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612-A357-4EE5-948C-8355E86C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8E23-4E7F-4314-A8CD-21E613AF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CC26-75C9-4924-B6F2-761B445C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8100-48F6-40D1-8207-C575FDE9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0DAD-2DF4-48A0-8D5A-5A3CC9C7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CB0B-0E40-4C1E-A909-18090D52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76FE-41C0-4891-B076-266FEAC6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7BEE-F970-40B8-9998-637BB413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7966-A197-4114-B5BB-33818734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2CB3-EE21-48A1-AD48-B43A92E4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D6E-786A-4EB5-B1D4-C40BEEBE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B6EA-FD96-4331-A99A-757F296D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BBC4-B45F-47B9-B265-6A700A92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19AB-06CE-4913-A140-3A41F3F9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5104-ADC6-4418-B1DE-224BCFC2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2D54-E417-48A1-B564-14C31885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68F-748F-45A1-B1C2-465B37D6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E19-D61D-4DF9-B3C1-E6BEC9A6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00A9-1820-4E06-AA85-D0D009C1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B9F-C20C-4134-8140-692FABA4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534D-2BE9-4CC7-A5A8-D34C3AF1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265-25A0-44B4-B3FC-EAB603BC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31B-4F57-438E-B354-E8C70B92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7DEC-4C03-4ADE-9A09-FFB06C6956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E4DA-3D30-4D94-BE67-0960C0886B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ole1" descr=""/>
          <p:cNvPicPr/>
          <p:nvPr/>
        </p:nvPicPr>
        <p:blipFill>
          <a:blip r:embed="rId1"/>
          <a:srcRect l="13199" t="0" r="0" b="0"/>
          <a:stretch/>
        </p:blipFill>
        <p:spPr>
          <a:xfrm>
            <a:off x="380880" y="0"/>
            <a:ext cx="8915400" cy="6548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2560" y="1599840"/>
            <a:ext cx="846144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5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Narrow"/>
              </a:rPr>
              <a:t>Создание рабочих мест и оказание услуг в сельской мест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6754680" cy="111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57240" y="509112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Arial Narrow"/>
              </a:rPr>
              <a:t>Николай Гриценк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Руководитель Программы по Киевской об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819520"/>
            <a:ext cx="7924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33"/>
                </a:solidFill>
                <a:latin typeface="Arial Narrow"/>
              </a:rPr>
              <a:t>«Обучение. МикроКредитование. Организация. Защита прав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335268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99"/>
                </a:solidFill>
                <a:latin typeface="Arial Narrow"/>
              </a:rPr>
              <a:t>Содействие развитию сельских сервисных центро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4991040"/>
            <a:ext cx="876312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991040"/>
            <a:ext cx="378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769000"/>
            <a:ext cx="9144000" cy="1066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68600"/>
            <a:ext cx="9144000" cy="1066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234d"/>
                </a:solidFill>
                <a:latin typeface="Arial"/>
              </a:rPr>
              <a:t>Низкий уровень занятости и неразвитая сфера услуг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280" y="1488960"/>
            <a:ext cx="228600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Инструмент 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І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uzzle2"/>
          <p:cNvSpPr/>
          <p:nvPr/>
        </p:nvSpPr>
        <p:spPr>
          <a:xfrm>
            <a:off x="7924680" y="228600"/>
            <a:ext cx="1040040" cy="64944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3200" spc="-1" strike="noStrike">
                <a:solidFill>
                  <a:srgbClr val="ffcc66"/>
                </a:solidFill>
                <a:latin typeface="Arial"/>
              </a:rPr>
              <a:t>Курс по развитию бизнеса </a:t>
            </a:r>
            <a:br>
              <a:rPr sz="3200"/>
            </a:br>
            <a:r>
              <a:rPr b="0" lang="ru-MD" sz="3200" spc="-1" strike="noStrike">
                <a:solidFill>
                  <a:srgbClr val="ffcc66"/>
                </a:solidFill>
                <a:latin typeface="Arial"/>
              </a:rPr>
              <a:t>в сельской местности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MD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2631960"/>
            <a:ext cx="2286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Инструмент 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ІІ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66"/>
                </a:solidFill>
                <a:latin typeface="Arial"/>
              </a:rPr>
              <a:t>Содействие развитию сельских сервисных центро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774960"/>
            <a:ext cx="2667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Инструмент 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ІІ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66"/>
                </a:solidFill>
                <a:latin typeface="Arial"/>
              </a:rPr>
              <a:t>Содейстие развитию народных ремесе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251460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65760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480060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4994280"/>
            <a:ext cx="2667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Инструмент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3200" spc="-1" strike="noStrike">
                <a:solidFill>
                  <a:srgbClr val="ffcc66"/>
                </a:solidFill>
                <a:latin typeface="Arial"/>
              </a:rPr>
              <a:t>Микрокредитиров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55627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5832360"/>
            <a:ext cx="2667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Инструмент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5638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66"/>
                </a:solidFill>
                <a:latin typeface="Arial"/>
              </a:rPr>
              <a:t>Создание кооперативов и </a:t>
            </a:r>
            <a:br>
              <a:rPr sz="3200"/>
            </a:br>
            <a:r>
              <a:rPr b="0" lang="uk-UA" sz="3200" spc="-1" strike="noStrike">
                <a:solidFill>
                  <a:srgbClr val="ffcc66"/>
                </a:solidFill>
                <a:latin typeface="Arial"/>
              </a:rPr>
              <a:t>комунальных предприят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облема:</a:t>
            </a:r>
            <a:r>
              <a:rPr b="0" lang="uk-UA" sz="3200" spc="-1" strike="noStrike">
                <a:solidFill>
                  <a:srgbClr val="ff234d"/>
                </a:solidFill>
                <a:latin typeface="Arial"/>
              </a:rPr>
              <a:t> Н</a:t>
            </a:r>
            <a:r>
              <a:rPr b="0" lang="ru-RU" sz="3200" spc="-1" strike="noStrike">
                <a:solidFill>
                  <a:srgbClr val="ff234d"/>
                </a:solidFill>
                <a:latin typeface="Arial"/>
              </a:rPr>
              <a:t>еразвитая сфера услуг </a:t>
            </a:r>
            <a:br>
              <a:rPr sz="3200"/>
            </a:br>
            <a:r>
              <a:rPr b="0" lang="ru-RU" sz="3200" spc="-1" strike="noStrike">
                <a:solidFill>
                  <a:srgbClr val="ff234d"/>
                </a:solidFill>
                <a:latin typeface="Arial"/>
              </a:rPr>
              <a:t>                   в сельской местности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7040" y="2590560"/>
            <a:ext cx="7086600" cy="327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Ремонт радио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,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телеапарату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Ремонт обув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Парикмахерские услуг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Производство сувернирной и другой продук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Торгов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Ветеринарное обслужи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Заготовка молока  и другие услуг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523880"/>
            <a:ext cx="2286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Стратег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c66"/>
                </a:solidFill>
                <a:latin typeface="Arial Narrow"/>
              </a:rPr>
              <a:t>Содействие развитию сельских сервисных центр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590920"/>
            <a:ext cx="22860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Услуг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867280"/>
            <a:ext cx="1981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Реплик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58672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Создано более 170 рабочих мест в 11 пилотных общин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234d"/>
                </a:solidFill>
                <a:latin typeface="Arial"/>
              </a:rPr>
              <a:t>Отсутствие средств производства и доступа к агротехническим услугам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7040" y="259056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Обработка почв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Уборка урож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Защита раст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Транспортные услуг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Поставка материально-технических ресур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Реализация с/х продук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228600" y="1523880"/>
            <a:ext cx="2286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Стратег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12952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 Narrow"/>
              </a:rPr>
              <a:t>Развитие</a:t>
            </a:r>
            <a:r>
              <a:rPr b="0" lang="ru-RU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cc66"/>
                </a:solidFill>
                <a:latin typeface="Arial Narrow"/>
              </a:rPr>
              <a:t>сельскохозяйств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 Narrow"/>
              </a:rPr>
              <a:t>обслуживающих кооператив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228600" y="2590920"/>
            <a:ext cx="22860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Услуг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76320" y="58672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Репликац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58672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Создано 10 кооперативов в пилотных общинах, обслуживается более 5000 че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6600" y="152280"/>
            <a:ext cx="2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2:36:13Z</dcterms:created>
  <dc:creator>SG</dc:creator>
  <dc:description/>
  <dc:language>en-US</dc:language>
  <cp:lastModifiedBy>Viktor R. KLYMONCHUK</cp:lastModifiedBy>
  <dcterms:modified xsi:type="dcterms:W3CDTF">2003-07-06T09:49:15Z</dcterms:modified>
  <cp:revision>23</cp:revision>
  <dc:subject/>
  <dc:title>Презентация PowerPoint</dc:title>
</cp:coreProperties>
</file>