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119-37F3-40D5-A96F-93C47CCB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A5B-E3C6-42B6-A2D2-B28BD684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244-B43D-437E-B7CB-35C9B8B7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DEC-E555-42D5-B5AD-9B18A0F9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E8E6-9C22-45D2-81F6-983D078A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25DB-F044-42CE-B3C1-5B9ACA27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6A78-60C4-4C9E-853B-24D2388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C064-63C9-43F3-80DF-9DD0F02C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94A4-54D4-498A-98F9-BF04F402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AF5-2C98-4887-AC2A-14135227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A92-A7EC-4F52-8346-9A8BACA0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E39-50EB-47F4-8A2F-3E7B810C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DFC4-475B-4D68-8882-600AD8B5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FFD6-C6A4-439D-83FD-2501240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F3F6-E331-48F4-9DFE-A02DC8B3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994D-69A9-4B71-9E2C-3F69B535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365A-F4CA-44FF-B274-6B97A530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83C-C741-4B13-B687-B82B822B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FA6-AA59-4B60-943E-D27E2EF3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93A-4AD1-4708-A0F7-7C3E952C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22E-B7F6-4671-AD55-70469A6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48A-0DFC-423D-AFBD-8248E5E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191-460B-4393-B448-DF5AE59D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C52-FB92-483B-93E6-80BCBF66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5585-7F8E-4B11-9729-9DE9F43F89F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2974-437D-4F74-AE8C-168EDCFF644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-104760"/>
            <a:ext cx="8978760" cy="6734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2560" y="1599840"/>
            <a:ext cx="846144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Narrow"/>
              </a:rPr>
              <a:t>РЕСТРУКТУРИЗАЦИЯ И СОДЕРЖАНИЕ СОЦИАЛЬНОЙ СФЕРЫ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6754680" cy="111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0720" y="5091120"/>
            <a:ext cx="7924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 Narrow"/>
              </a:rPr>
              <a:t>Олег Черны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лава правления общественной организации «Центр развития сельского хозяйства и правовой поддерж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048120"/>
            <a:ext cx="7238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33"/>
                </a:solidFill>
                <a:latin typeface="Arial Narrow"/>
              </a:rPr>
              <a:t>«Предоставление доступа и улучшения</a:t>
            </a:r>
            <a:br>
              <a:rPr sz="4000"/>
            </a:br>
            <a:r>
              <a:rPr b="0" lang="ru-RU" sz="4000" spc="-1" strike="noStrike">
                <a:solidFill>
                  <a:srgbClr val="ff0033"/>
                </a:solidFill>
                <a:latin typeface="Arial Narrow"/>
              </a:rPr>
              <a:t>качества коммунальных услуг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:</a:t>
            </a: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    Отсутствие доступа к </a:t>
            </a:r>
            <a:br>
              <a:rPr sz="3200"/>
            </a:b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                      коммунальным услугам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2614680"/>
            <a:ext cx="7086600" cy="2566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приятие, которое основывается на собственности определенной территориальной общ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льский сов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ущество, находящееся в коммунальной собственности сельского сове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23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Стратег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90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Развитие</a:t>
            </a:r>
            <a:r>
              <a:rPr b="0" lang="ru-RU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коммунальных предприят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080" y="2666880"/>
            <a:ext cx="187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bc8"/>
                </a:solidFill>
                <a:latin typeface="Arial Narrow"/>
              </a:rPr>
              <a:t>Коммунальное предприя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8640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4864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847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bc8"/>
                </a:solidFill>
                <a:latin typeface="Times New Roman"/>
              </a:rPr>
              <a:t>Учредитель и контролирующий орг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50292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bc8"/>
                </a:solidFill>
                <a:latin typeface="Times New Roman"/>
              </a:rPr>
              <a:t>Уставной фо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виды деятельности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доснаб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спечение работы канализационной сис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плоснабж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товые 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итуальные услуг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агоустройство территории сельской общи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еимущества коммунального предприятия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доступа к широкому спектру услуг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хранение и поддержание объектов социальной сфе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ономия времени и средств сельских жите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ота системы регистрац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хране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ельсоветом контроля и права распоряжения имуществ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ь получения государственных дотаций и бюджетного финанс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ь создания филиа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едостатки коммунального предприятия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знеспособность предприятия зависит от материально-технической базы и широкого спектра услуг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 цен на часть услу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казываемых коммунальным предприят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латежеспособность и психологическая неготовность сельского населения оплачивать 100% стоимости оказанных услу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234d"/>
                </a:solidFill>
                <a:latin typeface="Arial"/>
              </a:rPr>
              <a:t>Репликация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ействуют 2 и создаются 2 новых коммунальных предприятия в пилотных общинах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234d"/>
                </a:solidFill>
                <a:latin typeface="Arial"/>
              </a:rPr>
              <a:t>Результат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оказываются услуг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31% жителей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       на уровне села и 17% на уровне района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234d"/>
                </a:solidFill>
                <a:uFillTx/>
                <a:latin typeface="Times New Roman"/>
              </a:rPr>
              <a:t>Составляющие успех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аточная материально-техническая б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бор руководител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аботка бизнес-пла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зрачность, понятность механизмов деятельности и самой сути коммунального предприятия для сельского населен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4382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2:36:13Z</dcterms:created>
  <dc:creator>SG</dc:creator>
  <dc:description/>
  <dc:language>en-US</dc:language>
  <cp:lastModifiedBy>Viktor R. KLYMONCHUK</cp:lastModifiedBy>
  <dcterms:modified xsi:type="dcterms:W3CDTF">2003-07-06T09:39:39Z</dcterms:modified>
  <cp:revision>31</cp:revision>
  <dc:subject/>
  <dc:title>Презентация PowerPoint</dc:title>
</cp:coreProperties>
</file>