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FC5D-34BC-4DF1-8E2D-C3AEAD43E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8B2-57D6-48D5-BF52-DF0B9292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AB2D-4A08-4E53-BA49-41CCC755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F3C3-293A-444E-941F-A0AC527F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19E4-CE30-435C-B4D2-C0E78D66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F1AF-5A69-4F03-998D-BA87F543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E68-F7AF-4A46-9297-BB35E6F2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434-3071-490B-9B8A-BDFC8569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5116-9657-4ACF-8F10-BDB324FB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C68A-0D26-44C3-A64B-7C43A3C1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E61-409F-4B36-AD6E-BA024158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512-F5D3-4DB3-9C4D-E06AC23A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E2E3-5818-4D04-89EA-34B35E8D0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864216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ffff00"/>
                </a:solidFill>
                <a:latin typeface="Arial"/>
              </a:rPr>
              <a:t>Чарльз Дафф</a:t>
            </a:r>
            <a:br>
              <a:rPr sz="4500"/>
            </a:br>
            <a:r>
              <a:rPr b="1" lang="ru-RU" sz="4500" spc="-1" strike="noStrike">
                <a:solidFill>
                  <a:srgbClr val="ffff00"/>
                </a:solidFill>
                <a:latin typeface="Arial"/>
              </a:rPr>
              <a:t>Менеджер проекта</a:t>
            </a:r>
            <a:br>
              <a:rPr sz="4500"/>
            </a:br>
            <a:r>
              <a:rPr b="1" lang="ru-RU" sz="4500" spc="-1" strike="noStrike">
                <a:solidFill>
                  <a:srgbClr val="ffff00"/>
                </a:solidFill>
                <a:latin typeface="Arial"/>
              </a:rPr>
              <a:t>«Передача и содержание объектов социальной сферы»</a:t>
            </a:r>
            <a:br>
              <a:rPr sz="4500"/>
            </a:br>
            <a:r>
              <a:rPr b="1" lang="ru-RU" sz="45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SATM)</a:t>
            </a:r>
            <a:br>
              <a:rPr sz="4500"/>
            </a:br>
            <a:r>
              <a:rPr b="1" lang="ru-RU" sz="4500" spc="-1" strike="noStrike">
                <a:solidFill>
                  <a:srgbClr val="ffff00"/>
                </a:solidFill>
                <a:latin typeface="Arial"/>
              </a:rPr>
              <a:t>Донецк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ак справиться с растущими требования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67640" indent="-467640"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результате процесса передачи у исполкомов оказывается больше объектов социальной сферы, чем им необходим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7640" indent="-467640"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Органы местного самоуправления не всегда обладают управленческими или административными навыками для эффективного предоставления этих услу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7640" indent="-467640"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Ключом для решения этой проблемы является рассмотрение альтернативных путей предоставления услуг с помощью экстернализации либо собственности, либо предоставления определенных услу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ак справиться с растущими требования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Альтернативы включают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Прямое владение и упр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Передача контракта на предоставление услу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Полное отторжение услуги и связанных с ней объек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ак справиться с растущими требования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13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67640" indent="-467640"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Проект «Передача и содержание объектов социальной сферы» помогает органам местного самоуправления оценить различные варианты предоставления услуг и реализовать на практике выбранные подх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оллективная или индивидуальная оплата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?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48200" indent="-448200"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Программа рассматривает мероприятия, которые проводятся органами местного самоуправления в настоящее врем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8200" indent="-448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Органы местного самоуправления рассматривают, кто должен  </a:t>
            </a:r>
            <a:r>
              <a:rPr b="0" i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предоставлять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эти услуги в будущем и, возможно, кто будет их </a:t>
            </a:r>
            <a:r>
              <a:rPr b="0" i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оплачив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8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8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8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оллективная или индивидуальная оплата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?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755640" y="1700280"/>
            <a:ext cx="7416360" cy="3746520"/>
            <a:chOff x="755640" y="1700280"/>
            <a:chExt cx="7416360" cy="3746520"/>
          </a:xfrm>
        </p:grpSpPr>
        <p:grpSp>
          <p:nvGrpSpPr>
            <p:cNvPr id="124" name=""/>
            <p:cNvGrpSpPr/>
            <p:nvPr/>
          </p:nvGrpSpPr>
          <p:grpSpPr>
            <a:xfrm>
              <a:off x="760680" y="1704960"/>
              <a:ext cx="7405560" cy="3736800"/>
              <a:chOff x="760680" y="1704960"/>
              <a:chExt cx="7405560" cy="373680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760680" y="1704960"/>
                <a:ext cx="2468160" cy="1006560"/>
                <a:chOff x="760680" y="1704960"/>
                <a:chExt cx="2468160" cy="10065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847800" y="1704960"/>
                  <a:ext cx="2294280" cy="10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60680" y="1704960"/>
                  <a:ext cx="2468160" cy="100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229200" y="1704960"/>
                <a:ext cx="2468520" cy="1006560"/>
                <a:chOff x="3229200" y="1704960"/>
                <a:chExt cx="2468520" cy="10065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229200" y="1704960"/>
                  <a:ext cx="2468520" cy="1006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" name=""/>
                <p:cNvGrpSpPr/>
                <p:nvPr/>
              </p:nvGrpSpPr>
              <p:grpSpPr>
                <a:xfrm>
                  <a:off x="3229200" y="1704960"/>
                  <a:ext cx="2468160" cy="1006560"/>
                  <a:chOff x="3229200" y="1704960"/>
                  <a:chExt cx="2468160" cy="100656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3316320" y="1704960"/>
                    <a:ext cx="2293920" cy="100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Оплачивается государством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3229200" y="1704960"/>
                    <a:ext cx="2468160" cy="1006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3" name=""/>
              <p:cNvGrpSpPr/>
              <p:nvPr/>
            </p:nvGrpSpPr>
            <p:grpSpPr>
              <a:xfrm>
                <a:off x="5698080" y="1704960"/>
                <a:ext cx="2468160" cy="1006560"/>
                <a:chOff x="5698080" y="1704960"/>
                <a:chExt cx="2468160" cy="10065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5698080" y="1704960"/>
                  <a:ext cx="2468160" cy="1006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" name=""/>
                <p:cNvGrpSpPr/>
                <p:nvPr/>
              </p:nvGrpSpPr>
              <p:grpSpPr>
                <a:xfrm>
                  <a:off x="5698080" y="1704960"/>
                  <a:ext cx="2467800" cy="1006560"/>
                  <a:chOff x="5698080" y="1704960"/>
                  <a:chExt cx="2467800" cy="100656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5785200" y="1704960"/>
                    <a:ext cx="2293920" cy="100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Оплачивается потребителем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698080" y="1704960"/>
                    <a:ext cx="2467800" cy="1006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8" name=""/>
              <p:cNvGrpSpPr/>
              <p:nvPr/>
            </p:nvGrpSpPr>
            <p:grpSpPr>
              <a:xfrm>
                <a:off x="760680" y="2711520"/>
                <a:ext cx="2468160" cy="1280880"/>
                <a:chOff x="760680" y="2711520"/>
                <a:chExt cx="2468160" cy="12808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60680" y="2711520"/>
                  <a:ext cx="2468160" cy="128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" name=""/>
                <p:cNvGrpSpPr/>
                <p:nvPr/>
              </p:nvGrpSpPr>
              <p:grpSpPr>
                <a:xfrm>
                  <a:off x="760680" y="2711520"/>
                  <a:ext cx="2467800" cy="1280880"/>
                  <a:chOff x="760680" y="2711520"/>
                  <a:chExt cx="2467800" cy="12808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847800" y="2711520"/>
                    <a:ext cx="2293920" cy="1280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Услуги предоставляются государственным сектором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760680" y="2711520"/>
                    <a:ext cx="2467800" cy="1280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3" name=""/>
              <p:cNvGrpSpPr/>
              <p:nvPr/>
            </p:nvGrpSpPr>
            <p:grpSpPr>
              <a:xfrm>
                <a:off x="3229200" y="2711520"/>
                <a:ext cx="2468520" cy="1280880"/>
                <a:chOff x="3229200" y="2711520"/>
                <a:chExt cx="2468520" cy="12808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316320" y="2711520"/>
                  <a:ext cx="229392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Школ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229200" y="2711520"/>
                  <a:ext cx="2468520" cy="12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5698080" y="2711520"/>
                <a:ext cx="2468160" cy="1280880"/>
                <a:chOff x="5698080" y="2711520"/>
                <a:chExt cx="2468160" cy="12808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785200" y="2711520"/>
                  <a:ext cx="229428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Автобус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698080" y="2711520"/>
                  <a:ext cx="2468160" cy="12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760680" y="3992400"/>
                <a:ext cx="2468160" cy="1449360"/>
                <a:chOff x="760680" y="3992400"/>
                <a:chExt cx="2468160" cy="14493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60680" y="3992400"/>
                  <a:ext cx="2468160" cy="1449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1" name=""/>
                <p:cNvGrpSpPr/>
                <p:nvPr/>
              </p:nvGrpSpPr>
              <p:grpSpPr>
                <a:xfrm>
                  <a:off x="760680" y="3992400"/>
                  <a:ext cx="2467800" cy="1449360"/>
                  <a:chOff x="760680" y="3992400"/>
                  <a:chExt cx="2467800" cy="144936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>
                    <a:off x="847800" y="3992400"/>
                    <a:ext cx="2293920" cy="144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Услуги предоставляются частным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сектором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760680" y="3992400"/>
                    <a:ext cx="2467800" cy="14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4" name=""/>
              <p:cNvGrpSpPr/>
              <p:nvPr/>
            </p:nvGrpSpPr>
            <p:grpSpPr>
              <a:xfrm>
                <a:off x="3229200" y="3992400"/>
                <a:ext cx="2468520" cy="1449360"/>
                <a:chOff x="3229200" y="3992400"/>
                <a:chExt cx="2468520" cy="14493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316320" y="3992400"/>
                  <a:ext cx="2293920" cy="14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Канцелярские товар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229200" y="3992400"/>
                  <a:ext cx="2468520" cy="14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698080" y="3992400"/>
                <a:ext cx="2468160" cy="1449360"/>
                <a:chOff x="5698080" y="3992400"/>
                <a:chExt cx="2468160" cy="14493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785200" y="3992400"/>
                  <a:ext cx="2294280" cy="14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Частный сектор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698080" y="3992400"/>
                  <a:ext cx="2468160" cy="14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" name=""/>
            <p:cNvSpPr/>
            <p:nvPr/>
          </p:nvSpPr>
          <p:spPr>
            <a:xfrm>
              <a:off x="755640" y="1700280"/>
              <a:ext cx="7416360" cy="3746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латит государство или потребитель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Таким образом проблема не в том, должны или не должны органы местного самоуправления экстернализировать предоставление услуги, а скорее, где должна проходить граница между «оказанием» услуги и «покупкой» услуг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бязательные или необязательные услуги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Необходимость разграничивать между обязательными и необязательными услуг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Большая свобода в выборе необязательных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Хотя во многих случаях  у властей нет выб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бязательные или необязательные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9" name=""/>
          <p:cNvGrpSpPr/>
          <p:nvPr/>
        </p:nvGrpSpPr>
        <p:grpSpPr>
          <a:xfrm>
            <a:off x="468360" y="1484280"/>
            <a:ext cx="7848360" cy="3890520"/>
            <a:chOff x="468360" y="1484280"/>
            <a:chExt cx="7848360" cy="3890520"/>
          </a:xfrm>
        </p:grpSpPr>
        <p:grpSp>
          <p:nvGrpSpPr>
            <p:cNvPr id="180" name=""/>
            <p:cNvGrpSpPr/>
            <p:nvPr/>
          </p:nvGrpSpPr>
          <p:grpSpPr>
            <a:xfrm>
              <a:off x="474480" y="1488960"/>
              <a:ext cx="7834680" cy="3879720"/>
              <a:chOff x="474480" y="1488960"/>
              <a:chExt cx="7834680" cy="387972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474480" y="1488960"/>
                <a:ext cx="2611080" cy="1044720"/>
                <a:chOff x="474480" y="1488960"/>
                <a:chExt cx="2611080" cy="10447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566640" y="1488960"/>
                  <a:ext cx="2427120" cy="10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74480" y="1488960"/>
                  <a:ext cx="2611080" cy="104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3085920" y="1488960"/>
                <a:ext cx="2611440" cy="1044720"/>
                <a:chOff x="3085920" y="1488960"/>
                <a:chExt cx="2611440" cy="10447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085920" y="1488960"/>
                  <a:ext cx="2611440" cy="1044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6" name=""/>
                <p:cNvGrpSpPr/>
                <p:nvPr/>
              </p:nvGrpSpPr>
              <p:grpSpPr>
                <a:xfrm>
                  <a:off x="3085920" y="1488960"/>
                  <a:ext cx="2611080" cy="1044360"/>
                  <a:chOff x="3085920" y="1488960"/>
                  <a:chExt cx="2611080" cy="10443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3178080" y="1488960"/>
                    <a:ext cx="2426400" cy="104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Необязательные услуг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3085920" y="1488960"/>
                    <a:ext cx="2611080" cy="1044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9" name=""/>
              <p:cNvGrpSpPr/>
              <p:nvPr/>
            </p:nvGrpSpPr>
            <p:grpSpPr>
              <a:xfrm>
                <a:off x="5698080" y="1488960"/>
                <a:ext cx="2611080" cy="1044720"/>
                <a:chOff x="5698080" y="1488960"/>
                <a:chExt cx="2611080" cy="10447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698080" y="1488960"/>
                  <a:ext cx="2611080" cy="1044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" name=""/>
                <p:cNvGrpSpPr/>
                <p:nvPr/>
              </p:nvGrpSpPr>
              <p:grpSpPr>
                <a:xfrm>
                  <a:off x="5698080" y="1488960"/>
                  <a:ext cx="2610720" cy="1044360"/>
                  <a:chOff x="5698080" y="1488960"/>
                  <a:chExt cx="2610720" cy="10443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5790240" y="1488960"/>
                    <a:ext cx="2426760" cy="104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Обязательные услуг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5698080" y="1488960"/>
                    <a:ext cx="2610720" cy="1044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4" name=""/>
              <p:cNvGrpSpPr/>
              <p:nvPr/>
            </p:nvGrpSpPr>
            <p:grpSpPr>
              <a:xfrm>
                <a:off x="474480" y="2534040"/>
                <a:ext cx="2611080" cy="1329480"/>
                <a:chOff x="474480" y="2534040"/>
                <a:chExt cx="2611080" cy="13294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74480" y="2534040"/>
                  <a:ext cx="2611080" cy="1329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74480" y="2534040"/>
                  <a:ext cx="2610720" cy="1329120"/>
                  <a:chOff x="474480" y="2534040"/>
                  <a:chExt cx="2610720" cy="132912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566640" y="2534040"/>
                    <a:ext cx="2426760" cy="1329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Услуги предоставляются государственным сектором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74480" y="2534040"/>
                    <a:ext cx="2610720" cy="1329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3085920" y="2534040"/>
                <a:ext cx="2611440" cy="1329480"/>
                <a:chOff x="3085920" y="2534040"/>
                <a:chExt cx="2611440" cy="13294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178080" y="2534040"/>
                  <a:ext cx="2426760" cy="132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Автобус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085920" y="2534040"/>
                  <a:ext cx="2611440" cy="132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5698080" y="2534040"/>
                <a:ext cx="2611080" cy="1329480"/>
                <a:chOff x="5698080" y="2534040"/>
                <a:chExt cx="2611080" cy="13294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790240" y="2534040"/>
                  <a:ext cx="2427120" cy="132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Школ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698080" y="2534040"/>
                  <a:ext cx="2611080" cy="132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474480" y="3864240"/>
                <a:ext cx="2611080" cy="1504440"/>
                <a:chOff x="474480" y="3864240"/>
                <a:chExt cx="2611080" cy="15044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74480" y="3864240"/>
                  <a:ext cx="2611080" cy="1504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474480" y="3864240"/>
                  <a:ext cx="2610720" cy="1504080"/>
                  <a:chOff x="474480" y="3864240"/>
                  <a:chExt cx="2610720" cy="150408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566640" y="3864240"/>
                    <a:ext cx="2426760" cy="1504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Услуги предоставляются частным сектором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474480" y="3864240"/>
                    <a:ext cx="2610720" cy="1504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0" name=""/>
              <p:cNvGrpSpPr/>
              <p:nvPr/>
            </p:nvGrpSpPr>
            <p:grpSpPr>
              <a:xfrm>
                <a:off x="3085920" y="3864240"/>
                <a:ext cx="2611440" cy="1504440"/>
                <a:chOff x="3085920" y="3864240"/>
                <a:chExt cx="2611440" cy="15044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178080" y="3864240"/>
                  <a:ext cx="2426760" cy="150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Стоянка машин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085920" y="3864240"/>
                  <a:ext cx="2611440" cy="150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5698080" y="3864240"/>
                <a:ext cx="2611080" cy="1504440"/>
                <a:chOff x="5698080" y="3864240"/>
                <a:chExt cx="2611080" cy="15044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790240" y="3864240"/>
                  <a:ext cx="2427120" cy="150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Частные дома для престарелы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698080" y="3864240"/>
                  <a:ext cx="2611080" cy="150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6" name=""/>
            <p:cNvSpPr/>
            <p:nvPr/>
          </p:nvSpPr>
          <p:spPr>
            <a:xfrm>
              <a:off x="468360" y="1484280"/>
              <a:ext cx="7848360" cy="3890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ередача контракта на предоставление услуги или приватизация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?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72680" indent="-472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Необходимость проводить разграничение между приватизацией и передачей контракта на предоставление услу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2680" indent="-472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Приватизация влечет потерю участия в предоставлении и оплате услу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ередача контракта на предоставление услуги или приватизация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82400" indent="-482400"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Если органы местного самоуправления сохраняют за собой обязательство предоставлять услугу или платить за нее, тогда процесс  перехода к форме предоставления услуги извне, называется передачей контракта на предоставление услуги третьему лиц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400" indent="-482400"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Если приватизация относится только к типу процесса, нам необходимо новое слово, которое охватывало бы оба процесса - экстернал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Цель проекта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Консультировать и оказывать поддержку в разработке и распространении моделей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содержания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и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передачи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объектов социальной сф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ередача контракта на предоставление услуги или приватизация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"/>
          <p:cNvGrpSpPr/>
          <p:nvPr/>
        </p:nvGrpSpPr>
        <p:grpSpPr>
          <a:xfrm>
            <a:off x="395280" y="1628640"/>
            <a:ext cx="8064000" cy="3746520"/>
            <a:chOff x="395280" y="1628640"/>
            <a:chExt cx="8064000" cy="3746520"/>
          </a:xfrm>
        </p:grpSpPr>
        <p:grpSp>
          <p:nvGrpSpPr>
            <p:cNvPr id="235" name=""/>
            <p:cNvGrpSpPr/>
            <p:nvPr/>
          </p:nvGrpSpPr>
          <p:grpSpPr>
            <a:xfrm>
              <a:off x="401760" y="1633320"/>
              <a:ext cx="8049600" cy="3736800"/>
              <a:chOff x="401760" y="1633320"/>
              <a:chExt cx="8049600" cy="37368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401760" y="1633320"/>
                <a:ext cx="2682720" cy="1006560"/>
                <a:chOff x="401760" y="1633320"/>
                <a:chExt cx="2682720" cy="10065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96440" y="1633320"/>
                  <a:ext cx="2493720" cy="10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01760" y="1633320"/>
                  <a:ext cx="2682720" cy="100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3084840" y="1633320"/>
                <a:ext cx="2683440" cy="1006560"/>
                <a:chOff x="3084840" y="1633320"/>
                <a:chExt cx="2683440" cy="10065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3084840" y="1633320"/>
                  <a:ext cx="2683440" cy="1006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1" name=""/>
                <p:cNvGrpSpPr/>
                <p:nvPr/>
              </p:nvGrpSpPr>
              <p:grpSpPr>
                <a:xfrm>
                  <a:off x="3084840" y="1633320"/>
                  <a:ext cx="2683080" cy="1006560"/>
                  <a:chOff x="3084840" y="1633320"/>
                  <a:chExt cx="2683080" cy="100656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3179520" y="1633320"/>
                    <a:ext cx="2493360" cy="100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Оплачивается государством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3084840" y="1633320"/>
                    <a:ext cx="2683080" cy="1006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4" name=""/>
              <p:cNvGrpSpPr/>
              <p:nvPr/>
            </p:nvGrpSpPr>
            <p:grpSpPr>
              <a:xfrm>
                <a:off x="5768640" y="1633320"/>
                <a:ext cx="2682720" cy="1006560"/>
                <a:chOff x="5768640" y="1633320"/>
                <a:chExt cx="2682720" cy="10065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768640" y="1633320"/>
                  <a:ext cx="2682720" cy="1006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6" name=""/>
                <p:cNvGrpSpPr/>
                <p:nvPr/>
              </p:nvGrpSpPr>
              <p:grpSpPr>
                <a:xfrm>
                  <a:off x="5768640" y="1633320"/>
                  <a:ext cx="2682360" cy="1006560"/>
                  <a:chOff x="5768640" y="1633320"/>
                  <a:chExt cx="2682360" cy="100656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5863320" y="1633320"/>
                    <a:ext cx="2493360" cy="100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Оплачивается потребителем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5768640" y="1633320"/>
                    <a:ext cx="2682360" cy="1006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9" name=""/>
              <p:cNvGrpSpPr/>
              <p:nvPr/>
            </p:nvGrpSpPr>
            <p:grpSpPr>
              <a:xfrm>
                <a:off x="401760" y="2639880"/>
                <a:ext cx="2682720" cy="1280880"/>
                <a:chOff x="401760" y="2639880"/>
                <a:chExt cx="2682720" cy="12808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01760" y="2639880"/>
                  <a:ext cx="2682720" cy="128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1" name=""/>
                <p:cNvGrpSpPr/>
                <p:nvPr/>
              </p:nvGrpSpPr>
              <p:grpSpPr>
                <a:xfrm>
                  <a:off x="401760" y="2639880"/>
                  <a:ext cx="2682360" cy="1280880"/>
                  <a:chOff x="401760" y="2639880"/>
                  <a:chExt cx="2682360" cy="128088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496440" y="2639880"/>
                    <a:ext cx="2493360" cy="1280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Услуги предоставляются</a:t>
                    </a:r>
                    <a:r>
                      <a:rPr b="1" lang="ru-RU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государственным сектором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01760" y="2639880"/>
                    <a:ext cx="2682360" cy="1280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4" name=""/>
              <p:cNvGrpSpPr/>
              <p:nvPr/>
            </p:nvGrpSpPr>
            <p:grpSpPr>
              <a:xfrm>
                <a:off x="3084840" y="2639880"/>
                <a:ext cx="2683440" cy="1280880"/>
                <a:chOff x="3084840" y="2639880"/>
                <a:chExt cx="2683440" cy="12808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179520" y="2639880"/>
                  <a:ext cx="249372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084840" y="2639880"/>
                  <a:ext cx="2683440" cy="12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5768640" y="2639880"/>
                <a:ext cx="2682720" cy="1280880"/>
                <a:chOff x="5768640" y="2639880"/>
                <a:chExt cx="2682720" cy="12808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863320" y="2639880"/>
                  <a:ext cx="249372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768640" y="2639880"/>
                  <a:ext cx="2682720" cy="12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401760" y="3920760"/>
                <a:ext cx="2682720" cy="1449360"/>
                <a:chOff x="401760" y="3920760"/>
                <a:chExt cx="2682720" cy="14493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401760" y="3920760"/>
                  <a:ext cx="2682720" cy="1449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2" name=""/>
                <p:cNvGrpSpPr/>
                <p:nvPr/>
              </p:nvGrpSpPr>
              <p:grpSpPr>
                <a:xfrm>
                  <a:off x="401760" y="3920760"/>
                  <a:ext cx="2682360" cy="1449360"/>
                  <a:chOff x="401760" y="3920760"/>
                  <a:chExt cx="2682360" cy="144936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496440" y="3920760"/>
                    <a:ext cx="2493360" cy="144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Услуги предоставляются частным сектором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401760" y="3920760"/>
                    <a:ext cx="2682360" cy="14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5" name=""/>
              <p:cNvGrpSpPr/>
              <p:nvPr/>
            </p:nvGrpSpPr>
            <p:grpSpPr>
              <a:xfrm>
                <a:off x="3084840" y="3920760"/>
                <a:ext cx="2683440" cy="1449360"/>
                <a:chOff x="3084840" y="3920760"/>
                <a:chExt cx="2683440" cy="14493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179520" y="3920760"/>
                  <a:ext cx="2493720" cy="14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ffffff"/>
                      </a:solidFill>
                      <a:latin typeface="Arial"/>
                    </a:rPr>
                    <a:t>Передача контракта на предоставление услуг третьему лицу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084840" y="3920760"/>
                  <a:ext cx="2683440" cy="14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768640" y="3920760"/>
                <a:ext cx="2682720" cy="1449360"/>
                <a:chOff x="5768640" y="3920760"/>
                <a:chExt cx="2682720" cy="14493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863320" y="3920760"/>
                  <a:ext cx="2493720" cy="14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Приватизация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768640" y="3920760"/>
                  <a:ext cx="2682720" cy="14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1" name=""/>
            <p:cNvSpPr/>
            <p:nvPr/>
          </p:nvSpPr>
          <p:spPr>
            <a:xfrm>
              <a:off x="395280" y="1628640"/>
              <a:ext cx="8064000" cy="3746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267080" y="2971800"/>
            <a:ext cx="0" cy="571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2971800"/>
            <a:ext cx="0" cy="571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ыбор соответствующей формы предоставления услуги – пособие по передаче и содержанию объектов социальной сф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20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Процесс рассмотрения вариантов, основных проблем и реализация альтернативной формы предоставления услуг является предметом пособия по передаче и содержанию объектов социальной сфе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2960" indent="-462960"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Пособие разрабатывается для депутатов местных советов и служащих органов местного самоуправления в Украине, которые хотят оценить варианты наиболее оптимального предоставления услуг органами местного самоуправления в будущ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ыбор соответствующей формы предоставления услуги – пособие по передаче и содержанию объектов социальной сф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1280" y="2204640"/>
            <a:ext cx="8207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53240" indent="-453240">
              <a:lnSpc>
                <a:spcPct val="8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нем представлена система рассмотрения вариантов предоставления услуг в будущ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Оно включает три упражнения по принятию решений, которые призваны помочь органам местного самоуправления в принятии решений относительно политики в социальной сфе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Не отдает предпочтение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одной определенной модели предоставления услуг, а направлено на прояснение процесса принятия реш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Что дальше: передача и содержание объектов социальной сферы в Украине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?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72680" indent="-472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Изменение в способах предоставления социальных услуг кажется бесспорн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2680" indent="-4726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Поэтому проблема не  в том, будут ли изменения иметь место, а как эти изменения будут претворяться в жиз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ини-проекты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SAT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4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Жилье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Ассоциация кондоминиум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Отопление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Здравоохра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Услуги сообщества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Тран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Уход за пожилыми людьми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Центр социального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попечения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Сбор и вывоз бытовых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отходов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тратегическое план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62960" indent="-462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Комплексное рассмотрение вопросов предоставления социальных услу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2960" indent="-462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Разработка реалистичного плана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2960" indent="-462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Сопоставление плана и бюджета и распределение обязаннос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роцесс передачи информа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Проактивно, а не реактив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Управление ожидани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Определение реалистичных целей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8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роцесс передачи информа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Прозрачная поли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Информационный центр сообщ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Карточки учета общественного м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Использование средств массовой информ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Хорошие новости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Растущее понимание необходимости платить взносы или нало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Желание платить там, где выгода очевид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Хорошие новости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Осознание того, что предоставление услуг государственным сектором не является единственным вариантом – яркие прим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Существование инфраструктуры  и наличие технических навыков для поддержки большинства услу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6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ведения, полученные в результате исследования процессов передачи и содержания объектов социальной сфе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135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Большинство объектов социальной сферы предприятий уже было передано или находится в процесс переда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После передачи увеличились расходы исполкомов, принявших объекты социальной сферы на свой бала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Качество платных услуг улучша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лохие нов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Очень плохое состояние технической инфраструк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Многие люди не в состоянии плат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Тарифы, установленные государством, слишком низкие, чтобы возмещать издерж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2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лохие нов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Инертное отношение государственного сектора, препятствующее альтернативным подход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Законодательство тормозит изме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Жажда измене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Самым большим препятствием на пути изменений является отсутствие желания менять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Там, где отчаяние заставило думать радикально, результаты поразитель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4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Жажда измене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Улучшение предоставления социальных услуг в равной степени касается как видения, так и дене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Пособие написано для тех, кто хочет попытаться и достичь успехов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0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ывод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Экстернализация должна сыграть значительную ро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Заметное улучшение означает использование и распростран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ывод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Необходимость продолжения правовой рефор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Определить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SAs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и оказывать содействие альтернативным вариантам предоставления услу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2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Дополнительная информа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www.ssatm.org.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www.snezhnoye.dn.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8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ведения, полученные в результате исследования процессов передачи и содержания объектов социальной сфе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Качество бесплатных услуг,  остается прежним или ухудша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Имеют место лишь ограниченные попытки экспериментировать с альтернативными формами предоставления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ередача и содержание или содержание и передача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62960" indent="-46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Деятельность должна быть направлена на содержание и поддержание устойчивости социальных услуг, а не на процесс передачи объектов от предприятий исполком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2960" indent="-46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Основной причиной, по которой исполкомы испытывают трудности с содержанием жизнеспособных социальных услуг, является недостаточный до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ередача и содержание или содержание и передача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Хотя немедленные решения отсутствуют, существует практика, опираясь на которую, государственные организации могут повысить эффективность предоставления услу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Эта практика является основным фокусом про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Один из вариантов включает передачу услуги альтернативной организации, занимающейся предоставлением услу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роцесс реформирования государственного секто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13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14000" indent="-414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Уменьшение роли государственного сектора в прямом предоставлении коммунальных услуг началось в Великобритании в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1980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х и неуклонно распространялось по всей Европ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000" indent="-414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Вначале акцент делался на приватизацию. Но затем процесс продолжился путем передачи контрактов на предоставление коммунальных услуг из государственного сектора и развития партнерства между государственным  и частным сектор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роцесс реформирования государственного секто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8131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Хотя у процесса есть свои критики – лишь немногие поставят под сомнение экономию средств и повышение эффектив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В Украине процесс находится на совершенно иной стадии, в фокусе рыночной экономики находится уменьшение роли государства во владении и управлении коммерческими предприятиям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в результате чего объекты социальной сферы передаются на баланс исполком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роцесс реформирования государственного секто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77360" indent="-47736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Когда это происходит, больше внимания уделяется предоставлению таких услуг государственным сектором, затрагивая вопросы формы собственности и предоставления коммунальных услуг в общем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7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12:55:46Z</dcterms:created>
  <dc:creator>Enterplan</dc:creator>
  <dc:description/>
  <dc:language>en-US</dc:language>
  <cp:lastModifiedBy>Viktor R. KLYMONCHUK</cp:lastModifiedBy>
  <dcterms:modified xsi:type="dcterms:W3CDTF">2003-07-07T10:07:28Z</dcterms:modified>
  <cp:revision>32</cp:revision>
  <dc:subject/>
  <dc:title>Social Sphere Assets and Transfer Maintenance  Donetsk, Ukraine</dc:title>
</cp:coreProperties>
</file>