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95B-573B-46BB-A19B-7962C6D5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C38-52F1-4FFC-8784-60547CA5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CC3-7375-4DBB-A5A8-8B222591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5A1-19D4-4806-AD3E-3C2946A3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A67A-A7DE-401C-9CB6-93511FCC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2B88-D9C6-43E3-AC50-EDC3C585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C8E2-405D-483C-A08A-28520BD7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7A4F-5AB7-4DD0-AA51-4FD647B3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62F8-C078-4DFB-A506-F592F61F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77B7-58ED-4D4C-80CF-6D171F96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F02E-451A-4305-80A1-CDF089B1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29E-A360-4CD9-8D52-75C393AE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2257-73B1-45D8-ADB9-B9A5F11B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1D9E-8B0C-4D1D-8C8E-C77EB551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A40F-C27A-492A-BDA3-8D0C4601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4D1E-085E-4E06-B84C-BBCBA9FA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270D-82FD-4C08-B5A8-8D11D3EB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A7D-DACE-445C-9AE8-347539D3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FD3-6E0E-409B-BF58-274F4852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A19-A1CB-4693-A131-FA59B26C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F64-F940-4BDE-BBF7-C3E56116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CC4-2324-443A-BE40-27940059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A3D-15EC-4A24-8209-510A6A96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D57-C740-41B7-89C2-E73F83D0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BD28-473C-45A9-A0D8-77BA90BFEA53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381E-5A40-4236-B134-876241902C62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1676160"/>
            <a:ext cx="838188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Tahoma"/>
              </a:rPr>
              <a:t>Ukraine Rural Livelihoods Programme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14400" y="4495680"/>
            <a:ext cx="7238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evhen Dziu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vativska Credit Un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hansk, Ukra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28124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89548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Arial Black"/>
              </a:rPr>
              <a:t>Access to Credi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2120" y="584280"/>
            <a:ext cx="8153280" cy="776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305920" y="6172200"/>
            <a:ext cx="228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5635-B702-4110-BD17-A53CCC3240FF}" type="slidenum">
              <a:rPr b="0" lang="en-GB" sz="14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vativska Community faced problems of: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514600" y="6091200"/>
          <a:ext cx="77004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091200"/>
                    <a:ext cx="7700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304920" y="6477120"/>
            <a:ext cx="2065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6477120"/>
            <a:ext cx="55627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Lack of access to financial resourc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farmer lack cash for input supplies and operatio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ur banks are the only external financial resource in the ray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ur banks are not willing to work with small farmers or rural po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Legal limitations for credit unio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s is a minimum number of members to setup a credit union according to the Law “On Credit Unions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8305920" y="6172200"/>
            <a:ext cx="228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E4B4-5B40-4C91-99C6-3DA63D6E5209}" type="slidenum">
              <a:rPr b="0" lang="en-GB" sz="14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vativska Credit Union Solutions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14600" y="6091200"/>
          <a:ext cx="77004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091200"/>
                    <a:ext cx="7700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304920" y="6477120"/>
            <a:ext cx="2065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6477120"/>
            <a:ext cx="55627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presentative Office of a Credit Union in a communit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only 25 members to set up a representative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ystem already in pla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Steps take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s with heads village councils, community representatives, credit union members from these communiti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ions to credit committ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committee elects head and secretary of the committ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6172200"/>
            <a:ext cx="228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48D9-E850-4E3E-9C22-39A98D2D5252}" type="slidenum">
              <a:rPr b="0" lang="en-GB" sz="14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vativska Credit Union Background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514600" y="6091200"/>
          <a:ext cx="77004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091200"/>
                    <a:ext cx="7700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04920" y="6477120"/>
            <a:ext cx="2065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6477120"/>
            <a:ext cx="55627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Where do we operate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rayon population are rur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ve farms are being reform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farmers appear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commercial banks operate in the ray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Svativska Credit Un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ed on 31 December 199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38 members as of 30 June 200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of members from rural areas who make 25% of credit portfol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20 000 USD assets on its bal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8305920" y="6172200"/>
            <a:ext cx="228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B488-009A-4FFF-998F-AB4431670F29}" type="slidenum">
              <a:rPr b="0" lang="en-GB" sz="14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vativska Credit Union Results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514600" y="6091200"/>
          <a:ext cx="77004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091200"/>
                    <a:ext cx="7700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304920" y="6477120"/>
            <a:ext cx="2065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6477120"/>
            <a:ext cx="55627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representative offices has been setup within 6 months in 200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 credits issued totaling ~ 80 000 US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25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 – average time to process a credit applic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 of applican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85800" y="3124080"/>
          <a:ext cx="7543800" cy="275904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pplicant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or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0 – 1 000 US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vate plot holder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umer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put suppli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00 – 5 500 US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vate plot holder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umer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rmer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put supplies, machinery spare part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500 – 13 000 US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rmer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-formal farm communiti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put supplies, machinery spare parts, breeding, building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8305920" y="6172200"/>
            <a:ext cx="228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71A8-BB36-4463-9743-37BCDF12F546}" type="slidenum">
              <a:rPr b="0" lang="en-GB" sz="14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vativska Credit Strengths and Weaknesses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14600" y="6091200"/>
          <a:ext cx="77004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091200"/>
                    <a:ext cx="7700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04920" y="6477120"/>
            <a:ext cx="2065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6477120"/>
            <a:ext cx="55627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838080" y="1600200"/>
          <a:ext cx="7467480" cy="321948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trength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Weakness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Quick processing of credit applicatio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ubjective decision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ast deployment of the model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Low qualification of the personne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mmittee members who vouch for the applicant know each other very well or are relativ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ome risk of abuse of decision making proces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"/>
          <p:cNvSpPr/>
          <p:nvPr/>
        </p:nvSpPr>
        <p:spPr>
          <a:xfrm>
            <a:off x="8305920" y="6172200"/>
            <a:ext cx="228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BAFB-DF10-491B-9EB1-E20DB3FA4CF6}" type="slidenum">
              <a:rPr b="0" lang="en-GB" sz="14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19:12:15Z</dcterms:created>
  <dc:creator>SG</dc:creator>
  <dc:description/>
  <dc:language>en-US</dc:language>
  <cp:lastModifiedBy>Viktor R. KLYMONCHUK</cp:lastModifiedBy>
  <dcterms:modified xsi:type="dcterms:W3CDTF">2003-07-03T13:11:33Z</dcterms:modified>
  <cp:revision>87</cp:revision>
  <dc:subject/>
  <dc:title>Ukraine Rural Livelihoods Programme</dc:title>
</cp:coreProperties>
</file>