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1BB-7FE8-4CD1-AEEA-98C12D7F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83A-BC68-438A-AA53-1C60E2D2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E41-9074-4A34-AA73-2E3F0F33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99D-2495-4CE1-9D0C-B55EB1FC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716-AB5D-451B-B66C-F563539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9C2-B3D5-4A1C-AE10-A1460873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FB2-6BB7-4B49-96AC-50AAAD78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205-4E9B-48EC-9E11-9B3C3350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D44-E58E-44B4-8C37-2134677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316-E26C-424C-996B-B9AF0E73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9E1-358B-4568-B8D9-2489E51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F3C-46A0-465F-933F-461884C0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CF97-B1ED-48A9-BB02-544E240A2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Передача и содержание объектов социальной сферы</a:t>
            </a: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Донецк</a:t>
            </a:r>
            <a:r>
              <a:rPr b="1" lang="en-GB" sz="45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4500" spc="-1" strike="noStrike">
                <a:solidFill>
                  <a:srgbClr val="ffff00"/>
                </a:solidFill>
                <a:latin typeface="Arial"/>
              </a:rPr>
              <a:t>Украина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00"/>
                </a:solidFill>
                <a:latin typeface="Arial"/>
              </a:rPr>
              <a:t>ПРОГОЛОСУЙТЕ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534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ретья точка принятия решения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: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дажа на тендере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79280" y="1197000"/>
          <a:ext cx="8785440" cy="4246560"/>
        </p:xfrm>
        <a:graphic>
          <a:graphicData uri="http://schemas.openxmlformats.org/drawingml/2006/table">
            <a:tbl>
              <a:tblPr/>
              <a:tblGrid>
                <a:gridCol w="3970440"/>
                <a:gridCol w="4815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З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Проти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8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Целью работы органов местного самоуправления является предоставление услуг по минимальной цене. Если это так, то нет оснований для того, чтобы исключить предложения других организаций предоставлять услуги, что может привести  к снижению стоимости предоставления услуг для органов местного самоуправления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Продажа на тендере является кратчайшим путем к экстернализации.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Продажа после переговоров может быть чрезвычайно дорогостоящей, как финансово, так и по времен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Продажа на конкурсной основе, если ее правильно реализовать, больше удовлетворит аудиторов, чем  передача после переговоров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Продажа на конкурсной основе обычно требует меньше времени для реализации, чем передача после переговор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Органы местного самоуправления несут ответственность перед своими потребителями, поставщиками, сотрудниками и сообществом, а также перед налогоплательщиками. Поэтому было бы опрометчивым просто принять решение об экстернализации, опираясь лишь на финансовую рациональность. Продажа после переговоров учитывает все эти сложные вопрос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Передача после переговоров дает возможность придти к устойчивой форме организации, которая будет в состоянии предоставлять качественные услуги в будущ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Более вероятно, что передача после переговоров сократит потери ресурсов, занимаясь поиском путей содержания самих объектов или сохранения навыков, приобретенных сотрудника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Передача после переговоров дает возможность органам местного самоуправления оказывать некоторое влияние  на будущего подрядчика путем участия в совете директоров как представитель, имеющий ставку меньшинств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00"/>
                </a:solidFill>
                <a:latin typeface="Arial"/>
              </a:rPr>
              <a:t>ПРОГОЛОСУЙТЕ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етвертая точка принятия решения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: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едача должностному лицу после переговоров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920" y="1628640"/>
          <a:ext cx="8713800" cy="3990960"/>
        </p:xfrm>
        <a:graphic>
          <a:graphicData uri="http://schemas.openxmlformats.org/drawingml/2006/table">
            <a:tbl>
              <a:tblPr/>
              <a:tblGrid>
                <a:gridCol w="4397400"/>
                <a:gridCol w="431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За»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ередача должностному ли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Проти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56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Люди, которые больше всего заинтересованы в будущем услуги, это обычно те, кто ее предоставляет. Поэтому именно должностные лица должны иметь право первого голоса на любых переговорах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По этой же причине, более вероятно, что руководители и сотрудники будут более заинтересованы и готовы принимать участие в детальных переговорах, чем другие группы заинтересованных лиц, которые вряд ли будут также хорошо организован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Руководители и сотрудники имеют представление о том, как эффективнее организовать работу органов местного самоуправлен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Руководители и сотрудники лично заинтересованы в качественном предоставлении услуг, поскольку они живут в этом районе и их легче уговорить пойти на уступки.</a:t>
                      </a: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Руководящие лица и сотрудники были полностью вознаграждены за их вклад в работу в прошлом, поэтому  нет особых причин давать им дополнительные льготы за счет ущемления интересов других групп заинтересованных лиц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В настоящее время организация принадлежит местному сообществу, которое может влиять на ее деятельность через демократические каналы. Наиболее приемлемый способ сохранения влияния через экстернализацию- это передача собственности структуре, которая дает возможность представителям сообщества или потребителям принимать участие в ее управле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Должностные лица могут повлиять на ход переговоров путем перепродажи бизнеса третьей стороне для получения прибыли. Это скоре всего не произойдет, если другие группы заинтересованных лиц входят в круг собственников нового бизнес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00"/>
                </a:solidFill>
                <a:latin typeface="Arial"/>
              </a:rPr>
              <a:t>ПРОГОЛОСУЙТЕ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ятая точка принятия решения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: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еприбыльная или контролируемая потребителем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80880" y="1828800"/>
          <a:ext cx="8229600" cy="380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За» неприбыль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Проти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19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Маловероятно, что неприбыльные по своему определению организации, принесут пользу какой-либо одной группе заинтересованных лиц в случае передачи услуги по цене ниже, чем ее действительная стоимост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Такие организации обычно не захватываются частным сектором и поэтому оказываются более жизнеспособными, чем  другие формы организац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Неприбыльные организации могут быть более экономичными относительно налогов, так как они могут быть квалифицированы как организации, освобождаемые от уплаты налог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Такие организации несут непосредственную ответственность перед своими потребителями, так как они основаны для удовлетворения потребностей заказчиков.  Отсюда внутренняя логика –потребители сами определяют задачи организац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Передача такого объекта из-под контроля органов местного самоуправления под контроль потребителей является наиболее прямым способом, с помощью которого организация  может сделать свою деятельность подотчетной жителям. Это укрепляет принципы демократии на местном уровн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Неприбыльным организациям зачастую не удается заполучить умелых руководителей для руководства масштабной деятельность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00"/>
                </a:solidFill>
                <a:latin typeface="Arial"/>
              </a:rPr>
              <a:t>ПРОГОЛОСУЙТЕ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Шестая точка принятия решения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: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куп контрольного пакета руководством или сотрудниками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50920" y="1628640"/>
          <a:ext cx="8784720" cy="3894120"/>
        </p:xfrm>
        <a:graphic>
          <a:graphicData uri="http://schemas.openxmlformats.org/drawingml/2006/table">
            <a:tbl>
              <a:tblPr/>
              <a:tblGrid>
                <a:gridCol w="4393080"/>
                <a:gridCol w="439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За» выкуп контрольного пакета руковод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Против» выкупа контрольного пакета руковод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1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Руководители имеют опыт управления такой структурой и поэтому, скорее всего,  смогут управлять предоставлением услуги в будущем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Руководители, вероятнее всего, осознают недостатки в работе, и, если они получат контроль над бизнесом, ничего не будет препятствовать внедрению ими более эффективных метод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Среди всех групп заинтересованных лиц руководители подготовят контрольный пакет  документов для выкупа организации быстрее других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Теоретически, руководство, которому принадлежит контрольный пакет, имеет преимущество, так как оно разделяет общие ценности и задачи, и даже небольшая команда менеджеров, опираясь на них, сможет руководить эффектив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Сотрудники способствовали эффективной работе организации в прошлом, и их не следует лишать благ,  накопленных в результате управления объектом после продажи на основе переговор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Бизнес, которым управляют его сотрудники, является более устойчивым, чем управляемый менеджерами-держателями контрольного пакета, так как сотрудники более заинтересованы в сохранении долговременной занятости, чем в получении сиюминутной финансовой прибы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Деятельность органов местного самоуправления, в основном, базируется на человеческих ресурсах, и поэтому им более свойственно, когда контрольный пакет принадлежит сотрудникам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Если контрольный пакет будет в руках сотрудников, они будут работать с большей отдачей и производительность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00"/>
                </a:solidFill>
                <a:latin typeface="Arial"/>
              </a:rPr>
              <a:t>ПРОГОЛОСУЙТЕ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а практике было принято решение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цесс передачи и содержания объектов социальной сф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2491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аботать в соответствии со структур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Вовлекать ведущих специалистов в процесс принятия решения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собие по передаче и содержанию объектов социальной сф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9185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  <a:ea typeface="Arial"/>
              </a:rPr>
              <a:t>Проливает свет на критерии принятия решения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  <a:ea typeface="Arial"/>
              </a:rPr>
              <a:t>Описывает варианты предоставления услуг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  <a:ea typeface="Arial"/>
              </a:rPr>
              <a:t>Предлагает три механизма принятия решения, чтобы облегчить процесс выбора оптимального вариант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цесс принятия реш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635280" y="3429000"/>
            <a:ext cx="360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24360" y="981000"/>
          <a:ext cx="5111640" cy="3581640"/>
        </p:xfrm>
        <a:graphic>
          <a:graphicData uri="http://schemas.openxmlformats.org/drawingml/2006/table">
            <a:tbl>
              <a:tblPr/>
              <a:tblGrid>
                <a:gridCol w="635040"/>
                <a:gridCol w="563400"/>
                <a:gridCol w="565200"/>
                <a:gridCol w="492120"/>
                <a:gridCol w="552600"/>
                <a:gridCol w="576000"/>
                <a:gridCol w="563760"/>
                <a:gridCol w="493560"/>
                <a:gridCol w="6699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Юридический статус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сновная заинтересо-ванная сторон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рганы местного самоуправ-лен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ммуналь-ное предприя-ти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ное предпри-яти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озяй-ственное обществ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едприя-тие с коллектив-ной формой собствен-ност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бъеди-нение совладель-цев многоквар-тирных домов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бъеди-нение граждан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лаготвори-тельная организац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рганы местного самоуправле-н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тдел, предо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тавляющий услуг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ммуналь-ное предприяти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нцесс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ммунальная аренд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ммунальный подря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трудник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ный предпри-ниматель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ботники владеют акциям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извод-ственный кооператив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уководител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ыкуп компании руководи-телям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вери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ельное обществ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требитель-ский кооператив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илищный кооператив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ндоми-ниу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Г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обществ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рганы самооргани-зации  населен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ссоциа-ци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луб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ленская благотворите-льная организац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вестор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вместное предприяти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дажа акций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вестиционный фон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нцесс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79280" y="1628640"/>
            <a:ext cx="3600720" cy="3816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989000"/>
            <a:ext cx="13032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Arial"/>
              </a:rPr>
              <a:t>Группы заинтересованных лиц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Потребите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Отношения между руководителем/сотрудникам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Профсоюз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1628640"/>
            <a:ext cx="0" cy="3816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191628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Arial"/>
              </a:rPr>
              <a:t>Корпоративная стратег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Стратегия органов местного самоуправл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Связь с основными функциям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Предпочтение отношениям по контракт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3284640"/>
            <a:ext cx="12240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Arial"/>
              </a:rPr>
              <a:t>Финансовые огранич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Стоимость реализа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Финансовые предпочт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4292640"/>
            <a:ext cx="136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Arial"/>
              </a:rPr>
              <a:t>Дееспособност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Прибыльност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Поток движения денежных средст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Конкурентоспособност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365720"/>
            <a:ext cx="981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Arial"/>
              </a:rPr>
              <a:t>Используемые ресурс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Объект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Сотрудни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924280"/>
            <a:ext cx="14396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Arial"/>
              </a:rPr>
              <a:t>Характеристика деятельност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Приватизация или передача контракта на предоставление услуг внешней организа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Первоочередные или сопроводительные услуг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Индивидуальная или коллективная культу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79520" y="2468520"/>
            <a:ext cx="2955600" cy="2100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200" y="2715480"/>
            <a:ext cx="3081600" cy="194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3141720"/>
            <a:ext cx="981360" cy="10112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7240" y="5832360"/>
            <a:ext cx="11430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Финансовые огранич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Стоимость реализа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Финансовые предпочт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6048360"/>
            <a:ext cx="11430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Финансовые огранич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Стоимость реализа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Финансовые предпочт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атрица вариантов предоставления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79280" y="765000"/>
          <a:ext cx="8856720" cy="4773960"/>
        </p:xfrm>
        <a:graphic>
          <a:graphicData uri="http://schemas.openxmlformats.org/drawingml/2006/table">
            <a:tbl>
              <a:tblPr/>
              <a:tblGrid>
                <a:gridCol w="1152720"/>
                <a:gridCol w="815760"/>
                <a:gridCol w="982800"/>
                <a:gridCol w="1081080"/>
                <a:gridCol w="887400"/>
                <a:gridCol w="985680"/>
                <a:gridCol w="982800"/>
                <a:gridCol w="982800"/>
                <a:gridCol w="98568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Юридический стату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рганы местного самоуправ-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ммунальное предприя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ный предпринима-т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Хозяйствен-ное обще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едприятие с коллективной форм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бъединение совладельцев многоквартир-ных дом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бъединение гражд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Благотвори-тельная организа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сновная заинтересованная сторо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рганы местного самоуправ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тдел, предостав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яющий услуг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ммунальное предприя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нцесс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ммунальная арен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ммунальный подря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труд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астный предпринимат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аботники владеют акция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изводствен-ный кооперати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уководи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ыкуп компании руководите-ля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веритель-ное обще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требитель-ский кооперати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илищный кооперати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ндоминиу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обще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рганы самоорганиза-ции 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л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ссоциа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ленская благотворитель-ная организа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вестор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овместное предприя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дажа акц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нвестиционной фо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онцесс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Arial"/>
              </a:rPr>
              <a:t>Матрица для принятия решений по формам организации бизнеса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979640" y="2997360"/>
            <a:ext cx="55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20000" y="3357720"/>
            <a:ext cx="998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70520" y="2316240"/>
            <a:ext cx="555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436572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ОБЪЕДИНЕНИЕ ГРАЖДАН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2060640"/>
            <a:ext cx="5558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1628640"/>
            <a:ext cx="1728720" cy="611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Экстернализировать предоставление услуги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1628640"/>
            <a:ext cx="1635120" cy="611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Продажа на государственном тендере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2565360"/>
            <a:ext cx="1728720" cy="647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Распределение обязанностей между клиентом и подрядчик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08360" y="2565360"/>
            <a:ext cx="1635120" cy="611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Переговоры о выкупе контрольного пакета сотрудниками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2565360"/>
            <a:ext cx="1655640" cy="647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6. </a:t>
            </a: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Выкуп контрольного пакета руководителями или работниками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573360"/>
            <a:ext cx="1657440" cy="719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0" lang="ru-RU" sz="1000" spc="-1" strike="noStrike">
                <a:solidFill>
                  <a:srgbClr val="ffff00"/>
                </a:solidFill>
                <a:latin typeface="Arial"/>
              </a:rPr>
              <a:t>Собственность потребителей или неприбыльной организации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2565360"/>
            <a:ext cx="1224000" cy="6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оздание коммунального предприят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3573360"/>
            <a:ext cx="1800000" cy="6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икаких действий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1557360"/>
            <a:ext cx="1512720" cy="6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одготовка продажи на тендер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3573360"/>
            <a:ext cx="158436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ыкуп контрольного пакета работник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2565360"/>
            <a:ext cx="12589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ыкуп контрольного пакета руководителя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4797360"/>
            <a:ext cx="1512720" cy="6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едача в собственность объединений гражда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797360"/>
            <a:ext cx="1150920" cy="61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едача в собственность потребителе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2852640"/>
            <a:ext cx="44316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1916280"/>
            <a:ext cx="444600" cy="144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96280" y="4349160"/>
            <a:ext cx="272520" cy="2725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2924280"/>
            <a:ext cx="36036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2852640"/>
            <a:ext cx="444600" cy="180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1916280"/>
            <a:ext cx="165600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2276640"/>
            <a:ext cx="1800" cy="2887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3213000"/>
            <a:ext cx="0" cy="28908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3213000"/>
            <a:ext cx="0" cy="28728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2560" y="3284640"/>
            <a:ext cx="1800" cy="28728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2276640"/>
            <a:ext cx="0" cy="2887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2316240"/>
            <a:ext cx="1440" cy="2887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4365720"/>
            <a:ext cx="0" cy="2905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2997360"/>
            <a:ext cx="557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2060640"/>
            <a:ext cx="55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31800" y="2316240"/>
            <a:ext cx="55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31800" y="3378240"/>
            <a:ext cx="557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3284640"/>
            <a:ext cx="1136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СОТРУДНИ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4437000"/>
            <a:ext cx="12970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ПОТРЕБИТЕЛЬ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555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ая точка принятия решения: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олжны ли мы экстернализировать услугу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1557360"/>
          <a:ext cx="8713800" cy="3682800"/>
        </p:xfrm>
        <a:graphic>
          <a:graphicData uri="http://schemas.openxmlformats.org/drawingml/2006/table">
            <a:tbl>
              <a:tblPr/>
              <a:tblGrid>
                <a:gridCol w="4176720"/>
                <a:gridCol w="4537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7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ровайдеры из частного сектора зачастую могут предоставлять услуги более эффективно, чем государственный сектор</a:t>
                      </a: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рганы местного самоуправления могут предоставлять услуги наиболее эффективным и экономичным способом, концентрируя свое внимание на конкретизации. требований, а не на руководстве сложными процессами</a:t>
                      </a: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астный и общественный сектор развивают особые навыки в своей сфере деятельности, которые органы местного самоуправления не могут развивать</a:t>
                      </a:r>
                      <a:r>
                        <a:rPr b="1" lang="en-GB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редставляет огромные возможности для экономики, которые недоступны органам местного самоуправления в небольших населенных пункта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жно перевести капитальные затраты в доходы, таким образом уменьшив потребность органов местного самоуправления руководить сложной процедурой составления смет капиталовложений. Однако в некоторых случаях </a:t>
                      </a: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основные фонды могут быть сохранены и только элементы, приносящие доход, экстернализированы</a:t>
                      </a: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Больший контроль за качеством предоставления услуги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жно гарантировать, что организация твердо придерживается политик в области персонала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жно оперативно реагировать на кризисные ситуации, выходящие за рамки контракта, с тем, чтобы кризисные ситуации разрешались в первую очередь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Тесная связь между культурой взаимоотношений потребителей и организаций-подрядчиков, так как они подотчетны одним и тем же людям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адежность и стабильность поставок в случае кризиса на рынке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GB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00"/>
                </a:solidFill>
                <a:latin typeface="Arial"/>
              </a:rPr>
              <a:t>ПРОГОЛОСУЙТЕ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торая точка принятия решений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: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иент или коммунальное предприятие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EDIUMLO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24382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304920" y="5638680"/>
          <a:ext cx="113328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5638680"/>
                    <a:ext cx="11332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0880" y="1752480"/>
          <a:ext cx="8229600" cy="3619800"/>
        </p:xfrm>
        <a:graphic>
          <a:graphicData uri="http://schemas.openxmlformats.org/drawingml/2006/table">
            <a:tbl>
              <a:tblPr/>
              <a:tblGrid>
                <a:gridCol w="4191120"/>
                <a:gridCol w="403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За» коммунальное пред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«Против» коммунального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1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Формирование четкого механизма разграничения функций между потребителем и подрядчиком дает возможность органам местного самоуправления сравнивать эффективность своей работы с работой конкурирующих частных фирм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Образование коммунального предприятия поможет пролить свет на различные задачи потребителей  и подрядчиков внутри органов местного самоуправления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Образование коммунального предприятия  дает возможность полностью переоценить практику работы внутри отдела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Эта форма была традиционной формой предоставления услуг на протяжении многих десятилетий и внезапные изменения могут нарушить сложившиеся рабочие отношения</a:t>
                      </a:r>
                      <a:r>
                        <a:rPr b="1" lang="en-GB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Разделение отделов исполкома на подразделения подрядчиков и потребителей является искусственным, так как они работают на одну и ту же организацию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2:55:46Z</dcterms:created>
  <dc:creator>Enterplan</dc:creator>
  <dc:description/>
  <dc:language>en-US</dc:language>
  <cp:lastModifiedBy>Taisa Stadnichenko</cp:lastModifiedBy>
  <dcterms:modified xsi:type="dcterms:W3CDTF">2003-07-07T12:04:15Z</dcterms:modified>
  <cp:revision>16</cp:revision>
  <dc:subject/>
  <dc:title>Social Sphere Assets and Transfer Maintenance  Donetsk, Ukraine</dc:title>
</cp:coreProperties>
</file>