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AE7-9A60-42E1-A437-2A88BDD2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AB5-5517-48BE-9F87-F6997156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EEA-1E26-491F-B687-A275B754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65C-D02E-4F55-81C8-594A64DA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E4DE-6190-4913-9EDC-1111C0C2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8387-B61A-4D0F-A16C-B2FC09BB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3000-6210-4DB1-B153-FBF25E1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6130-BFA1-4AB5-A0D0-73F5FF3F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3E34-0139-4A0C-A5F7-5EFCC90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131E-D0DF-4577-B1A5-3E6AFEB3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5785-04D7-44BA-8C4C-9CE72EB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117-2C79-48B1-B5B5-860EDF84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60B0-ADD0-4C48-92EF-8C1A26C0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6133-3C18-4704-9CE0-1B3E776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58B9-A9AD-4F25-9009-C1A047FD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4247-3207-4208-9FA2-C29A9F93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0162-050E-452A-9A16-033A2D67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478-1E5D-4E21-9796-B7D49B84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271-98BA-477B-84F0-F3F5D672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8F7-A67C-47D6-A2A7-3F5D39BD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CC1-BA33-4C3B-B71F-D94FF8D3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9F5-5135-4361-B251-743B583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293-2FC6-47A1-9A2A-49A1B2E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654-7A3C-40E4-8481-76CEADA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475B-501E-4685-910D-C8207585DE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08BE-99B8-482C-BDA7-F10ABEB66E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43200" y="2742840"/>
            <a:ext cx="6324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Some Alternative Methods for Funding Rural Public Utiliti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380880"/>
            <a:ext cx="2232000" cy="2895840"/>
            <a:chOff x="533520" y="380880"/>
            <a:chExt cx="2232000" cy="2895840"/>
          </a:xfrm>
        </p:grpSpPr>
        <p:pic>
          <p:nvPicPr>
            <p:cNvPr id="85" name="DAD%20%20logo%20ua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22320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533520" y="380880"/>
              <a:ext cx="2232000" cy="289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Logo_URLP" descr=""/>
          <p:cNvPicPr/>
          <p:nvPr/>
        </p:nvPicPr>
        <p:blipFill>
          <a:blip r:embed="rId2"/>
          <a:stretch/>
        </p:blipFill>
        <p:spPr>
          <a:xfrm>
            <a:off x="7086600" y="5562720"/>
            <a:ext cx="1473120" cy="79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4419720"/>
            <a:ext cx="624852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x Shinkaren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mber of th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68E-23C0-4162-A3A0-2DC06FA9EE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37152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a50021"/>
                </a:solidFill>
                <a:latin typeface="Tahoma"/>
              </a:rPr>
              <a:t>Availability of public utility services in rural areas of Donetsk Region,U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Data on 15 rural communities = 61 villages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= 33 707 dweller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rganised garbage 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dispo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l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- in 17 village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air and building services - in 3 village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ransportation services - in 3 village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air of equipment - in 29 village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burial services - in 21 vill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598-BD91-4A59-BE71-E84E62DF8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7720" y="1885680"/>
            <a:ext cx="7797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gislatively limited profitability of uti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ral dwell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ability to p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ural  dwellers are accustomed not to pay for uti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ck of assets and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overnment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Impediments in operation of rural public util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49F-D6B9-48DF-8A27-EAEE8E6E04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41904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Some alternative methods for funding rural public ut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040" y="1695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xploitation of natural resour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Crop production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vision of burial servi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vision of repair and construction servi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vision of personal and transportation servi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ffice services (copying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43D-3FA9-44C2-9D23-931BCF1B6A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9996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Examples of rural public utilities that are alternatively funded in Donetsk Region,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2120" y="1790640"/>
            <a:ext cx="3504960" cy="3473640"/>
            <a:chOff x="762120" y="1790640"/>
            <a:chExt cx="3504960" cy="3473640"/>
          </a:xfrm>
        </p:grpSpPr>
        <p:sp>
          <p:nvSpPr>
            <p:cNvPr id="98" name=""/>
            <p:cNvSpPr/>
            <p:nvPr/>
          </p:nvSpPr>
          <p:spPr>
            <a:xfrm>
              <a:off x="762120" y="2044800"/>
              <a:ext cx="3374640" cy="3174480"/>
            </a:xfrm>
            <a:prstGeom prst="ellipse">
              <a:avLst/>
            </a:prstGeom>
            <a:solidFill>
              <a:srgbClr val="dddddd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120" y="1790640"/>
              <a:ext cx="350496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venue, $ p.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loading of sand-249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transportation services-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copying-17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total 251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-228600" y="5715000"/>
            <a:ext cx="52578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 people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lary-72$ a mon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s provided to 4014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6600">
            <a:off x="1999440" y="4933440"/>
            <a:ext cx="838440" cy="838440"/>
          </a:xfrm>
          <a:prstGeom prst="rightArrow">
            <a:avLst>
              <a:gd name="adj1" fmla="val 50000"/>
              <a:gd name="adj2" fmla="val 409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24280" y="2057400"/>
            <a:ext cx="3886200" cy="3258720"/>
            <a:chOff x="4724280" y="2057400"/>
            <a:chExt cx="3886200" cy="3258720"/>
          </a:xfrm>
        </p:grpSpPr>
        <p:sp>
          <p:nvSpPr>
            <p:cNvPr id="103" name=""/>
            <p:cNvSpPr/>
            <p:nvPr/>
          </p:nvSpPr>
          <p:spPr>
            <a:xfrm>
              <a:off x="4925160" y="2057400"/>
              <a:ext cx="3484080" cy="3200400"/>
            </a:xfrm>
            <a:prstGeom prst="ellipse">
              <a:avLst/>
            </a:prstGeom>
            <a:solidFill>
              <a:srgbClr val="ffcc99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4280" y="2301480"/>
              <a:ext cx="3886200" cy="30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venue, $ p.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sunflower-69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corn-46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water supply-12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construction serv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es-10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total 139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05320" y="5581800"/>
            <a:ext cx="6476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 people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lary - 31 $ a mon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s provided to 4400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386800">
            <a:off x="6229440" y="4876920"/>
            <a:ext cx="838080" cy="838080"/>
          </a:xfrm>
          <a:prstGeom prst="rightArrow">
            <a:avLst>
              <a:gd name="adj1" fmla="val 50000"/>
              <a:gd name="adj2" fmla="val 409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10080" y="1847880"/>
            <a:ext cx="2467080" cy="10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301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Tahoma"/>
              </a:rPr>
              <a:t>Crop production</a:t>
            </a:r>
            <a:endParaRPr b="0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Tahoma"/>
              <a:ea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62080" y="1790640"/>
            <a:ext cx="2590920" cy="133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42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Tahoma"/>
              </a:rPr>
              <a:t>Sand exploitation</a:t>
            </a:r>
            <a:endParaRPr b="0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A87-C318-4AA3-BA0E-6649F3BD7A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6858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Further development of rural public uti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o get 100 %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of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services  paid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o improve the quality of public utility service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o expand the range of services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Ком.предприятие%20Дмитр.(Ш,)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343400" cy="31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5F6-194D-4EA6-9AE1-F1B7229694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533520" y="380880"/>
            <a:ext cx="2232000" cy="2895840"/>
            <a:chOff x="533520" y="380880"/>
            <a:chExt cx="2232000" cy="2895840"/>
          </a:xfrm>
        </p:grpSpPr>
        <p:pic>
          <p:nvPicPr>
            <p:cNvPr id="113" name="DAD%20%20logo%20ua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22320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533520" y="380880"/>
              <a:ext cx="2232000" cy="289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Logo_URLP" descr=""/>
          <p:cNvPicPr/>
          <p:nvPr/>
        </p:nvPicPr>
        <p:blipFill>
          <a:blip r:embed="rId2"/>
          <a:stretch/>
        </p:blipFill>
        <p:spPr>
          <a:xfrm>
            <a:off x="7086600" y="5562720"/>
            <a:ext cx="1473120" cy="790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38080" y="4419720"/>
            <a:ext cx="624852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by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Max Shinkaren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member of th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743200"/>
            <a:ext cx="6324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Some Alternative Methods for Funding Rural Public Ut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A1E-63BB-4C24-9FA1-C9030D44A0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7:09:15Z</dcterms:created>
  <dc:creator>Max</dc:creator>
  <dc:description/>
  <dc:language>en-US</dc:language>
  <cp:lastModifiedBy>Yurii Kukharuk</cp:lastModifiedBy>
  <cp:lastPrinted>2003-06-28T02:13:07Z</cp:lastPrinted>
  <dcterms:modified xsi:type="dcterms:W3CDTF">2003-07-06T08:21:50Z</dcterms:modified>
  <cp:revision>35</cp:revision>
  <dc:subject/>
  <dc:title>No Slide Title</dc:title>
</cp:coreProperties>
</file>