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8DC0-0726-42C3-B584-D317BD033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EE5E-40B1-4E29-B7E2-7B0FDDCE9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5492-BD26-40C1-878D-6B628B010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DB54-0009-4B52-AFBD-1D4B1A576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43DE3-DB3A-496D-8250-0C9C45750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777E5-44DB-4722-B1C3-183F78219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AA963-F23D-46E9-9B9D-3E10CDB61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BB66A-565A-4404-9ACB-6759CB4A4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72D8A-DFE5-4CB7-B2C0-1241AF5FC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27BED-8FA5-487C-81AA-3F65DF8F2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78846-B828-4703-861E-5BE2E006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817B-D28D-4E50-8FD5-55490D0D2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C5F55-07E2-4F22-B92B-3231F56C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05DF6-6ED0-46E0-A44C-0B4E7BE6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A6799-67B1-452C-AEBE-88BE40859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DF2DC-8D57-4ACA-957A-0040A3256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0B1E5-1E41-43F1-BCC8-354AD4B3F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5A6E-E14A-4CA5-940E-502116A34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25B3-C31E-4FB2-BE9C-F346DA7CD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4C80-5026-42FE-AEB2-6A1EBBF00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91E8-8158-4C91-BB3A-74BC1744D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77CA-435E-44C6-AC91-40A28F16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CA5E-17FA-4B78-9A80-7DA13A09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E675-CC8F-4830-BC6A-905772B5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9DC7A-136E-4C9E-959F-E3F98D3A1A10}" type="slidenum">
              <a:rPr b="0" lang="ru-RU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EDB67-5332-4776-A887-E235B9552D8B}" type="slidenum">
              <a:rPr b="0" lang="ru-RU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1676160"/>
            <a:ext cx="731520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ahoma"/>
              </a:rPr>
              <a:t>Программа Повышения Уровня Жизни Сельского Населения в Украине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14400" y="4495680"/>
            <a:ext cx="7238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Евгений Дзюб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ватовский Кредитный Союз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Луганск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Украи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1281240" y="288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371600" y="2895480"/>
            <a:ext cx="6019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458c"/>
                </a:solidFill>
                <a:latin typeface="Arial Black"/>
              </a:rPr>
              <a:t>Доступ к Кредитам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762120" y="584280"/>
            <a:ext cx="8153280" cy="7761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8305920" y="6172200"/>
            <a:ext cx="2286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DAEB9-29D2-498F-941E-453304FEC469}" type="slidenum">
              <a:rPr b="0" lang="en-GB" sz="1400" spc="-1" strike="noStrike">
                <a:solidFill>
                  <a:srgbClr val="b2b2b2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Сватовская община сталкивалась со следующими проблемами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2514600" y="6091200"/>
          <a:ext cx="770040" cy="41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6091200"/>
                    <a:ext cx="77004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304920" y="6477120"/>
            <a:ext cx="2065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352680" y="6477120"/>
            <a:ext cx="55627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250"/>
              </a:spcBef>
              <a:buClr>
                <a:srgbClr val="40458c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Ограниченный доступ к финансовым ресурсам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250"/>
              </a:spcBef>
              <a:buClr>
                <a:srgbClr val="40458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хватка наличных средств у производителей для приобретения материально-технических ресурсов и осуществления технологических операций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250"/>
              </a:spcBef>
              <a:buClr>
                <a:srgbClr val="40458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ыре банка – единственный внешний источник финансовых ресурсов в районе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250"/>
              </a:spcBef>
              <a:buClr>
                <a:srgbClr val="40458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желание четырех банков работать с мелкими производителями и бедными слоями сельского населения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250"/>
              </a:spcBef>
              <a:buClr>
                <a:srgbClr val="40458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лен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минимальное количество, необходимое для создания кредитного союза в соответствии с законом Украин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 кредитных союза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8305920" y="6172200"/>
            <a:ext cx="2286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829DB-E5D2-4A98-9113-378D95D9697E}" type="slidenum">
              <a:rPr b="0" lang="en-GB" sz="1400" spc="-1" strike="noStrike">
                <a:solidFill>
                  <a:srgbClr val="b2b2b2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Сватовский Кредитный Союз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Решение проблем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2514600" y="6091200"/>
          <a:ext cx="770040" cy="41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6091200"/>
                    <a:ext cx="77004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304920" y="6477120"/>
            <a:ext cx="2065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52680" y="6477120"/>
            <a:ext cx="55627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125"/>
              </a:spcBef>
              <a:buClr>
                <a:srgbClr val="40458c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58c"/>
                </a:solidFill>
                <a:latin typeface="Arial"/>
              </a:rPr>
              <a:t>Представительство Кредитного Союза на территории общины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125"/>
              </a:spcBef>
              <a:buClr>
                <a:srgbClr val="40458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бходимо только 25 членов для открытия представительства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125"/>
              </a:spcBef>
              <a:buClr>
                <a:srgbClr val="40458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едитная схема уже разработана и действует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125"/>
              </a:spcBef>
              <a:buClr>
                <a:srgbClr val="40458c"/>
              </a:buClr>
              <a:buSzPct val="11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58c"/>
                </a:solidFill>
                <a:latin typeface="Arial"/>
              </a:rPr>
              <a:t>Предпринятые шаги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125"/>
              </a:spcBef>
              <a:buClr>
                <a:srgbClr val="40458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тречи с председателями сельских совет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ителями общин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ленами кредитного союза из этих общин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125"/>
              </a:spcBef>
              <a:buClr>
                <a:srgbClr val="40458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брание кредитного комитета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125"/>
              </a:spcBef>
              <a:buClr>
                <a:srgbClr val="40458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едитный комитет избирает председателя и секретаря комитета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8305920" y="6172200"/>
            <a:ext cx="2286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F35C9-A4F9-4F96-83CE-38FF07A81112}" type="slidenum">
              <a:rPr b="0" lang="en-GB" sz="1400" spc="-1" strike="noStrike">
                <a:solidFill>
                  <a:srgbClr val="b2b2b2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Сватовский Кредитный Союз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Истоки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2514600" y="6091200"/>
          <a:ext cx="770040" cy="41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6091200"/>
                    <a:ext cx="77004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304920" y="6477120"/>
            <a:ext cx="2065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352680" y="6477120"/>
            <a:ext cx="55627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125"/>
              </a:spcBef>
              <a:buClr>
                <a:srgbClr val="40458c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58c"/>
                </a:solidFill>
                <a:latin typeface="Arial"/>
              </a:rPr>
              <a:t>Где мы работаем</a:t>
            </a: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125"/>
              </a:spcBef>
              <a:buClr>
                <a:srgbClr val="40458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%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селения района – сельские жители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125"/>
              </a:spcBef>
              <a:buClr>
                <a:srgbClr val="40458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цесс реформации коллективных хозяйств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125"/>
              </a:spcBef>
              <a:buClr>
                <a:srgbClr val="40458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явление частных фермеров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125"/>
              </a:spcBef>
              <a:buClr>
                <a:srgbClr val="40458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а четырех коммерческих банков в районе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125"/>
              </a:spcBef>
              <a:buClr>
                <a:srgbClr val="40458c"/>
              </a:buClr>
              <a:buSzPct val="11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58c"/>
                </a:solidFill>
                <a:latin typeface="Arial"/>
              </a:rPr>
              <a:t>Сватовский Кредитный Союз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125"/>
              </a:spcBef>
              <a:buClr>
                <a:srgbClr val="40458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регистрирова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31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кабр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ода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125"/>
              </a:spcBef>
              <a:buClr>
                <a:srgbClr val="40458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38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ленов состоянием 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юн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00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ода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125"/>
              </a:spcBef>
              <a:buClr>
                <a:srgbClr val="40458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ленов – сельские жители, составляющи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%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едитного портфолио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125"/>
              </a:spcBef>
              <a:buClr>
                <a:srgbClr val="40458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 220 00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л. СШ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тивов на балансе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4" name=""/>
          <p:cNvSpPr/>
          <p:nvPr/>
        </p:nvSpPr>
        <p:spPr>
          <a:xfrm>
            <a:off x="8305920" y="6172200"/>
            <a:ext cx="2286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AA2F3-D2FE-4098-8436-97EB2500E1C1}" type="slidenum">
              <a:rPr b="0" lang="en-GB" sz="1400" spc="-1" strike="noStrike">
                <a:solidFill>
                  <a:srgbClr val="b2b2b2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Сватовский Кредитный Союз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Результаты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2514600" y="6091200"/>
          <a:ext cx="770040" cy="41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6091200"/>
                    <a:ext cx="77004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304920" y="6477120"/>
            <a:ext cx="2065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352680" y="6477120"/>
            <a:ext cx="55627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125"/>
              </a:spcBef>
              <a:buClr>
                <a:srgbClr val="40458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ительст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крыты в течение 6 месяцев 2003 года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125"/>
              </a:spcBef>
              <a:buClr>
                <a:srgbClr val="40458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5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едит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дано на общую сумм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 80 00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л. США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125"/>
              </a:spcBef>
              <a:buClr>
                <a:srgbClr val="40458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нее время рассмотрения кредитной заявки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арактеристи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искателей займа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762120" y="2743200"/>
          <a:ext cx="7543800" cy="3687840"/>
        </p:xfrm>
        <a:graphic>
          <a:graphicData uri="http://schemas.openxmlformats.org/drawingml/2006/table">
            <a:tbl>
              <a:tblPr/>
              <a:tblGrid>
                <a:gridCol w="2514600"/>
                <a:gridCol w="2514600"/>
                <a:gridCol w="2514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средняя сумма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>
                      <a:noFill/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соискатель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>
                      <a:noFill/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назначение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0 – 1 000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ол. США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ладельцы личных подсобных хозяйств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требители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териально-технические ресурсы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16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000 – 5 500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ол. США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ладельцы личных подсобных хозяйств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требители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ермеры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териально-технические ресурсы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апасные части 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 500 – 13 000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ол. США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ермеры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еформальные объединения фермеров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териально-технические ресурсы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апасные част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леменное поголовье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дания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2" name=""/>
          <p:cNvSpPr/>
          <p:nvPr/>
        </p:nvSpPr>
        <p:spPr>
          <a:xfrm>
            <a:off x="8305920" y="6172200"/>
            <a:ext cx="2286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30B4E-1BA1-4BBC-8C67-988BE3A0B0AF}" type="slidenum">
              <a:rPr b="0" lang="en-GB" sz="1400" spc="-1" strike="noStrike">
                <a:solidFill>
                  <a:srgbClr val="b2b2b2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Сватовский Кредитный Союз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Сильные и Слабые Стороны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2514600" y="6091200"/>
          <a:ext cx="770040" cy="41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6091200"/>
                    <a:ext cx="77004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304920" y="6477120"/>
            <a:ext cx="2065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6477120"/>
            <a:ext cx="55627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838080" y="1600200"/>
          <a:ext cx="7467840" cy="3462480"/>
        </p:xfrm>
        <a:graphic>
          <a:graphicData uri="http://schemas.openxmlformats.org/drawingml/2006/table">
            <a:tbl>
              <a:tblPr/>
              <a:tblGrid>
                <a:gridCol w="3733920"/>
                <a:gridCol w="3733920"/>
              </a:tblGrid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Сильные Стороны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Слабые Стороны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94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Быстрое рассмотрение кредитных заявок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Субъективные решения</a:t>
                      </a: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94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Быстрое развертывание модели</a:t>
                      </a: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Низкий уровень квалификации персонала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Члены комитета, которые ручаются за соискателя, знают друг друга достаточно хорошо или являются родственниками 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Некоторая доля риска в необъективности принимаемых решений 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0" name=""/>
          <p:cNvSpPr/>
          <p:nvPr/>
        </p:nvSpPr>
        <p:spPr>
          <a:xfrm>
            <a:off x="8305920" y="6172200"/>
            <a:ext cx="2286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461DB-C313-4E01-B9DC-B02B29505565}" type="slidenum">
              <a:rPr b="0" lang="en-GB" sz="1400" spc="-1" strike="noStrike">
                <a:solidFill>
                  <a:srgbClr val="b2b2b2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5T19:12:15Z</dcterms:created>
  <dc:creator>SG</dc:creator>
  <dc:description/>
  <dc:language>en-US</dc:language>
  <cp:lastModifiedBy>Viktor R. KLYMONCHUK</cp:lastModifiedBy>
  <dcterms:modified xsi:type="dcterms:W3CDTF">2003-07-03T16:11:08Z</dcterms:modified>
  <cp:revision>99</cp:revision>
  <dc:subject/>
  <dc:title>Ukraine Rural Livelihoods Programme</dc:title>
</cp:coreProperties>
</file>