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44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ссийская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Федер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5029200"/>
            <a:ext cx="396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БЕЛИ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рина Иванов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208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05120"/>
            <a:ext cx="8686800" cy="25318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501"/>
                </a:solidFill>
                <a:latin typeface="Arial"/>
              </a:rPr>
              <a:t>Роль частной предпринимательской инициативы в решении проблем социальной инфраструкту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260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8001000" cy="0"/>
          </a:xfrm>
          <a:prstGeom prst="line">
            <a:avLst/>
          </a:prstGeom>
          <a:ln w="260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1520" y="5943600"/>
            <a:ext cx="39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501"/>
                </a:solidFill>
                <a:latin typeface="Arial"/>
              </a:rPr>
              <a:t>кандидат экономических нау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0484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d00"/>
                </a:solidFill>
                <a:latin typeface="Arial"/>
              </a:rPr>
              <a:t>Занятость проживающих в сельской мес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d00"/>
                </a:solidFill>
                <a:latin typeface="Arial"/>
              </a:rPr>
              <a:t>Орловской области, 2001-2005 г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fd00"/>
                </a:solidFill>
                <a:latin typeface="Arial"/>
              </a:rPr>
              <a:t>(тыс. челове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1840" y="1595520"/>
          <a:ext cx="8607240" cy="476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840" y="1595520"/>
                    <a:ext cx="86072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49120" y="1138320"/>
          <a:ext cx="8634600" cy="51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138320"/>
                    <a:ext cx="863460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04920" y="204840"/>
            <a:ext cx="84582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Число объектов инфраструктуры в средн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на 1 сельскую администрац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04840"/>
            <a:ext cx="84582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fd00"/>
                </a:solidFill>
                <a:latin typeface="Arial"/>
              </a:rPr>
              <a:t>Формы поддержки Проектом развития малого бизне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fd00"/>
                </a:solidFill>
                <a:latin typeface="Arial"/>
              </a:rPr>
              <a:t>в сфере услуг Новосильского района Орлов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143000"/>
            <a:ext cx="7620120" cy="916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оставлено консультаций индивидуальным предпринимателям в сфере услуг по юридическим и экономическим вопрос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357280"/>
            <a:ext cx="76201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Прошли обучение на семинаре “Как начать собственное дело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744640"/>
            <a:ext cx="76201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из них открыли собственное дел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0880" y="3405240"/>
            <a:ext cx="7620120" cy="1023480"/>
            <a:chOff x="380880" y="3405240"/>
            <a:chExt cx="7620120" cy="1023480"/>
          </a:xfrm>
        </p:grpSpPr>
        <p:sp>
          <p:nvSpPr>
            <p:cNvPr id="65" name=""/>
            <p:cNvSpPr/>
            <p:nvPr/>
          </p:nvSpPr>
          <p:spPr>
            <a:xfrm>
              <a:off x="380880" y="3405240"/>
              <a:ext cx="76201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Прошли переобучение через Службу Занят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880" y="3786120"/>
              <a:ext cx="76201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6280" indent="-476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из них  зарегистрировались индивидуальными предпринимателям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0880" y="4726080"/>
            <a:ext cx="7620120" cy="766440"/>
            <a:chOff x="380880" y="4726080"/>
            <a:chExt cx="7620120" cy="766440"/>
          </a:xfrm>
        </p:grpSpPr>
        <p:sp>
          <p:nvSpPr>
            <p:cNvPr id="68" name=""/>
            <p:cNvSpPr/>
            <p:nvPr/>
          </p:nvSpPr>
          <p:spPr>
            <a:xfrm>
              <a:off x="380880" y="4726080"/>
              <a:ext cx="7620120" cy="3682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  <a:effectLst>
              <a:outerShdw dist="107932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Выдано займов на развитие несельскохозяйственного бизнес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124240"/>
              <a:ext cx="7620120" cy="3682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  <a:effectLst>
              <a:outerShdw dist="107932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из них индивидуальным предпринимателям в сфере услу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0880" y="5791320"/>
            <a:ext cx="7620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здано рабочих мест предпринимателями в сфере усл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4479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236232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278136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9600" y="472428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5110200"/>
            <a:ext cx="60948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29600" y="342900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38527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5791320"/>
            <a:ext cx="609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78645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Arial"/>
              </a:rPr>
              <a:t>Услуги, оказанные проектом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RL </a:t>
            </a:r>
            <a:r>
              <a:rPr b="1" lang="ru-RU" sz="2800" spc="-1" strike="noStrike">
                <a:solidFill>
                  <a:srgbClr val="fafd00"/>
                </a:solidFill>
                <a:latin typeface="Arial"/>
              </a:rPr>
              <a:t>Слесаренко О. 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Информацио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о деятельности ФПАР “АгроМИР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о работе клуба “Надежд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обучение на семинаре “Как начать собственное дело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обучение на технологических семина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Правов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омощь в регистрации магаз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Экономическ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Разработка бизнес-проекта по открытию магаз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Составление бизнес-плана на приобретение автомоби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Составление бизнес-плана на покупку морозильного оборуд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Разработка бизнес-проекта по сбору моло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ехнологическ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о применению премиксов при выращивании домашней птицы, свиней, КР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о производству сыра в домашних услов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Роль частной инициативы в развитии сельской социальной инфра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648320" y="3397320"/>
            <a:ext cx="4114800" cy="129528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663300"/>
            </a:solidFill>
            <a:miter/>
          </a:ln>
          <a:effectLst>
            <a:outerShdw dist="176340" dir="1816901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Рыноч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нтегра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сборщик молок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80880" y="3397320"/>
            <a:ext cx="4114800" cy="129528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663300"/>
            </a:solidFill>
            <a:miter/>
          </a:ln>
          <a:effectLst>
            <a:outerShdw dist="176340" dir="1816901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Част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едпринима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владелец магазин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196600">
            <a:off x="1981080" y="2558880"/>
            <a:ext cx="99072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008600">
            <a:off x="5638680" y="2406240"/>
            <a:ext cx="990720" cy="1219320"/>
          </a:xfrm>
          <a:prstGeom prst="downArrow">
            <a:avLst>
              <a:gd name="adj1" fmla="val 50000"/>
              <a:gd name="adj2" fmla="val 30769"/>
            </a:avLst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644480"/>
            <a:ext cx="3429000" cy="1447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Слесаренк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921200"/>
            <a:ext cx="4267080" cy="1219320"/>
          </a:xfrm>
          <a:prstGeom prst="rect">
            <a:avLst/>
          </a:prstGeom>
          <a:noFill/>
          <a:ln w="936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она обслужи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80 домохозяй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(27% от общего числа домохозяй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воростянской с/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921200"/>
            <a:ext cx="4267080" cy="1219320"/>
          </a:xfrm>
          <a:prstGeom prst="rect">
            <a:avLst/>
          </a:prstGeom>
          <a:noFill/>
          <a:ln w="936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Зона обслужи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6 домохозяй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25% от общего числа домохозяй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меющих кор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04840"/>
            <a:ext cx="84582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Уроки проекта по поддержке малого бизне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и развитию сферы услу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действие добровольным организация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держка частной инициати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ультационное сопровож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онное обслуж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8006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едитная поддерж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одоление административных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Яковлева</dc:creator>
  <dc:description/>
  <dc:language>en-US</dc:language>
  <cp:lastModifiedBy>Serafima Levkina</cp:lastModifiedBy>
  <dcterms:modified xsi:type="dcterms:W3CDTF">2003-07-01T10:17:06Z</dcterms:modified>
  <cp:revision>102</cp:revision>
  <dc:subject/>
  <dc:title>Заголовок слайда отсутствует</dc:title>
</cp:coreProperties>
</file>