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300c3"/>
              </a:buClr>
              <a:buSzPct val="63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9144000" cy="457200"/>
          </a:xfrm>
          <a:prstGeom prst="horizontalScroll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316501"/>
              </a:gs>
              <a:gs pos="100000">
                <a:srgbClr val="ffffff"/>
              </a:gs>
            </a:gsLst>
            <a:lin ang="10800000"/>
          </a:gradFill>
          <a:ln w="6480">
            <a:solidFill>
              <a:srgbClr val="316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619280" y="6453360"/>
            <a:ext cx="590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ustainable Rural Livelihoods Program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17080" y="6524640"/>
            <a:ext cx="734760" cy="20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04000" y="652464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8e00"/>
                </a:solidFill>
                <a:latin typeface="Comic Sans MS"/>
                <a:ea typeface="Arial"/>
              </a:rPr>
              <a:t>1999-2003 </a:t>
            </a:r>
            <a:r>
              <a:rPr b="1" lang="en-US" sz="900" spc="-1" strike="noStrike">
                <a:solidFill>
                  <a:srgbClr val="438e00"/>
                </a:solidFill>
                <a:latin typeface="Arial"/>
                <a:ea typeface="Arial"/>
              </a:rPr>
              <a:t>  ©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08000" y="6524640"/>
            <a:ext cx="79200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696080" y="304920"/>
            <a:ext cx="1066680" cy="609480"/>
            <a:chOff x="7696080" y="304920"/>
            <a:chExt cx="1066680" cy="609480"/>
          </a:xfrm>
        </p:grpSpPr>
        <p:sp>
          <p:nvSpPr>
            <p:cNvPr id="44" name=""/>
            <p:cNvSpPr/>
            <p:nvPr/>
          </p:nvSpPr>
          <p:spPr>
            <a:xfrm>
              <a:off x="7696080" y="304920"/>
              <a:ext cx="1066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696080" y="507960"/>
              <a:ext cx="1066680" cy="203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96080" y="711360"/>
              <a:ext cx="1066680" cy="203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791320" y="380880"/>
            <a:ext cx="1904760" cy="6858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ussian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ed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5029200"/>
            <a:ext cx="3962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Irina BELIKO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2080" y="163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133720"/>
            <a:ext cx="8147160" cy="19224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501"/>
                </a:solidFill>
                <a:latin typeface="Arial"/>
              </a:rPr>
              <a:t>The Role of Business Initiative in Addressing Social Infrastructure Proble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600200"/>
            <a:ext cx="8001000" cy="0"/>
          </a:xfrm>
          <a:prstGeom prst="line">
            <a:avLst/>
          </a:prstGeom>
          <a:ln w="2602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800600"/>
            <a:ext cx="8001000" cy="0"/>
          </a:xfrm>
          <a:prstGeom prst="line">
            <a:avLst/>
          </a:prstGeom>
          <a:ln w="2602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5840" y="594360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6501"/>
                </a:solidFill>
                <a:latin typeface="Arial"/>
              </a:rPr>
              <a:t>Candidate of Economic Sc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04840"/>
            <a:ext cx="84582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ment of Rural Residents in Oryol Oblast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01-2005 (thous. peop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31840" y="1595520"/>
            <a:ext cx="8597880" cy="4664160"/>
            <a:chOff x="231840" y="1595520"/>
            <a:chExt cx="8597880" cy="4664160"/>
          </a:xfrm>
        </p:grpSpPr>
        <p:grpSp>
          <p:nvGrpSpPr>
            <p:cNvPr id="56" name=""/>
            <p:cNvGrpSpPr/>
            <p:nvPr/>
          </p:nvGrpSpPr>
          <p:grpSpPr>
            <a:xfrm>
              <a:off x="231840" y="1595520"/>
              <a:ext cx="8597880" cy="2771640"/>
              <a:chOff x="231840" y="1595520"/>
              <a:chExt cx="8597880" cy="2771640"/>
            </a:xfrm>
          </p:grpSpPr>
          <p:sp>
            <p:nvSpPr>
              <p:cNvPr id="57" name=""/>
              <p:cNvSpPr/>
              <p:nvPr/>
            </p:nvSpPr>
            <p:spPr>
              <a:xfrm>
                <a:off x="300960" y="1704960"/>
                <a:ext cx="966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dica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81960" y="170496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842360" y="170496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34520" y="170496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02680" y="2044800"/>
                <a:ext cx="887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orecas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53760" y="170496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720480" y="2044800"/>
                <a:ext cx="887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orecas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073000" y="170496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841160" y="2044800"/>
                <a:ext cx="887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orecas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49760" y="1595520"/>
                <a:ext cx="4680" cy="676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49760" y="1595520"/>
                <a:ext cx="1440" cy="67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610160" y="1595520"/>
                <a:ext cx="6120" cy="676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610160" y="1595520"/>
                <a:ext cx="1440" cy="67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73800" y="1595520"/>
                <a:ext cx="6120" cy="676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73800" y="1595520"/>
                <a:ext cx="1440" cy="67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591240" y="1595520"/>
                <a:ext cx="6480" cy="676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591240" y="1595520"/>
                <a:ext cx="1800" cy="67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711920" y="1595520"/>
                <a:ext cx="6480" cy="676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11920" y="1595520"/>
                <a:ext cx="1800" cy="67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01680" y="2459160"/>
                <a:ext cx="2501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Rural labour resource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10320" y="2459160"/>
                <a:ext cx="570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Arial"/>
                  </a:rPr>
                  <a:t>156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72520" y="2459160"/>
                <a:ext cx="570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Arial"/>
                  </a:rPr>
                  <a:t>155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762880" y="2459160"/>
                <a:ext cx="570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Arial"/>
                  </a:rPr>
                  <a:t>155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82120" y="2459160"/>
                <a:ext cx="570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Arial"/>
                  </a:rPr>
                  <a:t>154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001360" y="2459160"/>
                <a:ext cx="570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Arial"/>
                  </a:rPr>
                  <a:t>154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1840" y="2271600"/>
                <a:ext cx="351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31840" y="2271600"/>
                <a:ext cx="351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31840" y="2290680"/>
                <a:ext cx="35179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2290680"/>
                <a:ext cx="351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31840" y="2338560"/>
                <a:ext cx="351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31840" y="2338560"/>
                <a:ext cx="351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749760" y="2346480"/>
                <a:ext cx="46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49760" y="2346480"/>
                <a:ext cx="4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49760" y="2271600"/>
                <a:ext cx="71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49760" y="2271600"/>
                <a:ext cx="71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49760" y="2290680"/>
                <a:ext cx="7128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49760" y="2290680"/>
                <a:ext cx="71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49760" y="2338560"/>
                <a:ext cx="71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49760" y="2338560"/>
                <a:ext cx="71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21040" y="2271600"/>
                <a:ext cx="7891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821040" y="2271600"/>
                <a:ext cx="789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1040" y="2290680"/>
                <a:ext cx="7891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821040" y="2290680"/>
                <a:ext cx="789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821040" y="2338560"/>
                <a:ext cx="789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21040" y="2338560"/>
                <a:ext cx="78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10160" y="2346480"/>
                <a:ext cx="61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10160" y="234648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610160" y="2271600"/>
                <a:ext cx="71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610160" y="2271600"/>
                <a:ext cx="71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10160" y="2290680"/>
                <a:ext cx="7128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610160" y="2290680"/>
                <a:ext cx="71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10160" y="2338560"/>
                <a:ext cx="71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10160" y="2338560"/>
                <a:ext cx="71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1440" y="2271600"/>
                <a:ext cx="792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81440" y="2271600"/>
                <a:ext cx="792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81440" y="2290680"/>
                <a:ext cx="7923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81440" y="2290680"/>
                <a:ext cx="792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81440" y="2338560"/>
                <a:ext cx="792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81440" y="2338560"/>
                <a:ext cx="792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73800" y="2346480"/>
                <a:ext cx="61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473800" y="234648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473800" y="2271600"/>
                <a:ext cx="71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73800" y="2271600"/>
                <a:ext cx="71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473800" y="2290680"/>
                <a:ext cx="7128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473800" y="2290680"/>
                <a:ext cx="71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473800" y="2338560"/>
                <a:ext cx="71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73800" y="2338560"/>
                <a:ext cx="71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45080" y="2271600"/>
                <a:ext cx="1046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45080" y="2271600"/>
                <a:ext cx="1046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545080" y="2290680"/>
                <a:ext cx="1046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545080" y="2290680"/>
                <a:ext cx="1046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45080" y="2338560"/>
                <a:ext cx="1046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545080" y="2338560"/>
                <a:ext cx="104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91240" y="2346480"/>
                <a:ext cx="64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91240" y="234648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91240" y="2271600"/>
                <a:ext cx="73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591240" y="2271600"/>
                <a:ext cx="73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91240" y="2290680"/>
                <a:ext cx="7308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591240" y="2290680"/>
                <a:ext cx="73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91240" y="2338560"/>
                <a:ext cx="730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591240" y="2338560"/>
                <a:ext cx="73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64320" y="2271600"/>
                <a:ext cx="1047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64320" y="2271600"/>
                <a:ext cx="1047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664320" y="2290680"/>
                <a:ext cx="10476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64320" y="2290680"/>
                <a:ext cx="1047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664320" y="2338560"/>
                <a:ext cx="1047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64320" y="2338560"/>
                <a:ext cx="1047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11920" y="2346480"/>
                <a:ext cx="64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711920" y="234648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11920" y="2271600"/>
                <a:ext cx="71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11920" y="2271600"/>
                <a:ext cx="71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711920" y="2290680"/>
                <a:ext cx="716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711920" y="2290680"/>
                <a:ext cx="71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711920" y="2338560"/>
                <a:ext cx="71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11920" y="2338560"/>
                <a:ext cx="71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783560" y="2271600"/>
                <a:ext cx="1046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783560" y="2271600"/>
                <a:ext cx="1046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3560" y="2290680"/>
                <a:ext cx="1046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783560" y="2290680"/>
                <a:ext cx="1046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83560" y="2338560"/>
                <a:ext cx="1046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83560" y="2338560"/>
                <a:ext cx="104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49760" y="2347920"/>
                <a:ext cx="468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749760" y="2347920"/>
                <a:ext cx="144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10160" y="2347920"/>
                <a:ext cx="612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10160" y="2347920"/>
                <a:ext cx="144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473800" y="2347920"/>
                <a:ext cx="612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473800" y="2347920"/>
                <a:ext cx="144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591240" y="2347920"/>
                <a:ext cx="648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91240" y="2347920"/>
                <a:ext cx="180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11920" y="2347920"/>
                <a:ext cx="648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711920" y="2347920"/>
                <a:ext cx="180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9520" y="2933640"/>
                <a:ext cx="1096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Including: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0640" y="2933640"/>
                <a:ext cx="128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8000"/>
                    </a:solidFill>
                    <a:uFillTx/>
                    <a:latin typeface="Arial"/>
                  </a:rPr>
                  <a:t>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4480" y="3273480"/>
                <a:ext cx="1181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agricultur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71880" y="327348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60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30840" y="327348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59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24440" y="327348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57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942240" y="327348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56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062920" y="327348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54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840" y="2817720"/>
                <a:ext cx="35179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840" y="2817720"/>
                <a:ext cx="351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49760" y="2817720"/>
                <a:ext cx="46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49760" y="2817720"/>
                <a:ext cx="4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49760" y="281772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754440" y="2817720"/>
                <a:ext cx="8557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54440" y="2817720"/>
                <a:ext cx="855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10160" y="2817720"/>
                <a:ext cx="61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10160" y="281772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10160" y="281772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16280" y="2817720"/>
                <a:ext cx="8575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16280" y="2817720"/>
                <a:ext cx="857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73800" y="2817720"/>
                <a:ext cx="61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73800" y="281772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473800" y="281772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79920" y="2817720"/>
                <a:ext cx="11113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79920" y="2817720"/>
                <a:ext cx="1111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91240" y="2817720"/>
                <a:ext cx="64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91240" y="281772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591240" y="281772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597720" y="2817720"/>
                <a:ext cx="111420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97720" y="2817720"/>
                <a:ext cx="1114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711920" y="2817720"/>
                <a:ext cx="64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711920" y="281772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11920" y="281772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18400" y="2817720"/>
                <a:ext cx="11113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18400" y="2817720"/>
                <a:ext cx="1111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49760" y="2824200"/>
                <a:ext cx="468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49760" y="2824200"/>
                <a:ext cx="144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10160" y="2824200"/>
                <a:ext cx="612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610160" y="2824200"/>
                <a:ext cx="144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73800" y="2824200"/>
                <a:ext cx="612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73800" y="2824200"/>
                <a:ext cx="144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591240" y="2824200"/>
                <a:ext cx="648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591240" y="2824200"/>
                <a:ext cx="180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711920" y="2824200"/>
                <a:ext cx="648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11920" y="2824200"/>
                <a:ext cx="180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5200" y="3618000"/>
                <a:ext cx="1446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other secto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971880" y="361800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48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830840" y="361800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50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824440" y="361800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51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42240" y="361800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51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062920" y="361800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51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1840" y="3502080"/>
                <a:ext cx="3517920" cy="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31840" y="3502080"/>
                <a:ext cx="351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49760" y="3502080"/>
                <a:ext cx="4680" cy="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49760" y="3502080"/>
                <a:ext cx="4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49760" y="3502080"/>
                <a:ext cx="14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54440" y="3502080"/>
                <a:ext cx="855720" cy="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54440" y="3502080"/>
                <a:ext cx="855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10160" y="3502080"/>
                <a:ext cx="6120" cy="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610160" y="350208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10160" y="3502080"/>
                <a:ext cx="14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616280" y="3502080"/>
                <a:ext cx="857520" cy="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616280" y="3502080"/>
                <a:ext cx="857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473800" y="3502080"/>
                <a:ext cx="6120" cy="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73800" y="350208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73800" y="3502080"/>
                <a:ext cx="14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79920" y="3502080"/>
                <a:ext cx="1111320" cy="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79920" y="3502080"/>
                <a:ext cx="1111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591240" y="3502080"/>
                <a:ext cx="6480" cy="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591240" y="350208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591240" y="3502080"/>
                <a:ext cx="180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97720" y="3502080"/>
                <a:ext cx="1114200" cy="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97720" y="3502080"/>
                <a:ext cx="1114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11920" y="3502080"/>
                <a:ext cx="6480" cy="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11920" y="350208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711920" y="3502080"/>
                <a:ext cx="180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18400" y="3502080"/>
                <a:ext cx="1111320" cy="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18400" y="3502080"/>
                <a:ext cx="1111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760" y="3506760"/>
                <a:ext cx="468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49760" y="3506760"/>
                <a:ext cx="144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10160" y="3506760"/>
                <a:ext cx="612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10160" y="3506760"/>
                <a:ext cx="144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473800" y="3506760"/>
                <a:ext cx="612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73800" y="3506760"/>
                <a:ext cx="144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91240" y="3506760"/>
                <a:ext cx="648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591240" y="3506760"/>
                <a:ext cx="180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11920" y="3506760"/>
                <a:ext cx="648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11920" y="3506760"/>
                <a:ext cx="180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4840" y="4092480"/>
                <a:ext cx="1955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day-time student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31840" y="3976560"/>
              <a:ext cx="8597880" cy="2283120"/>
              <a:chOff x="231840" y="3976560"/>
              <a:chExt cx="8597880" cy="2283120"/>
            </a:xfrm>
          </p:grpSpPr>
          <p:sp>
            <p:nvSpPr>
              <p:cNvPr id="258" name=""/>
              <p:cNvSpPr/>
              <p:nvPr/>
            </p:nvSpPr>
            <p:spPr>
              <a:xfrm>
                <a:off x="474840" y="4356000"/>
                <a:ext cx="144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30560" y="4280040"/>
                <a:ext cx="317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7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92760" y="4280040"/>
                <a:ext cx="317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7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83120" y="4280040"/>
                <a:ext cx="317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7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02360" y="4280040"/>
                <a:ext cx="317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6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121600" y="4280040"/>
                <a:ext cx="317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6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1840" y="3976560"/>
                <a:ext cx="35179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1840" y="3976560"/>
                <a:ext cx="351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49760" y="3976560"/>
                <a:ext cx="46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49760" y="3976560"/>
                <a:ext cx="4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749760" y="397656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54440" y="3976560"/>
                <a:ext cx="8557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54440" y="3976560"/>
                <a:ext cx="855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610160" y="3976560"/>
                <a:ext cx="61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10160" y="397656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610160" y="397656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16280" y="3976560"/>
                <a:ext cx="8575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616280" y="3976560"/>
                <a:ext cx="857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73800" y="3976560"/>
                <a:ext cx="61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473800" y="397656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473800" y="397656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479920" y="3976560"/>
                <a:ext cx="11113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479920" y="3976560"/>
                <a:ext cx="1111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91240" y="3976560"/>
                <a:ext cx="64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591240" y="397656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591240" y="397656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97720" y="3976560"/>
                <a:ext cx="111420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97720" y="3976560"/>
                <a:ext cx="1114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11920" y="3976560"/>
                <a:ext cx="64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711920" y="397656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11920" y="397656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18400" y="3976560"/>
                <a:ext cx="11113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18400" y="3976560"/>
                <a:ext cx="1111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49760" y="3983040"/>
                <a:ext cx="4680" cy="601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49760" y="3983040"/>
                <a:ext cx="1440" cy="601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10160" y="3983040"/>
                <a:ext cx="6120" cy="601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10160" y="3983040"/>
                <a:ext cx="1440" cy="601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73800" y="3983040"/>
                <a:ext cx="6120" cy="601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73800" y="3983040"/>
                <a:ext cx="1440" cy="601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91240" y="3983040"/>
                <a:ext cx="6480" cy="601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91240" y="3983040"/>
                <a:ext cx="1800" cy="601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711920" y="3983040"/>
                <a:ext cx="6480" cy="601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711920" y="3983040"/>
                <a:ext cx="1800" cy="601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4120" y="4702320"/>
                <a:ext cx="2541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self-employed on PHP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971880" y="470232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23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30840" y="470232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21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24440" y="470232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20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942240" y="470232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19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062920" y="470232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19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31840" y="4584600"/>
                <a:ext cx="35179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31840" y="4584600"/>
                <a:ext cx="351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749760" y="4584600"/>
                <a:ext cx="46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49760" y="4584600"/>
                <a:ext cx="4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49760" y="458460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54440" y="4584600"/>
                <a:ext cx="8557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54440" y="4584600"/>
                <a:ext cx="855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610160" y="4584600"/>
                <a:ext cx="61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10160" y="458460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10160" y="458460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16280" y="4584600"/>
                <a:ext cx="8575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16280" y="4584600"/>
                <a:ext cx="857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473800" y="4584600"/>
                <a:ext cx="61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73800" y="458460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73800" y="458460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79920" y="4584600"/>
                <a:ext cx="11113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479920" y="4584600"/>
                <a:ext cx="1111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591240" y="4584600"/>
                <a:ext cx="64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591240" y="458460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591240" y="458460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97720" y="4584600"/>
                <a:ext cx="111420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597720" y="4584600"/>
                <a:ext cx="1114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711920" y="4584600"/>
                <a:ext cx="64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11920" y="458460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11920" y="458460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718400" y="4584600"/>
                <a:ext cx="11113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718400" y="4584600"/>
                <a:ext cx="1111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49760" y="4591080"/>
                <a:ext cx="468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49760" y="4591080"/>
                <a:ext cx="144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610160" y="4591080"/>
                <a:ext cx="612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10160" y="4591080"/>
                <a:ext cx="144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73800" y="4591080"/>
                <a:ext cx="612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73800" y="4591080"/>
                <a:ext cx="144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91240" y="4591080"/>
                <a:ext cx="648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591240" y="4591080"/>
                <a:ext cx="180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711920" y="4591080"/>
                <a:ext cx="648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711920" y="4591080"/>
                <a:ext cx="180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4120" y="5176800"/>
                <a:ext cx="1347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unemploye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971880" y="517680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17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830840" y="517680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17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24440" y="517680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18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42240" y="517680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19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062920" y="5176800"/>
                <a:ext cx="44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22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8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31840" y="5060880"/>
                <a:ext cx="35179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31840" y="5060880"/>
                <a:ext cx="351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749760" y="5060880"/>
                <a:ext cx="46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749760" y="5060880"/>
                <a:ext cx="4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49760" y="506088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754440" y="5060880"/>
                <a:ext cx="8557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754440" y="5060880"/>
                <a:ext cx="855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610160" y="5060880"/>
                <a:ext cx="61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10160" y="506088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610160" y="506088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16280" y="5060880"/>
                <a:ext cx="8575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616280" y="5060880"/>
                <a:ext cx="857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473800" y="5060880"/>
                <a:ext cx="61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473800" y="506088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473800" y="506088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79920" y="5060880"/>
                <a:ext cx="11113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79920" y="5060880"/>
                <a:ext cx="1111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91240" y="5060880"/>
                <a:ext cx="64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591240" y="506088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91240" y="506088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597720" y="5060880"/>
                <a:ext cx="111420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97720" y="5060880"/>
                <a:ext cx="1114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711920" y="5060880"/>
                <a:ext cx="64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711920" y="506088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711920" y="506088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718400" y="5060880"/>
                <a:ext cx="11113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18400" y="5060880"/>
                <a:ext cx="1111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749760" y="5067360"/>
                <a:ext cx="468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749760" y="5067360"/>
                <a:ext cx="144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610160" y="5067360"/>
                <a:ext cx="612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610160" y="5067360"/>
                <a:ext cx="144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73800" y="5067360"/>
                <a:ext cx="612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73800" y="5067360"/>
                <a:ext cx="144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91240" y="5067360"/>
                <a:ext cx="648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91240" y="5067360"/>
                <a:ext cx="180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711920" y="5067360"/>
                <a:ext cx="6480" cy="46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711920" y="5067360"/>
                <a:ext cx="180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01680" y="5721480"/>
                <a:ext cx="2870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Registered unemploymen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1680" y="5985000"/>
                <a:ext cx="90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rate, (%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753560" y="59850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030560" y="5908680"/>
                <a:ext cx="317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92760" y="5908680"/>
                <a:ext cx="317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83120" y="5908680"/>
                <a:ext cx="317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02360" y="5908680"/>
                <a:ext cx="317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121600" y="5908680"/>
                <a:ext cx="317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.</a:t>
                </a: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1840" y="5537160"/>
                <a:ext cx="351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31840" y="5537160"/>
                <a:ext cx="351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1840" y="5554800"/>
                <a:ext cx="351792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1840" y="5554800"/>
                <a:ext cx="351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31840" y="5602320"/>
                <a:ext cx="351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31840" y="5602320"/>
                <a:ext cx="351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49760" y="5611680"/>
                <a:ext cx="468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49760" y="5611680"/>
                <a:ext cx="4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49760" y="5537160"/>
                <a:ext cx="71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49760" y="5537160"/>
                <a:ext cx="71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49760" y="5554800"/>
                <a:ext cx="7128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49760" y="5554800"/>
                <a:ext cx="71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49760" y="5602320"/>
                <a:ext cx="71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49760" y="5602320"/>
                <a:ext cx="71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21040" y="5537160"/>
                <a:ext cx="789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821040" y="5537160"/>
                <a:ext cx="789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821040" y="5554800"/>
                <a:ext cx="78912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21040" y="5554800"/>
                <a:ext cx="78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821040" y="5602320"/>
                <a:ext cx="7891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821040" y="5602320"/>
                <a:ext cx="78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10160" y="5611680"/>
                <a:ext cx="612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610160" y="561168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10160" y="5537160"/>
                <a:ext cx="71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10160" y="5537160"/>
                <a:ext cx="71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610160" y="5554800"/>
                <a:ext cx="7128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10160" y="5554800"/>
                <a:ext cx="71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10160" y="5602320"/>
                <a:ext cx="71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610160" y="5602320"/>
                <a:ext cx="71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681440" y="5537160"/>
                <a:ext cx="792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681440" y="5537160"/>
                <a:ext cx="792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681440" y="5554800"/>
                <a:ext cx="79236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681440" y="5554800"/>
                <a:ext cx="792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681440" y="5602320"/>
                <a:ext cx="792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681440" y="5602320"/>
                <a:ext cx="792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473800" y="5611680"/>
                <a:ext cx="612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73800" y="561168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473800" y="5537160"/>
                <a:ext cx="71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473800" y="5537160"/>
                <a:ext cx="71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473800" y="5554800"/>
                <a:ext cx="7128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473800" y="5554800"/>
                <a:ext cx="71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473800" y="5602320"/>
                <a:ext cx="71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473800" y="5602320"/>
                <a:ext cx="71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545080" y="5537160"/>
                <a:ext cx="1046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545080" y="5537160"/>
                <a:ext cx="1046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545080" y="5554800"/>
                <a:ext cx="104616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545080" y="5554800"/>
                <a:ext cx="104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45080" y="5602320"/>
                <a:ext cx="1046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45080" y="5602320"/>
                <a:ext cx="104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591240" y="5611680"/>
                <a:ext cx="648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591240" y="561168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591240" y="5537160"/>
                <a:ext cx="730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591240" y="5537160"/>
                <a:ext cx="73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591240" y="5554800"/>
                <a:ext cx="7308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591240" y="5554800"/>
                <a:ext cx="73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591240" y="560232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591240" y="5602320"/>
                <a:ext cx="73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664320" y="5537160"/>
                <a:ext cx="1047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664320" y="5537160"/>
                <a:ext cx="1047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664320" y="5554800"/>
                <a:ext cx="104760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664320" y="5554800"/>
                <a:ext cx="1047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664320" y="5602320"/>
                <a:ext cx="10476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664320" y="5602320"/>
                <a:ext cx="1047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711920" y="5611680"/>
                <a:ext cx="648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7711920" y="56116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11920" y="5537160"/>
              <a:ext cx="71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11920" y="5537160"/>
              <a:ext cx="71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11920" y="5554800"/>
              <a:ext cx="716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11920" y="5554800"/>
              <a:ext cx="71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711920" y="5602320"/>
              <a:ext cx="71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11920" y="5602320"/>
              <a:ext cx="71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83560" y="5537160"/>
              <a:ext cx="1046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783560" y="5537160"/>
              <a:ext cx="1046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83560" y="5554800"/>
              <a:ext cx="1046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783560" y="5554800"/>
              <a:ext cx="104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83560" y="5602320"/>
              <a:ext cx="1046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83560" y="5602320"/>
              <a:ext cx="104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49760" y="5613480"/>
              <a:ext cx="4680" cy="60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49760" y="5613480"/>
              <a:ext cx="1440" cy="60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10160" y="5613480"/>
              <a:ext cx="6120" cy="60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10160" y="5613480"/>
              <a:ext cx="1440" cy="60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473800" y="5613480"/>
              <a:ext cx="6120" cy="60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73800" y="5613480"/>
              <a:ext cx="1440" cy="60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91240" y="5613480"/>
              <a:ext cx="6480" cy="60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91240" y="5613480"/>
              <a:ext cx="1800" cy="60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11920" y="5613480"/>
              <a:ext cx="6480" cy="60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11920" y="5613480"/>
              <a:ext cx="1800" cy="60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04920" y="204840"/>
            <a:ext cx="84582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umber of Social Infrastructure Objects per Rural Administration (on aver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5000" y="4689360"/>
            <a:ext cx="238320" cy="1247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93920" y="4270320"/>
            <a:ext cx="237960" cy="1666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21040" y="2620800"/>
            <a:ext cx="237960" cy="3316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49600" y="4365720"/>
            <a:ext cx="228600" cy="157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68800" y="4375080"/>
            <a:ext cx="237960" cy="15620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97360" y="4870440"/>
            <a:ext cx="23796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25920" y="4518000"/>
            <a:ext cx="236520" cy="1419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53040" y="4975200"/>
            <a:ext cx="237960" cy="9619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81600" y="5146560"/>
            <a:ext cx="238320" cy="79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10160" y="4498920"/>
            <a:ext cx="228600" cy="14382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29360" y="5079960"/>
            <a:ext cx="23832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56480" y="5423040"/>
            <a:ext cx="238320" cy="514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85040" y="5851440"/>
            <a:ext cx="238320" cy="856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03320" y="4708440"/>
            <a:ext cx="228600" cy="1228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31880" y="4660920"/>
            <a:ext cx="227160" cy="1276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59000" y="1487520"/>
            <a:ext cx="228600" cy="4449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78200" y="4146480"/>
            <a:ext cx="228600" cy="1790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06760" y="4336920"/>
            <a:ext cx="22860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35320" y="5222880"/>
            <a:ext cx="228600" cy="714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62440" y="4708440"/>
            <a:ext cx="228600" cy="1228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91000" y="4937040"/>
            <a:ext cx="228600" cy="1000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19920" y="5356080"/>
            <a:ext cx="228600" cy="5810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638760" y="5375160"/>
            <a:ext cx="228600" cy="561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67680" y="5146560"/>
            <a:ext cx="226800" cy="790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94800" y="5661000"/>
            <a:ext cx="22860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523360" y="5794200"/>
            <a:ext cx="22860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9040" y="1449360"/>
            <a:ext cx="1440" cy="448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1800" y="5937120"/>
            <a:ext cx="57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1800" y="5375160"/>
            <a:ext cx="57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31800" y="4813200"/>
            <a:ext cx="57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1800" y="4251240"/>
            <a:ext cx="57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1800" y="3699000"/>
            <a:ext cx="57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1800" y="3135240"/>
            <a:ext cx="57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31800" y="2573280"/>
            <a:ext cx="57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1800" y="2011320"/>
            <a:ext cx="57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31800" y="1449360"/>
            <a:ext cx="57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5400000">
            <a:off x="605520" y="393876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5400000">
            <a:off x="1047240" y="3427920"/>
            <a:ext cx="110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ub ho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3558960" y="3938760"/>
            <a:ext cx="126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ndergar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5400000">
            <a:off x="3223440" y="3597480"/>
            <a:ext cx="67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5400000">
            <a:off x="4133880" y="3581640"/>
            <a:ext cx="140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cal cen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5400000">
            <a:off x="4930560" y="4007880"/>
            <a:ext cx="96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sto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5400000">
            <a:off x="5420520" y="4165920"/>
            <a:ext cx="128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anch bank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5400000">
            <a:off x="5737680" y="3952440"/>
            <a:ext cx="202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th and washho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5400000">
            <a:off x="7092360" y="4423680"/>
            <a:ext cx="43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7181280" y="4277160"/>
            <a:ext cx="136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rber’s sho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5400000">
            <a:off x="7891560" y="456012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trol s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5400000">
            <a:off x="1631520" y="2401560"/>
            <a:ext cx="253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ufactured goods sho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1656000" y="1953360"/>
            <a:ext cx="103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od sho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1640" y="5823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1640" y="5261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1640" y="4699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1640" y="413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1640" y="3583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1640" y="3021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1640" y="2459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1640" y="189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31640" y="1335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513560" y="1515960"/>
            <a:ext cx="1047960" cy="8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99240" y="1649520"/>
            <a:ext cx="181080" cy="180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63480" y="1573200"/>
            <a:ext cx="653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99240" y="2049480"/>
            <a:ext cx="18108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863480" y="1973160"/>
            <a:ext cx="653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04920" y="204840"/>
            <a:ext cx="845820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ject Support to the Development of Small Business in Service Sector in Novosil Rayon, Oryol Obla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880" y="1143000"/>
            <a:ext cx="7620120" cy="6426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Number of legal and economic consultations provided to individual entrepreneurs engaged in service se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0880" y="2357280"/>
            <a:ext cx="76201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Number of people attended the workshop “How to start a busines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0880" y="2744640"/>
            <a:ext cx="76201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d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luding those who actually started their busi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80880" y="3405240"/>
            <a:ext cx="7620120" cy="749160"/>
            <a:chOff x="380880" y="3405240"/>
            <a:chExt cx="7620120" cy="749160"/>
          </a:xfrm>
        </p:grpSpPr>
        <p:sp>
          <p:nvSpPr>
            <p:cNvPr id="550" name=""/>
            <p:cNvSpPr/>
            <p:nvPr/>
          </p:nvSpPr>
          <p:spPr>
            <a:xfrm>
              <a:off x="380880" y="3405240"/>
              <a:ext cx="762012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Number of people re-trained with the Employment Centre sup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0880" y="3786120"/>
              <a:ext cx="762012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76280" indent="-476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3300"/>
                  </a:solidFill>
                  <a:latin typeface="Arial"/>
                </a:rPr>
                <a:t>        </a:t>
              </a: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including those who got registered as individual entrepreneu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80880" y="4726080"/>
            <a:ext cx="7620120" cy="766440"/>
            <a:chOff x="380880" y="4726080"/>
            <a:chExt cx="7620120" cy="766440"/>
          </a:xfrm>
        </p:grpSpPr>
        <p:sp>
          <p:nvSpPr>
            <p:cNvPr id="553" name=""/>
            <p:cNvSpPr/>
            <p:nvPr/>
          </p:nvSpPr>
          <p:spPr>
            <a:xfrm>
              <a:off x="380880" y="4726080"/>
              <a:ext cx="7620120" cy="36828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  <a:effectLst>
              <a:outerShdw dist="107932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Number of loans extended to off-farm business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0880" y="5124240"/>
              <a:ext cx="7620120" cy="36828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  <a:effectLst>
              <a:outerShdw dist="107932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cluding to entrepreneurs in service sec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80880" y="5791320"/>
            <a:ext cx="76201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Number of jobs created by entrepreneurs in service se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229600" y="1447920"/>
            <a:ext cx="6094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229600" y="2362320"/>
            <a:ext cx="609480" cy="3682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229600" y="2781360"/>
            <a:ext cx="609480" cy="3682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229600" y="4724280"/>
            <a:ext cx="609480" cy="3682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229600" y="5110200"/>
            <a:ext cx="609480" cy="3682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229600" y="3429000"/>
            <a:ext cx="6094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229600" y="3852720"/>
            <a:ext cx="6094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229600" y="5791320"/>
            <a:ext cx="6094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457200" y="304920"/>
            <a:ext cx="786456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ervices Provided by SRLP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o Olga Slesarenk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3520" y="1523880"/>
            <a:ext cx="78483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nformation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On FSAR “AgroMIR”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On activities of the club for unemployed women “Nadezhd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Training at the workshop “How to start a busines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Technical tra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eg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Support with the shop regist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conomic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Development of a business-project for the sh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Development of business-plan for a purchase of a vehi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Development of business plan for a purchase of a refrigeration cha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Development of a business-project for milk coll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echnic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Use of premixes in poultry, pig and cattle feed 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Home-made cheese prod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457200" y="304920"/>
            <a:ext cx="838188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he Role of Business Initiative in the Development of Rural Social Infra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0800000">
            <a:off x="4648320" y="3397320"/>
            <a:ext cx="4114800" cy="1295280"/>
          </a:xfrm>
          <a:custGeom>
            <a:avLst/>
            <a:gdLst>
              <a:gd name="textAreaLeft" fmla="*/ 904680 w 4114800"/>
              <a:gd name="textAreaRight" fmla="*/ 3210120 w 411480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663300"/>
            </a:solidFill>
            <a:miter/>
          </a:ln>
          <a:effectLst>
            <a:outerShdw dist="176340" dir="1816901" blurRad="0" rotWithShape="0">
              <a:srgbClr val="438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ark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integ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milk collector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0800000">
            <a:off x="380880" y="3397320"/>
            <a:ext cx="4114800" cy="1295280"/>
          </a:xfrm>
          <a:custGeom>
            <a:avLst/>
            <a:gdLst>
              <a:gd name="textAreaLeft" fmla="*/ 904680 w 4114800"/>
              <a:gd name="textAreaRight" fmla="*/ 3210120 w 411480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663300"/>
            </a:solidFill>
            <a:miter/>
          </a:ln>
          <a:effectLst>
            <a:outerShdw dist="176340" dir="1816901" blurRad="0" rotWithShape="0">
              <a:srgbClr val="438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Individu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entrepren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hop owner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2196600">
            <a:off x="1981080" y="2558880"/>
            <a:ext cx="99072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19008600">
            <a:off x="5638680" y="2406240"/>
            <a:ext cx="990720" cy="1219320"/>
          </a:xfrm>
          <a:prstGeom prst="downArrow">
            <a:avLst>
              <a:gd name="adj1" fmla="val 50000"/>
              <a:gd name="adj2" fmla="val 30769"/>
            </a:avLst>
          </a:prstGeom>
          <a:solidFill>
            <a:srgbClr val="00ff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14600" y="1644480"/>
            <a:ext cx="3429000" cy="14479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  <a:effectLst>
            <a:outerShdw dist="17819" dir="27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Slesarenk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8600" y="4921200"/>
            <a:ext cx="4267080" cy="1219320"/>
          </a:xfrm>
          <a:prstGeom prst="rect">
            <a:avLst/>
          </a:prstGeom>
          <a:noFill/>
          <a:ln w="9360">
            <a:solidFill>
              <a:srgbClr val="316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ervice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80 househo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(27%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to the total number of househo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in Khvorostyanskaya rural admi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8320" y="4921200"/>
            <a:ext cx="4267080" cy="1219320"/>
          </a:xfrm>
          <a:prstGeom prst="rect">
            <a:avLst/>
          </a:prstGeom>
          <a:noFill/>
          <a:ln w="9360">
            <a:solidFill>
              <a:srgbClr val="316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ervice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26 househo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(25% to the total number of househo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keeping dairy cow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304920" y="204840"/>
            <a:ext cx="845820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RLPP Lessons Learned in Small Business Support and Service Sector Develop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to civil society organisations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2133720"/>
            <a:ext cx="7772400" cy="761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to private initia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3048120"/>
            <a:ext cx="7772400" cy="761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-going advisory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3962520"/>
            <a:ext cx="7772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tion pro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4800600"/>
            <a:ext cx="7772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 to cre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5715000"/>
            <a:ext cx="7772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coming of administrative b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5:04:12Z</dcterms:created>
  <dc:creator>Яковлева</dc:creator>
  <dc:description/>
  <dc:language>en-US</dc:language>
  <cp:lastModifiedBy>Serafima Levkina</cp:lastModifiedBy>
  <dcterms:modified xsi:type="dcterms:W3CDTF">2003-07-01T10:20:45Z</dcterms:modified>
  <cp:revision>119</cp:revision>
  <dc:subject/>
  <dc:title>Заголовок слайда отсутствует</dc:title>
</cp:coreProperties>
</file>