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9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BF8-B42B-446E-8AD4-885555C2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FA2-10CD-4563-A819-CEA4E5CE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CDD-C763-4417-94CA-84D411CD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F31-98B4-4B8F-A7F3-83D2454C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CB53-0DF5-4941-BB16-7818C5BA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D915-FCE6-42D5-893C-637E436B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D7D7-96BF-4A84-ACC7-FB5D2568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5E28-D111-4485-AFC0-A1D5D770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5A26-49B1-4E14-89A8-C039CEF4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99F1-DDE5-47D2-B867-DC9FF9C4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3057-E8CA-411F-AA72-3BCF8C23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2AF-6B73-4170-AA5D-C89BC683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CE86-725A-4A51-8A57-AAAF91E0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CFB8-9B56-4E75-A370-7E34C644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843D-44B1-4901-8FFB-3962689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B3A5-833C-4F32-84AA-E75DF453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60AE-B696-44CD-9B0C-4D3981DF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926-CF2B-4431-A99E-41F91C61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AD6-7F27-4CEE-9279-A67C96DB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F71-674B-4A65-A22F-B7505804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345-2D9B-4102-A732-10D3C76B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34A-AE20-4069-B7AF-380FD1D4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E99-A22F-4F93-9AA5-64135347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DC6-4568-4301-82AA-F3E0546A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C3FF-7D46-4F86-8616-2544BFA77041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1620-BBC6-41F8-9866-424037CE82D4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usaid.gov/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bmz.de/index.html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ural Livelihoods in 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urope and Central As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iev Worksho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uly 200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Jessica Irv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Head, Europe &amp; Central Asia Depart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98920" y="0"/>
          <a:ext cx="644508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0"/>
                    <a:ext cx="6445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ow we wor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lateral program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ll budgets – need for fo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ly work alongside World Bank, EBRD etc – providing technical assista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re issues: governance, public admin reform, social policy, rural livelihoods, enterprise development, health, trade, PRSP develop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thin Whiteha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lobal Conflict Pool, Global Opportunities F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ultilater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S &amp; CARDS Committe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gagement with EBRD, World Bank &amp; IM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&amp; Programme Issues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Managing Accession proc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Winding down in some countr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Emphasis on development effectiven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paring next wave countr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Lesson learning/experience sh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stablishment of DFID-Russia &amp; Ukra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vercommitted project pipe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creasing budget in Russ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Balkans – likely to remain high pro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mplications of Djindjic’s assassin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entral Asia – increasing spotl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BRD Annual Mee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rease in donor activity in CIS-7 count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fluencing others: poor performers &amp; don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lus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CIS review, Wider Europe proximity instru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&amp; Programme Issues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ural Livelihoo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FID supported rural development projects since early 1990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nd reform, market liberalis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om 199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re holistic rural livelihoods approa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iloted at regional level -&gt; impact on national 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and codes, third party arbitr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sson Sharing Workshop 200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ss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85800" y="2590920"/>
            <a:ext cx="2971800" cy="1752480"/>
            <a:chOff x="685800" y="2590920"/>
            <a:chExt cx="2971800" cy="1752480"/>
          </a:xfrm>
        </p:grpSpPr>
        <p:sp>
          <p:nvSpPr>
            <p:cNvPr id="330" name=""/>
            <p:cNvSpPr/>
            <p:nvPr/>
          </p:nvSpPr>
          <p:spPr>
            <a:xfrm>
              <a:off x="685800" y="2590920"/>
              <a:ext cx="2971800" cy="1752480"/>
            </a:xfrm>
            <a:custGeom>
              <a:avLst/>
              <a:gdLst>
                <a:gd name="textAreaLeft" fmla="*/ 678240 w 2971800"/>
                <a:gd name="textAreaRight" fmla="*/ 2293560 w 2971800"/>
                <a:gd name="textAreaTop" fmla="*/ 399960 h 1752480"/>
                <a:gd name="textAreaBottom" fmla="*/ 13525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71600" y="3048120"/>
              <a:ext cx="167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Arial Narrow"/>
                </a:rPr>
                <a:t>PRSP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990720" y="4114800"/>
            <a:ext cx="3124080" cy="993240"/>
            <a:chOff x="990720" y="4114800"/>
            <a:chExt cx="3124080" cy="993240"/>
          </a:xfrm>
        </p:grpSpPr>
        <p:sp>
          <p:nvSpPr>
            <p:cNvPr id="333" name=""/>
            <p:cNvSpPr/>
            <p:nvPr/>
          </p:nvSpPr>
          <p:spPr>
            <a:xfrm>
              <a:off x="1371600" y="46483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Rural developmen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4114800"/>
              <a:ext cx="380880" cy="99072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73160 h 990720"/>
                <a:gd name="textAreaBottom" fmla="*/ 71820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712320" y="2590920"/>
            <a:ext cx="2917080" cy="1448640"/>
            <a:chOff x="3712320" y="2590920"/>
            <a:chExt cx="2917080" cy="1448640"/>
          </a:xfrm>
        </p:grpSpPr>
        <p:sp>
          <p:nvSpPr>
            <p:cNvPr id="336" name=""/>
            <p:cNvSpPr/>
            <p:nvPr/>
          </p:nvSpPr>
          <p:spPr>
            <a:xfrm>
              <a:off x="3886200" y="25909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Good governanc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8800">
              <a:off x="3885840" y="3123720"/>
              <a:ext cx="533520" cy="83844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46520 h 838440"/>
                <a:gd name="textAreaBottom" fmla="*/ 6080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616120" y="1997640"/>
            <a:ext cx="4013280" cy="881280"/>
            <a:chOff x="2616120" y="1997640"/>
            <a:chExt cx="4013280" cy="881280"/>
          </a:xfrm>
        </p:grpSpPr>
        <p:sp>
          <p:nvSpPr>
            <p:cNvPr id="339" name=""/>
            <p:cNvSpPr/>
            <p:nvPr/>
          </p:nvSpPr>
          <p:spPr>
            <a:xfrm>
              <a:off x="3657600" y="20574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Macroeconomic stability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3420000">
              <a:off x="2895120" y="1981080"/>
              <a:ext cx="457200" cy="9144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09880" y="3352680"/>
            <a:ext cx="3886200" cy="3562200"/>
            <a:chOff x="3809880" y="3352680"/>
            <a:chExt cx="3886200" cy="3562200"/>
          </a:xfrm>
        </p:grpSpPr>
        <p:sp>
          <p:nvSpPr>
            <p:cNvPr id="342" name=""/>
            <p:cNvSpPr/>
            <p:nvPr/>
          </p:nvSpPr>
          <p:spPr>
            <a:xfrm>
              <a:off x="3809880" y="3352680"/>
              <a:ext cx="3657600" cy="3505320"/>
            </a:xfrm>
            <a:prstGeom prst="leftArrowCallout">
              <a:avLst>
                <a:gd name="adj1" fmla="val 25002"/>
                <a:gd name="adj2" fmla="val 25000"/>
                <a:gd name="adj3" fmla="val 17391"/>
                <a:gd name="adj4" fmla="val 66673"/>
              </a:avLst>
            </a:prstGeom>
            <a:solidFill>
              <a:srgbClr val="ffff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2880" y="3429000"/>
              <a:ext cx="2743200" cy="3485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55bad"/>
                  </a:solidFill>
                  <a:latin typeface="Arial Narrow"/>
                </a:rPr>
                <a:t>Agricultu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55bad"/>
                  </a:solidFill>
                  <a:latin typeface="Arial Narrow"/>
                </a:rPr>
                <a:t>Natural Resources management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55bad"/>
                  </a:solidFill>
                  <a:latin typeface="Arial Narrow"/>
                </a:rPr>
                <a:t>Trad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55bad"/>
                  </a:solidFill>
                  <a:latin typeface="Arial Narrow"/>
                </a:rPr>
                <a:t>Environmental concern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55bad"/>
                  </a:solidFill>
                  <a:latin typeface="Arial Narrow"/>
                </a:rPr>
                <a:t>Social prioriti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55bad"/>
                  </a:solidFill>
                  <a:latin typeface="Arial Narrow"/>
                </a:rPr>
                <a:t>Local government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55bad"/>
                  </a:solidFill>
                  <a:latin typeface="Arial Narrow"/>
                </a:rPr>
                <a:t>Finance/budge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H="1" flipV="1" rot="19476600">
            <a:off x="6400440" y="914040"/>
            <a:ext cx="1143000" cy="205776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360000 h 2057760"/>
              <a:gd name="textAreaBottom" fmla="*/ 1491840 h 205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ications for 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-disciplinary 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r-ministerial 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U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CAD countr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rnational and regional iss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TO, CAP, proximity to E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gr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ordination with oth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orld Bank, EU 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velop ownership of rural livelihoods approach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st shar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derstand the needs of the po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fferentiated approac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engthen the ‘voice’ of the po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mand for servic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mprove local government manag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aling up Rural Livelihoods wor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stency and coordination with other approach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0" name="BD04972_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924280" cy="2192040"/>
          </a:xfrm>
          <a:prstGeom prst="rect">
            <a:avLst/>
          </a:prstGeom>
          <a:ln w="0">
            <a:noFill/>
          </a:ln>
        </p:spPr>
      </p:pic>
      <p:pic>
        <p:nvPicPr>
          <p:cNvPr id="351" name="PE01561_" descr=""/>
          <p:cNvPicPr/>
          <p:nvPr/>
        </p:nvPicPr>
        <p:blipFill>
          <a:blip r:embed="rId2"/>
          <a:stretch/>
        </p:blipFill>
        <p:spPr>
          <a:xfrm>
            <a:off x="4952880" y="3897360"/>
            <a:ext cx="38862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Questions and Discus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53" name="BD00028_" descr=""/>
          <p:cNvPicPr/>
          <p:nvPr/>
        </p:nvPicPr>
        <p:blipFill>
          <a:blip r:embed="rId1"/>
          <a:stretch/>
        </p:blipFill>
        <p:spPr>
          <a:xfrm>
            <a:off x="3352680" y="2419200"/>
            <a:ext cx="28195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important ev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change 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are best prac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Kiev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j0189702" descr=""/>
          <p:cNvPicPr/>
          <p:nvPr/>
        </p:nvPicPr>
        <p:blipFill>
          <a:blip r:embed="rId1"/>
          <a:stretch/>
        </p:blipFill>
        <p:spPr>
          <a:xfrm>
            <a:off x="3657600" y="4408560"/>
            <a:ext cx="2832120" cy="2220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rot="20446200">
            <a:off x="5334120" y="3428640"/>
            <a:ext cx="1676160" cy="60912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81360 h 609120"/>
              <a:gd name="textAreaBottom" fmla="*/ 527760 h 60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5213000">
            <a:off x="2057040" y="4876920"/>
            <a:ext cx="1676520" cy="609120"/>
          </a:xfrm>
          <a:custGeom>
            <a:avLst/>
            <a:gdLst>
              <a:gd name="textAreaLeft" fmla="*/ 293040 w 1676520"/>
              <a:gd name="textAreaRight" fmla="*/ 1215360 w 1676520"/>
              <a:gd name="textAreaTop" fmla="*/ 81360 h 609120"/>
              <a:gd name="textAreaBottom" fmla="*/ 527760 h 60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06200">
            <a:off x="6933960" y="5028840"/>
            <a:ext cx="1676160" cy="60948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29528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a"/>
                </a:solidFill>
                <a:latin typeface="Arial"/>
              </a:rPr>
              <a:t>Millennium Development Goal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a"/>
                </a:solidFill>
                <a:latin typeface="Arial"/>
              </a:rPr>
              <a:t>White Papers I and II/TSP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66688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a"/>
                </a:solidFill>
                <a:latin typeface="Arial"/>
              </a:rPr>
              <a:t>DFID Public Service Agreemen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35268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a"/>
                </a:solidFill>
                <a:latin typeface="Arial"/>
              </a:rPr>
              <a:t>Directors’ Plans for PSA deliver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03848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a"/>
                </a:solidFill>
                <a:latin typeface="Arial"/>
              </a:rPr>
              <a:t>Country Assistance Plan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48640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a"/>
                </a:solidFill>
                <a:latin typeface="Arial"/>
              </a:rPr>
              <a:t>Team Objectiv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17220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a"/>
                </a:solidFill>
                <a:latin typeface="Arial"/>
              </a:rPr>
              <a:t>Personal Development Plan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1447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1981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666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 yea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3429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 yea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4114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 years, annual upda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nnual with 6 monthly review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5486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Updated at least annual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158760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213372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281952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58128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426708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563868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24852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81080" y="586692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81080" y="449532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81080" y="373356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981080" y="304776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304740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236160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67580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373320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49496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586656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80060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a"/>
                </a:solidFill>
                <a:latin typeface="Arial"/>
              </a:rPr>
              <a:t>Departmental Objectiv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81080" y="518112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518076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nnu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95288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bd189"/>
                </a:solidFill>
                <a:latin typeface="Arial"/>
              </a:rPr>
              <a:t>DFID’s Strategy </a:t>
            </a:r>
            <a:r>
              <a:rPr b="1" lang="en-GB" sz="3200" spc="-1" strike="noStrike">
                <a:solidFill>
                  <a:srgbClr val="ebd189"/>
                </a:solidFill>
                <a:latin typeface="Arial"/>
              </a:rPr>
              <a:t>&amp;</a:t>
            </a:r>
            <a:r>
              <a:rPr b="1" lang="en-GB" sz="4400" spc="-1" strike="noStrike">
                <a:solidFill>
                  <a:srgbClr val="ebd189"/>
                </a:solidFill>
                <a:latin typeface="Arial"/>
              </a:rPr>
              <a:t> Objectiv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urope &amp; Central Asia Dep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cession Count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land, Hungary, Czech Republic, Slovakia, Estonia, Latvia, Lithuania, Slovenia,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ypru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Mal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xt Wa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lgaria, Romania, Turk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mer Soviet Un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ussia, Ukraine, Belarus, Kazakhst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8840" y="15238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lk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roatia, Bosnia, Serbia &amp; Montenegro, Kosovo, Macedonia, Alban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IS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menia, Azerbaijan, Georgia, Moldova, Uzbekistan, Kyrgyz Rep, Tajikistan, Turkmenist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809880"/>
            <a:ext cx="1143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029200"/>
            <a:ext cx="1143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BD14755_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1515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r World’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57" name="j0189475" descr=""/>
          <p:cNvPicPr/>
          <p:nvPr/>
        </p:nvPicPr>
        <p:blipFill>
          <a:blip r:embed="rId1"/>
          <a:stretch/>
        </p:blipFill>
        <p:spPr>
          <a:xfrm>
            <a:off x="1066680" y="1658880"/>
            <a:ext cx="3810240" cy="239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5429160" y="1781280"/>
          <a:ext cx="3105360" cy="46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9160" y="1781280"/>
                    <a:ext cx="310536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j0148411" descr=""/>
          <p:cNvPicPr/>
          <p:nvPr/>
        </p:nvPicPr>
        <p:blipFill>
          <a:blip r:embed="rId4"/>
          <a:stretch/>
        </p:blipFill>
        <p:spPr>
          <a:xfrm>
            <a:off x="1295280" y="446868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y Facts for ECA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 countri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tal population: 474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verty - 5%: $1/day; 20%: $2/d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ed with: 1% &amp; 9% in 199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tal aid flows: $7bill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stest growing HIV/AIDS epide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avily indebted: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menia, Georgia, Tajikistan, Moldova, Kyrgyz Re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flict: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orgia, Moldova, Tajikistan &amp; the Balkans, Armenia &amp; Azerbaij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mon Issu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ransition and develop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unctioning market econom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eak institutions &amp; capacity to implement refo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rganised crime and corrup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efficient and financially unsustainable social &amp; health 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U Accession &amp; NATO membershi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gnificant driver for refor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ural issues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nd refor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conomic growth, markets, fina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CAD Aid Budg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11240" y="5977080"/>
            <a:ext cx="6764400" cy="109440"/>
          </a:xfrm>
          <a:custGeom>
            <a:avLst/>
            <a:gdLst/>
            <a:ahLst/>
            <a:rect l="l" t="t" r="r" b="b"/>
            <a:pathLst>
              <a:path w="4261" h="69">
                <a:moveTo>
                  <a:pt x="0" y="69"/>
                </a:moveTo>
                <a:lnTo>
                  <a:pt x="86" y="0"/>
                </a:lnTo>
                <a:lnTo>
                  <a:pt x="4261" y="0"/>
                </a:lnTo>
                <a:lnTo>
                  <a:pt x="4174" y="69"/>
                </a:lnTo>
                <a:lnTo>
                  <a:pt x="0" y="6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1240" y="1735200"/>
            <a:ext cx="136800" cy="4351320"/>
          </a:xfrm>
          <a:custGeom>
            <a:avLst/>
            <a:gdLst/>
            <a:ahLst/>
            <a:rect l="l" t="t" r="r" b="b"/>
            <a:pathLst>
              <a:path w="86" h="2741">
                <a:moveTo>
                  <a:pt x="0" y="2741"/>
                </a:moveTo>
                <a:lnTo>
                  <a:pt x="0" y="69"/>
                </a:lnTo>
                <a:lnTo>
                  <a:pt x="86" y="0"/>
                </a:lnTo>
                <a:lnTo>
                  <a:pt x="86" y="2672"/>
                </a:lnTo>
                <a:lnTo>
                  <a:pt x="0" y="27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8040" y="1735200"/>
            <a:ext cx="66276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11240" y="5977080"/>
            <a:ext cx="6764400" cy="109440"/>
          </a:xfrm>
          <a:custGeom>
            <a:avLst/>
            <a:gdLst/>
            <a:ahLst/>
            <a:rect l="l" t="t" r="r" b="b"/>
            <a:pathLst>
              <a:path w="740" h="12">
                <a:moveTo>
                  <a:pt x="0" y="12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1240" y="5556240"/>
            <a:ext cx="6764400" cy="1000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11240" y="5135400"/>
            <a:ext cx="6764400" cy="1000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1240" y="4705200"/>
            <a:ext cx="6764400" cy="1018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1240" y="4286160"/>
            <a:ext cx="6764400" cy="1000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11240" y="3855960"/>
            <a:ext cx="6764400" cy="109440"/>
          </a:xfrm>
          <a:custGeom>
            <a:avLst/>
            <a:gdLst/>
            <a:ahLst/>
            <a:rect l="l" t="t" r="r" b="b"/>
            <a:pathLst>
              <a:path w="740" h="12">
                <a:moveTo>
                  <a:pt x="0" y="12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11240" y="3435480"/>
            <a:ext cx="6764400" cy="9972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1240" y="3014640"/>
            <a:ext cx="6764400" cy="1000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11240" y="2584440"/>
            <a:ext cx="6764400" cy="10152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1240" y="2165400"/>
            <a:ext cx="6764400" cy="1000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1240" y="1735200"/>
            <a:ext cx="6764400" cy="109440"/>
          </a:xfrm>
          <a:custGeom>
            <a:avLst/>
            <a:gdLst/>
            <a:ahLst/>
            <a:rect l="l" t="t" r="r" b="b"/>
            <a:pathLst>
              <a:path w="740" h="12">
                <a:moveTo>
                  <a:pt x="0" y="12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1240" y="5977080"/>
            <a:ext cx="6764400" cy="109440"/>
          </a:xfrm>
          <a:custGeom>
            <a:avLst/>
            <a:gdLst/>
            <a:ahLst/>
            <a:rect l="l" t="t" r="r" b="b"/>
            <a:pathLst>
              <a:path w="4261" h="69">
                <a:moveTo>
                  <a:pt x="4261" y="0"/>
                </a:moveTo>
                <a:lnTo>
                  <a:pt x="4174" y="69"/>
                </a:lnTo>
                <a:lnTo>
                  <a:pt x="0" y="69"/>
                </a:lnTo>
                <a:lnTo>
                  <a:pt x="86" y="0"/>
                </a:lnTo>
                <a:lnTo>
                  <a:pt x="426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11240" y="1735200"/>
            <a:ext cx="136800" cy="4351320"/>
          </a:xfrm>
          <a:custGeom>
            <a:avLst/>
            <a:gdLst/>
            <a:ahLst/>
            <a:rect l="l" t="t" r="r" b="b"/>
            <a:pathLst>
              <a:path w="86" h="2741">
                <a:moveTo>
                  <a:pt x="0" y="2741"/>
                </a:moveTo>
                <a:lnTo>
                  <a:pt x="0" y="69"/>
                </a:lnTo>
                <a:lnTo>
                  <a:pt x="86" y="0"/>
                </a:lnTo>
                <a:lnTo>
                  <a:pt x="86" y="2672"/>
                </a:lnTo>
                <a:lnTo>
                  <a:pt x="0" y="27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48040" y="1735200"/>
            <a:ext cx="66276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20840" y="5373720"/>
            <a:ext cx="55800" cy="676080"/>
          </a:xfrm>
          <a:custGeom>
            <a:avLst/>
            <a:gdLst/>
            <a:ahLst/>
            <a:rect l="l" t="t" r="r" b="b"/>
            <a:pathLst>
              <a:path w="35" h="426">
                <a:moveTo>
                  <a:pt x="0" y="426"/>
                </a:moveTo>
                <a:lnTo>
                  <a:pt x="0" y="29"/>
                </a:lnTo>
                <a:lnTo>
                  <a:pt x="35" y="0"/>
                </a:lnTo>
                <a:lnTo>
                  <a:pt x="35" y="403"/>
                </a:lnTo>
                <a:lnTo>
                  <a:pt x="0" y="426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65320" y="5419800"/>
            <a:ext cx="155520" cy="630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65320" y="5373720"/>
            <a:ext cx="211320" cy="46080"/>
          </a:xfrm>
          <a:custGeom>
            <a:avLst/>
            <a:gdLst/>
            <a:ahLst/>
            <a:rect l="l" t="t" r="r" b="b"/>
            <a:pathLst>
              <a:path w="133" h="29">
                <a:moveTo>
                  <a:pt x="98" y="29"/>
                </a:moveTo>
                <a:lnTo>
                  <a:pt x="133" y="0"/>
                </a:lnTo>
                <a:lnTo>
                  <a:pt x="35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14680" y="4743360"/>
            <a:ext cx="55440" cy="1306440"/>
          </a:xfrm>
          <a:custGeom>
            <a:avLst/>
            <a:gdLst/>
            <a:ahLst/>
            <a:rect l="l" t="t" r="r" b="b"/>
            <a:pathLst>
              <a:path w="35" h="823">
                <a:moveTo>
                  <a:pt x="0" y="823"/>
                </a:moveTo>
                <a:lnTo>
                  <a:pt x="0" y="23"/>
                </a:lnTo>
                <a:lnTo>
                  <a:pt x="35" y="0"/>
                </a:lnTo>
                <a:lnTo>
                  <a:pt x="35" y="800"/>
                </a:lnTo>
                <a:lnTo>
                  <a:pt x="0" y="823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59160" y="4780080"/>
            <a:ext cx="155520" cy="126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59160" y="4743360"/>
            <a:ext cx="210960" cy="36720"/>
          </a:xfrm>
          <a:custGeom>
            <a:avLst/>
            <a:gdLst/>
            <a:ahLst/>
            <a:rect l="l" t="t" r="r" b="b"/>
            <a:pathLst>
              <a:path w="133" h="23">
                <a:moveTo>
                  <a:pt x="98" y="23"/>
                </a:moveTo>
                <a:lnTo>
                  <a:pt x="133" y="0"/>
                </a:lnTo>
                <a:lnTo>
                  <a:pt x="35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08160" y="5291280"/>
            <a:ext cx="54000" cy="758520"/>
          </a:xfrm>
          <a:custGeom>
            <a:avLst/>
            <a:gdLst/>
            <a:ahLst/>
            <a:rect l="l" t="t" r="r" b="b"/>
            <a:pathLst>
              <a:path w="34" h="478">
                <a:moveTo>
                  <a:pt x="0" y="478"/>
                </a:moveTo>
                <a:lnTo>
                  <a:pt x="0" y="23"/>
                </a:lnTo>
                <a:lnTo>
                  <a:pt x="34" y="0"/>
                </a:lnTo>
                <a:lnTo>
                  <a:pt x="34" y="455"/>
                </a:lnTo>
                <a:lnTo>
                  <a:pt x="0" y="478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52640" y="5327640"/>
            <a:ext cx="155520" cy="722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2640" y="5291280"/>
            <a:ext cx="209520" cy="36360"/>
          </a:xfrm>
          <a:custGeom>
            <a:avLst/>
            <a:gdLst/>
            <a:ahLst/>
            <a:rect l="l" t="t" r="r" b="b"/>
            <a:pathLst>
              <a:path w="132" h="23">
                <a:moveTo>
                  <a:pt x="98" y="23"/>
                </a:moveTo>
                <a:lnTo>
                  <a:pt x="132" y="0"/>
                </a:lnTo>
                <a:lnTo>
                  <a:pt x="34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90840" y="5757840"/>
            <a:ext cx="55800" cy="291960"/>
          </a:xfrm>
          <a:custGeom>
            <a:avLst/>
            <a:gdLst/>
            <a:ahLst/>
            <a:rect l="l" t="t" r="r" b="b"/>
            <a:pathLst>
              <a:path w="35" h="184">
                <a:moveTo>
                  <a:pt x="0" y="184"/>
                </a:moveTo>
                <a:lnTo>
                  <a:pt x="0" y="23"/>
                </a:lnTo>
                <a:lnTo>
                  <a:pt x="35" y="0"/>
                </a:lnTo>
                <a:lnTo>
                  <a:pt x="35" y="161"/>
                </a:lnTo>
                <a:lnTo>
                  <a:pt x="0" y="184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36760" y="5794200"/>
            <a:ext cx="154080" cy="255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36760" y="5757840"/>
            <a:ext cx="209880" cy="36360"/>
          </a:xfrm>
          <a:custGeom>
            <a:avLst/>
            <a:gdLst/>
            <a:ahLst/>
            <a:rect l="l" t="t" r="r" b="b"/>
            <a:pathLst>
              <a:path w="132" h="23">
                <a:moveTo>
                  <a:pt x="97" y="23"/>
                </a:moveTo>
                <a:lnTo>
                  <a:pt x="132" y="0"/>
                </a:lnTo>
                <a:lnTo>
                  <a:pt x="34" y="0"/>
                </a:lnTo>
                <a:lnTo>
                  <a:pt x="0" y="23"/>
                </a:lnTo>
                <a:lnTo>
                  <a:pt x="97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5583240"/>
            <a:ext cx="55440" cy="466560"/>
          </a:xfrm>
          <a:custGeom>
            <a:avLst/>
            <a:gdLst/>
            <a:ahLst/>
            <a:rect l="l" t="t" r="r" b="b"/>
            <a:pathLst>
              <a:path w="35" h="294">
                <a:moveTo>
                  <a:pt x="0" y="294"/>
                </a:moveTo>
                <a:lnTo>
                  <a:pt x="0" y="29"/>
                </a:lnTo>
                <a:lnTo>
                  <a:pt x="35" y="0"/>
                </a:lnTo>
                <a:lnTo>
                  <a:pt x="35" y="271"/>
                </a:lnTo>
                <a:lnTo>
                  <a:pt x="0" y="294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29160" y="5629320"/>
            <a:ext cx="155520" cy="420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29160" y="5583240"/>
            <a:ext cx="210960" cy="46080"/>
          </a:xfrm>
          <a:custGeom>
            <a:avLst/>
            <a:gdLst/>
            <a:ahLst/>
            <a:rect l="l" t="t" r="r" b="b"/>
            <a:pathLst>
              <a:path w="133" h="29">
                <a:moveTo>
                  <a:pt x="98" y="29"/>
                </a:moveTo>
                <a:lnTo>
                  <a:pt x="133" y="0"/>
                </a:lnTo>
                <a:lnTo>
                  <a:pt x="35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78160" y="5904000"/>
            <a:ext cx="54000" cy="145800"/>
          </a:xfrm>
          <a:custGeom>
            <a:avLst/>
            <a:gdLst/>
            <a:ahLst/>
            <a:rect l="l" t="t" r="r" b="b"/>
            <a:pathLst>
              <a:path w="34" h="92">
                <a:moveTo>
                  <a:pt x="0" y="92"/>
                </a:moveTo>
                <a:lnTo>
                  <a:pt x="0" y="29"/>
                </a:lnTo>
                <a:lnTo>
                  <a:pt x="34" y="0"/>
                </a:lnTo>
                <a:lnTo>
                  <a:pt x="34" y="69"/>
                </a:lnTo>
                <a:lnTo>
                  <a:pt x="0" y="92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2640" y="5950080"/>
            <a:ext cx="155520" cy="9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22640" y="5904000"/>
            <a:ext cx="209520" cy="46080"/>
          </a:xfrm>
          <a:custGeom>
            <a:avLst/>
            <a:gdLst/>
            <a:ahLst/>
            <a:rect l="l" t="t" r="r" b="b"/>
            <a:pathLst>
              <a:path w="132" h="29">
                <a:moveTo>
                  <a:pt x="98" y="29"/>
                </a:moveTo>
                <a:lnTo>
                  <a:pt x="132" y="0"/>
                </a:lnTo>
                <a:lnTo>
                  <a:pt x="29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60840" y="5967360"/>
            <a:ext cx="55440" cy="82440"/>
          </a:xfrm>
          <a:custGeom>
            <a:avLst/>
            <a:gdLst/>
            <a:ahLst/>
            <a:rect l="l" t="t" r="r" b="b"/>
            <a:pathLst>
              <a:path w="35" h="52">
                <a:moveTo>
                  <a:pt x="0" y="52"/>
                </a:moveTo>
                <a:lnTo>
                  <a:pt x="0" y="29"/>
                </a:lnTo>
                <a:lnTo>
                  <a:pt x="35" y="0"/>
                </a:lnTo>
                <a:lnTo>
                  <a:pt x="35" y="29"/>
                </a:lnTo>
                <a:lnTo>
                  <a:pt x="0" y="52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06760" y="6013440"/>
            <a:ext cx="154080" cy="3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06760" y="5967360"/>
            <a:ext cx="209520" cy="46080"/>
          </a:xfrm>
          <a:custGeom>
            <a:avLst/>
            <a:gdLst/>
            <a:ahLst/>
            <a:rect l="l" t="t" r="r" b="b"/>
            <a:pathLst>
              <a:path w="132" h="29">
                <a:moveTo>
                  <a:pt x="97" y="29"/>
                </a:moveTo>
                <a:lnTo>
                  <a:pt x="132" y="0"/>
                </a:lnTo>
                <a:lnTo>
                  <a:pt x="34" y="0"/>
                </a:lnTo>
                <a:lnTo>
                  <a:pt x="0" y="29"/>
                </a:lnTo>
                <a:lnTo>
                  <a:pt x="97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4680" y="5227560"/>
            <a:ext cx="55440" cy="822240"/>
          </a:xfrm>
          <a:custGeom>
            <a:avLst/>
            <a:gdLst/>
            <a:ahLst/>
            <a:rect l="l" t="t" r="r" b="b"/>
            <a:pathLst>
              <a:path w="35" h="518">
                <a:moveTo>
                  <a:pt x="0" y="518"/>
                </a:moveTo>
                <a:lnTo>
                  <a:pt x="0" y="23"/>
                </a:lnTo>
                <a:lnTo>
                  <a:pt x="35" y="0"/>
                </a:lnTo>
                <a:lnTo>
                  <a:pt x="35" y="495"/>
                </a:lnTo>
                <a:lnTo>
                  <a:pt x="0" y="518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99160" y="5264280"/>
            <a:ext cx="155520" cy="785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99160" y="5227560"/>
            <a:ext cx="210960" cy="36720"/>
          </a:xfrm>
          <a:custGeom>
            <a:avLst/>
            <a:gdLst/>
            <a:ahLst/>
            <a:rect l="l" t="t" r="r" b="b"/>
            <a:pathLst>
              <a:path w="133" h="23">
                <a:moveTo>
                  <a:pt x="98" y="23"/>
                </a:moveTo>
                <a:lnTo>
                  <a:pt x="133" y="0"/>
                </a:lnTo>
                <a:lnTo>
                  <a:pt x="35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48160" y="5227560"/>
            <a:ext cx="44640" cy="822240"/>
          </a:xfrm>
          <a:custGeom>
            <a:avLst/>
            <a:gdLst/>
            <a:ahLst/>
            <a:rect l="l" t="t" r="r" b="b"/>
            <a:pathLst>
              <a:path w="28" h="518">
                <a:moveTo>
                  <a:pt x="0" y="518"/>
                </a:moveTo>
                <a:lnTo>
                  <a:pt x="0" y="23"/>
                </a:lnTo>
                <a:lnTo>
                  <a:pt x="28" y="0"/>
                </a:lnTo>
                <a:lnTo>
                  <a:pt x="28" y="495"/>
                </a:lnTo>
                <a:lnTo>
                  <a:pt x="0" y="518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92640" y="5264280"/>
            <a:ext cx="155520" cy="785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92640" y="5227560"/>
            <a:ext cx="200160" cy="36720"/>
          </a:xfrm>
          <a:custGeom>
            <a:avLst/>
            <a:gdLst/>
            <a:ahLst/>
            <a:rect l="l" t="t" r="r" b="b"/>
            <a:pathLst>
              <a:path w="126" h="23">
                <a:moveTo>
                  <a:pt x="98" y="23"/>
                </a:moveTo>
                <a:lnTo>
                  <a:pt x="126" y="0"/>
                </a:lnTo>
                <a:lnTo>
                  <a:pt x="29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32640" y="5162400"/>
            <a:ext cx="53640" cy="887400"/>
          </a:xfrm>
          <a:custGeom>
            <a:avLst/>
            <a:gdLst/>
            <a:ahLst/>
            <a:rect l="l" t="t" r="r" b="b"/>
            <a:pathLst>
              <a:path w="34" h="559">
                <a:moveTo>
                  <a:pt x="0" y="559"/>
                </a:moveTo>
                <a:lnTo>
                  <a:pt x="0" y="23"/>
                </a:lnTo>
                <a:lnTo>
                  <a:pt x="34" y="0"/>
                </a:lnTo>
                <a:lnTo>
                  <a:pt x="34" y="536"/>
                </a:lnTo>
                <a:lnTo>
                  <a:pt x="0" y="559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76760" y="5199120"/>
            <a:ext cx="155880" cy="850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76760" y="5162400"/>
            <a:ext cx="209520" cy="36720"/>
          </a:xfrm>
          <a:custGeom>
            <a:avLst/>
            <a:gdLst/>
            <a:ahLst/>
            <a:rect l="l" t="t" r="r" b="b"/>
            <a:pathLst>
              <a:path w="132" h="23">
                <a:moveTo>
                  <a:pt x="98" y="23"/>
                </a:moveTo>
                <a:lnTo>
                  <a:pt x="132" y="0"/>
                </a:lnTo>
                <a:lnTo>
                  <a:pt x="34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24680" y="1835280"/>
            <a:ext cx="55440" cy="4214520"/>
          </a:xfrm>
          <a:custGeom>
            <a:avLst/>
            <a:gdLst/>
            <a:ahLst/>
            <a:rect l="l" t="t" r="r" b="b"/>
            <a:pathLst>
              <a:path w="35" h="2655">
                <a:moveTo>
                  <a:pt x="0" y="2655"/>
                </a:moveTo>
                <a:lnTo>
                  <a:pt x="0" y="23"/>
                </a:lnTo>
                <a:lnTo>
                  <a:pt x="35" y="0"/>
                </a:lnTo>
                <a:lnTo>
                  <a:pt x="35" y="2632"/>
                </a:lnTo>
                <a:lnTo>
                  <a:pt x="0" y="2655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69160" y="1871640"/>
            <a:ext cx="155520" cy="4178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69160" y="1835280"/>
            <a:ext cx="210960" cy="36360"/>
          </a:xfrm>
          <a:custGeom>
            <a:avLst/>
            <a:gdLst/>
            <a:ahLst/>
            <a:rect l="l" t="t" r="r" b="b"/>
            <a:pathLst>
              <a:path w="133" h="23">
                <a:moveTo>
                  <a:pt x="98" y="23"/>
                </a:moveTo>
                <a:lnTo>
                  <a:pt x="133" y="0"/>
                </a:lnTo>
                <a:lnTo>
                  <a:pt x="35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8160" y="4632480"/>
            <a:ext cx="44640" cy="1417320"/>
          </a:xfrm>
          <a:custGeom>
            <a:avLst/>
            <a:gdLst/>
            <a:ahLst/>
            <a:rect l="l" t="t" r="r" b="b"/>
            <a:pathLst>
              <a:path w="28" h="893">
                <a:moveTo>
                  <a:pt x="0" y="893"/>
                </a:moveTo>
                <a:lnTo>
                  <a:pt x="0" y="23"/>
                </a:lnTo>
                <a:lnTo>
                  <a:pt x="28" y="0"/>
                </a:lnTo>
                <a:lnTo>
                  <a:pt x="28" y="870"/>
                </a:lnTo>
                <a:lnTo>
                  <a:pt x="0" y="893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53280" y="4668840"/>
            <a:ext cx="164880" cy="1380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3280" y="4632480"/>
            <a:ext cx="209520" cy="36360"/>
          </a:xfrm>
          <a:custGeom>
            <a:avLst/>
            <a:gdLst/>
            <a:ahLst/>
            <a:rect l="l" t="t" r="r" b="b"/>
            <a:pathLst>
              <a:path w="132" h="23">
                <a:moveTo>
                  <a:pt x="104" y="23"/>
                </a:moveTo>
                <a:lnTo>
                  <a:pt x="132" y="0"/>
                </a:lnTo>
                <a:lnTo>
                  <a:pt x="35" y="0"/>
                </a:lnTo>
                <a:lnTo>
                  <a:pt x="0" y="23"/>
                </a:lnTo>
                <a:lnTo>
                  <a:pt x="104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2280" y="4624560"/>
            <a:ext cx="54000" cy="1425240"/>
          </a:xfrm>
          <a:custGeom>
            <a:avLst/>
            <a:gdLst/>
            <a:ahLst/>
            <a:rect l="l" t="t" r="r" b="b"/>
            <a:pathLst>
              <a:path w="34" h="898">
                <a:moveTo>
                  <a:pt x="0" y="898"/>
                </a:moveTo>
                <a:lnTo>
                  <a:pt x="0" y="28"/>
                </a:lnTo>
                <a:lnTo>
                  <a:pt x="34" y="0"/>
                </a:lnTo>
                <a:lnTo>
                  <a:pt x="34" y="875"/>
                </a:lnTo>
                <a:lnTo>
                  <a:pt x="0" y="898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46760" y="4668840"/>
            <a:ext cx="155520" cy="1380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46760" y="4624560"/>
            <a:ext cx="209520" cy="44280"/>
          </a:xfrm>
          <a:custGeom>
            <a:avLst/>
            <a:gdLst/>
            <a:ahLst/>
            <a:rect l="l" t="t" r="r" b="b"/>
            <a:pathLst>
              <a:path w="132" h="28">
                <a:moveTo>
                  <a:pt x="98" y="28"/>
                </a:moveTo>
                <a:lnTo>
                  <a:pt x="132" y="0"/>
                </a:lnTo>
                <a:lnTo>
                  <a:pt x="34" y="0"/>
                </a:lnTo>
                <a:lnTo>
                  <a:pt x="0" y="28"/>
                </a:lnTo>
                <a:lnTo>
                  <a:pt x="98" y="28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94680" y="5619600"/>
            <a:ext cx="55440" cy="430200"/>
          </a:xfrm>
          <a:custGeom>
            <a:avLst/>
            <a:gdLst/>
            <a:ahLst/>
            <a:rect l="l" t="t" r="r" b="b"/>
            <a:pathLst>
              <a:path w="35" h="271">
                <a:moveTo>
                  <a:pt x="0" y="271"/>
                </a:moveTo>
                <a:lnTo>
                  <a:pt x="0" y="29"/>
                </a:lnTo>
                <a:lnTo>
                  <a:pt x="35" y="0"/>
                </a:lnTo>
                <a:lnTo>
                  <a:pt x="35" y="248"/>
                </a:lnTo>
                <a:lnTo>
                  <a:pt x="0" y="271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39160" y="5665680"/>
            <a:ext cx="155520" cy="384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39160" y="5619600"/>
            <a:ext cx="210960" cy="46080"/>
          </a:xfrm>
          <a:custGeom>
            <a:avLst/>
            <a:gdLst/>
            <a:ahLst/>
            <a:rect l="l" t="t" r="r" b="b"/>
            <a:pathLst>
              <a:path w="133" h="29">
                <a:moveTo>
                  <a:pt x="98" y="29"/>
                </a:moveTo>
                <a:lnTo>
                  <a:pt x="133" y="0"/>
                </a:lnTo>
                <a:lnTo>
                  <a:pt x="35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78800" y="5665680"/>
            <a:ext cx="55440" cy="384120"/>
          </a:xfrm>
          <a:custGeom>
            <a:avLst/>
            <a:gdLst/>
            <a:ahLst/>
            <a:rect l="l" t="t" r="r" b="b"/>
            <a:pathLst>
              <a:path w="35" h="242">
                <a:moveTo>
                  <a:pt x="0" y="242"/>
                </a:moveTo>
                <a:lnTo>
                  <a:pt x="0" y="23"/>
                </a:lnTo>
                <a:lnTo>
                  <a:pt x="35" y="0"/>
                </a:lnTo>
                <a:lnTo>
                  <a:pt x="35" y="219"/>
                </a:lnTo>
                <a:lnTo>
                  <a:pt x="0" y="242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23280" y="5702400"/>
            <a:ext cx="155520" cy="347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23280" y="5665680"/>
            <a:ext cx="210960" cy="36720"/>
          </a:xfrm>
          <a:custGeom>
            <a:avLst/>
            <a:gdLst/>
            <a:ahLst/>
            <a:rect l="l" t="t" r="r" b="b"/>
            <a:pathLst>
              <a:path w="133" h="23">
                <a:moveTo>
                  <a:pt x="98" y="23"/>
                </a:moveTo>
                <a:lnTo>
                  <a:pt x="133" y="0"/>
                </a:lnTo>
                <a:lnTo>
                  <a:pt x="35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2280" y="5565600"/>
            <a:ext cx="54000" cy="484200"/>
          </a:xfrm>
          <a:custGeom>
            <a:avLst/>
            <a:gdLst/>
            <a:ahLst/>
            <a:rect l="l" t="t" r="r" b="b"/>
            <a:pathLst>
              <a:path w="34" h="305">
                <a:moveTo>
                  <a:pt x="0" y="305"/>
                </a:moveTo>
                <a:lnTo>
                  <a:pt x="0" y="29"/>
                </a:lnTo>
                <a:lnTo>
                  <a:pt x="34" y="0"/>
                </a:lnTo>
                <a:lnTo>
                  <a:pt x="34" y="282"/>
                </a:lnTo>
                <a:lnTo>
                  <a:pt x="0" y="305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16760" y="5611680"/>
            <a:ext cx="155520" cy="438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16760" y="5565600"/>
            <a:ext cx="209520" cy="46080"/>
          </a:xfrm>
          <a:custGeom>
            <a:avLst/>
            <a:gdLst/>
            <a:ahLst/>
            <a:rect l="l" t="t" r="r" b="b"/>
            <a:pathLst>
              <a:path w="132" h="29">
                <a:moveTo>
                  <a:pt x="98" y="29"/>
                </a:moveTo>
                <a:lnTo>
                  <a:pt x="132" y="0"/>
                </a:lnTo>
                <a:lnTo>
                  <a:pt x="34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64680" y="5373720"/>
            <a:ext cx="55440" cy="676080"/>
          </a:xfrm>
          <a:custGeom>
            <a:avLst/>
            <a:gdLst/>
            <a:ahLst/>
            <a:rect l="l" t="t" r="r" b="b"/>
            <a:pathLst>
              <a:path w="35" h="426">
                <a:moveTo>
                  <a:pt x="0" y="426"/>
                </a:moveTo>
                <a:lnTo>
                  <a:pt x="0" y="29"/>
                </a:lnTo>
                <a:lnTo>
                  <a:pt x="35" y="0"/>
                </a:lnTo>
                <a:lnTo>
                  <a:pt x="35" y="403"/>
                </a:lnTo>
                <a:lnTo>
                  <a:pt x="0" y="426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8800" y="5419800"/>
            <a:ext cx="155880" cy="630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08800" y="5373720"/>
            <a:ext cx="211320" cy="46080"/>
          </a:xfrm>
          <a:custGeom>
            <a:avLst/>
            <a:gdLst/>
            <a:ahLst/>
            <a:rect l="l" t="t" r="r" b="b"/>
            <a:pathLst>
              <a:path w="133" h="29">
                <a:moveTo>
                  <a:pt x="98" y="29"/>
                </a:moveTo>
                <a:lnTo>
                  <a:pt x="133" y="0"/>
                </a:lnTo>
                <a:lnTo>
                  <a:pt x="35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11240" y="1844280"/>
            <a:ext cx="1800" cy="424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837800" y="608652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37800" y="565632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837800" y="523548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837800" y="480708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837800" y="438624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837800" y="396540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837800" y="353520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837800" y="311472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837800" y="268596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837800" y="226548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837800" y="184464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1720" y="60134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73560" y="55832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73560" y="51624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73560" y="47340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3560" y="43131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12000" y="38926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12000" y="34624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12000" y="30416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12000" y="26128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1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2000" y="219240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1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12000" y="17715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2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91360" y="389268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Arial Black"/>
              </a:rPr>
              <a:t>£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6086520"/>
            <a:ext cx="6626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1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03640" y="60865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9712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8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7328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57760" y="60865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5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7760" y="60865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2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1328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97760" y="60865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9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8328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67760" y="60865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6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53740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8960000">
            <a:off x="1702440" y="617040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Alban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8960000">
            <a:off x="2120040" y="618012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Bosn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8960000">
            <a:off x="2431800" y="6176880"/>
            <a:ext cx="79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Bulgar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8960000">
            <a:off x="2874600" y="617868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Croat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8960000">
            <a:off x="3074760" y="6187680"/>
            <a:ext cx="104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Macedon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8960000">
            <a:off x="3712320" y="6154560"/>
            <a:ext cx="61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ff33"/>
                </a:solidFill>
                <a:latin typeface="Arial Black"/>
              </a:rPr>
              <a:t>Baltic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8960000">
            <a:off x="4003200" y="6178680"/>
            <a:ext cx="77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Slovak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8960000">
            <a:off x="4473360" y="6178320"/>
            <a:ext cx="60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Serb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8960000">
            <a:off x="4823640" y="6175080"/>
            <a:ext cx="69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Kosov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8960000">
            <a:off x="5133600" y="6188040"/>
            <a:ext cx="84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Roman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8960000">
            <a:off x="5640840" y="6184800"/>
            <a:ext cx="6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Russ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8960000">
            <a:off x="5976000" y="616896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Ukrain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8960000">
            <a:off x="6151320" y="618804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Central As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8960000">
            <a:off x="6706440" y="618624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Moldov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8960000">
            <a:off x="7106400" y="6176520"/>
            <a:ext cx="80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Armen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8960000">
            <a:off x="7504560" y="6188040"/>
            <a:ext cx="75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Georg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8960000">
            <a:off x="7871760" y="6188400"/>
            <a:ext cx="83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33"/>
                </a:solidFill>
                <a:latin typeface="Arial Black"/>
              </a:rPr>
              <a:t>Region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31320" y="4294080"/>
            <a:ext cx="631800" cy="201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077400" y="4367160"/>
            <a:ext cx="73080" cy="7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46960" y="43308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ies1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newdep1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1685880" cy="9381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ther Don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29894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0" name="logo.med" descr="Image link to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752480"/>
            <a:ext cx="973080" cy="1352520"/>
          </a:xfrm>
          <a:prstGeom prst="rect">
            <a:avLst/>
          </a:prstGeom>
          <a:ln w="0">
            <a:noFill/>
          </a:ln>
        </p:spPr>
      </p:pic>
      <p:pic>
        <p:nvPicPr>
          <p:cNvPr id="301" name="kopf" descr="Logo Bundesministerium für Wirtschaftliche Zusammenarbeit und Entwicklu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3344760"/>
            <a:ext cx="3886200" cy="846360"/>
          </a:xfrm>
          <a:prstGeom prst="rect">
            <a:avLst/>
          </a:prstGeom>
          <a:ln w="0">
            <a:noFill/>
          </a:ln>
        </p:spPr>
      </p:pic>
      <p:pic>
        <p:nvPicPr>
          <p:cNvPr id="302" name="osce_logo_l" descr="O S C E"/>
          <p:cNvPicPr/>
          <p:nvPr/>
        </p:nvPicPr>
        <p:blipFill>
          <a:blip r:embed="rId6"/>
          <a:stretch/>
        </p:blipFill>
        <p:spPr>
          <a:xfrm>
            <a:off x="1295280" y="3886200"/>
            <a:ext cx="1760760" cy="582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447920" y="51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3080" y="3276720"/>
            <a:ext cx="360" cy="3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6" name="longlogo" descr=""/>
          <p:cNvPicPr/>
          <p:nvPr/>
        </p:nvPicPr>
        <p:blipFill>
          <a:blip r:embed="rId7"/>
          <a:stretch/>
        </p:blipFill>
        <p:spPr>
          <a:xfrm>
            <a:off x="1295280" y="3048120"/>
            <a:ext cx="243540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4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biglogo" descr=""/>
          <p:cNvPicPr/>
          <p:nvPr/>
        </p:nvPicPr>
        <p:blipFill>
          <a:blip r:embed="rId8"/>
          <a:stretch/>
        </p:blipFill>
        <p:spPr>
          <a:xfrm>
            <a:off x="1371600" y="4724280"/>
            <a:ext cx="1212840" cy="1027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413080" y="31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0" name="cover1a" descr=""/>
          <p:cNvPicPr/>
          <p:nvPr/>
        </p:nvPicPr>
        <p:blipFill>
          <a:blip r:embed="rId9"/>
          <a:stretch/>
        </p:blipFill>
        <p:spPr>
          <a:xfrm>
            <a:off x="1143000" y="6095880"/>
            <a:ext cx="4079880" cy="400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40" y="305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367000" y="3056040"/>
            <a:ext cx="4411800" cy="747720"/>
            <a:chOff x="2367000" y="3056040"/>
            <a:chExt cx="4411800" cy="747720"/>
          </a:xfrm>
        </p:grpSpPr>
        <p:sp>
          <p:nvSpPr>
            <p:cNvPr id="313" name=""/>
            <p:cNvSpPr/>
            <p:nvPr/>
          </p:nvSpPr>
          <p:spPr>
            <a:xfrm>
              <a:off x="2367000" y="3056040"/>
              <a:ext cx="4411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67000" y="3056040"/>
              <a:ext cx="44118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GB" sz="43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eaeaea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315" name="icon_whiteglobe" descr="Hot Topics"/>
          <p:cNvPicPr/>
          <p:nvPr/>
        </p:nvPicPr>
        <p:blipFill>
          <a:blip r:embed="rId10"/>
          <a:stretch/>
        </p:blipFill>
        <p:spPr>
          <a:xfrm>
            <a:off x="3200400" y="1752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6" name="cida2" descr=""/>
          <p:cNvPicPr/>
          <p:nvPr/>
        </p:nvPicPr>
        <p:blipFill>
          <a:blip r:embed="rId11"/>
          <a:stretch/>
        </p:blipFill>
        <p:spPr>
          <a:xfrm>
            <a:off x="5257800" y="4343400"/>
            <a:ext cx="1905120" cy="546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4940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9400" y="294156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9" name="DEZA_logo_c" descr=""/>
          <p:cNvPicPr/>
          <p:nvPr/>
        </p:nvPicPr>
        <p:blipFill>
          <a:blip r:embed="rId12"/>
          <a:stretch/>
        </p:blipFill>
        <p:spPr>
          <a:xfrm>
            <a:off x="5334120" y="5029200"/>
            <a:ext cx="8571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6:32:37Z</dcterms:created>
  <dc:creator>DFID</dc:creator>
  <dc:description/>
  <dc:language>en-US</dc:language>
  <cp:lastModifiedBy>Bohdan Drozdowskij</cp:lastModifiedBy>
  <dcterms:modified xsi:type="dcterms:W3CDTF">2003-07-07T14:34:24Z</dcterms:modified>
  <cp:revision>28</cp:revision>
  <dc:subject/>
  <dc:title>Europe and Central Asia Department</dc:title>
</cp:coreProperties>
</file>