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A918E-BBB1-43D8-ACB4-02B142D2D6F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 надеюсь, что наши коллеги из Грузии поделятся с нами опытом создания РРГ Адыгени, которая состоит из представителей местных общин.  Сельские инициативные группы выходят на них со своими планами и инвестиционными предложениями. Впервые местные бюджеты так открыто обсуждаются.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также способствует  привлечению средств из других источников, включая ограниченные ресурсы районного бюдже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жессика Ирвин закончила свою презентацию слайдом, приглашающим ставить и обсуждать вопросы.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ы надеемся, что запланированный нами формат конференции будет максимально способствовать обсуждению многочисленных вопросов, которые возникают в ходе той сложной работы, которую мы выполняем в странах региона Европы и Центральной Азии - участницах сегодняшней конферен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полнительный вопрос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нам обеспечить долгосрочную поддержку, которая необходима для решения проблем сельской бедности, с учетом того, что мы работаем в ограниченных временных рамках проектов/программ, финансируемых спонсорами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амках договоренности о паритетном финансировании возникает значительный стимул предоставления бюджетных средств. Чем заменить этот механизм, когда спонсорское  финансирование заканчивается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ужно реально оценивать ситуацию и понимать, что бюджетные средства ограничены и есть много других требующих финансирования приоритетов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амках недавно проведенного ВБ в Кыргызстане исследования был сделан вывод, что «проекты ММР не сотрудничают с органами местного самоуправления, а создают в деревнях независимые структуры под эгидой рабочих групп»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Г или Комитеты по развитию общин должны создаваться при отсутствии функционирующих местных органов управления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существуют некорректно функционирующие структуры на местном уровне, стоит ли нам ждать пока ситуация улучшиться сверху, понимаю, что на это могут уйти годы, или же попытаться и дать местным общинам возможность «голоса» и получения услуг, понимая при этой всю сложность задачи при попытке распространить этот опыт при этих слабых и несовершенных структурах. Пилотные проекты призваны ответить на вопрос как усовершенствовать работу этих структур и как привлечь к этой работе тех, кто принимает стратегические решения, чтобы они заинтересовались использованием этого опыта при проведении реформ.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дственники-созаемщики, ограничение доступа бедным  из-за риска невыпла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стные инвестиции и в то и в другое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сстановление инфраструктуры, повышение доходов, развитие бизнеса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 мы не найдем исчерпывающих ответов на все вопросы и даже если мы ответим на эти вопросы, у  нас, скорее всего, возникнет еще больше вопросов в конце этой недел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этом зале сконцентрировано столько опыта и знаний, который может быть полезен для каждого из нас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!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вайте максимально использовать эту возможность для активного обмена опытом, обсуждения проблем и поиска ответов на стоящие перед нами вопрос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которые участники сегодняшней конференции впервые присутствуют на подобном «совместном мероприятии», объединившем их коллег, государственных служащих и специалистов-практиков в области сельского развития.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ня попросили, что называется «дать контекст». Итак, зачем мы здесь собрались и какого результата мы ждем от нашей работы на этой неделе?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ие из собравшихся участвовали в наших предыдущих семинарах и конференциях по обмену опытом. Прошлая конференция отличалась от других, поскольку проходила в Лондоне, а не в одной из стран региона, где ведется работа по устойчивому сельскому жизнеобеспечению. Я хотели бы перечислить основные выводы Лондонской конференции, которые очень актуальны для контекста сегодняшнего мероприятия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начальном этапе реформ основной акцент делался на изменение права собственности на средства производства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1F81-6BB9-46D1-851A-44105D0DD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5B6C-17DF-4062-B04F-EA7EE913B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A332-EF0D-4413-AE34-5C9C64454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49A6-2211-4ED4-BBA8-89296BD6F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6010-0443-44B0-B781-B8E41FC89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FDC5-1B10-4D9F-B318-7588B3E78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6819-ED50-421B-837F-8E03F3A47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DC6B-0C0D-4CB6-A63F-BBE701715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4DC8-4E1F-45DC-A174-B5B20300D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0D6C-400B-4033-9066-A02F8695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8013-C4CB-4647-81B8-2B61B750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7ECE-68F4-4322-8A5F-4FC8F7DF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43B20-2445-4A91-8B91-87C06612704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752120"/>
            <a:ext cx="78487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Региональная конференция: «Обмен опытом по вопросам устойчивого сельского жизнеобеспечения»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иев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, 8-11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юля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нгелика Брустин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ветник по сельскому развитию, ММ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МР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епартамент Европы и Центральной Аз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«Пакет мер поддержки»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Доступ к информации и консультациям по реализации и защите прав</a:t>
            </a:r>
            <a:r>
              <a:rPr b="0" lang="en-GB" sz="25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механизм разрешения споров </a:t>
            </a:r>
            <a:r>
              <a:rPr b="1" lang="ru-RU" sz="2500" spc="-1" strike="noStrike">
                <a:solidFill>
                  <a:srgbClr val="ffffff"/>
                </a:solidFill>
                <a:latin typeface="Times New Roman"/>
              </a:rPr>
              <a:t>ТРАС</a:t>
            </a:r>
            <a:r>
              <a:rPr b="0" lang="en-GB" sz="25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Консультационное обеспечение</a:t>
            </a:r>
            <a:r>
              <a:rPr b="0" lang="en-GB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Times New Roman"/>
              </a:rPr>
              <a:t>Обучение</a:t>
            </a: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 как наилучшим образом использовать ресурсы (наиболее удачно при использовании </a:t>
            </a:r>
            <a:r>
              <a:rPr b="1" lang="ru-RU" sz="2500" spc="-1" strike="noStrike">
                <a:solidFill>
                  <a:srgbClr val="ffffff"/>
                </a:solidFill>
                <a:latin typeface="Times New Roman"/>
              </a:rPr>
              <a:t>демонстрационных объектов</a:t>
            </a: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, позволяющих увидеть воплощение рекомендаций на практике</a:t>
            </a:r>
            <a:r>
              <a:rPr b="0" lang="en-GB" sz="2500" spc="-1" strike="noStrike">
                <a:solidFill>
                  <a:srgbClr val="ffffff"/>
                </a:solidFill>
                <a:latin typeface="Times New Roman"/>
              </a:rPr>
              <a:t>!)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Доступ к </a:t>
            </a:r>
            <a:r>
              <a:rPr b="1" lang="ru-RU" sz="2500" spc="-1" strike="noStrike">
                <a:solidFill>
                  <a:srgbClr val="ffffff"/>
                </a:solidFill>
                <a:latin typeface="Times New Roman"/>
              </a:rPr>
              <a:t>финансовым</a:t>
            </a: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 и материально-техническим ресурсам</a:t>
            </a:r>
            <a:r>
              <a:rPr b="0" lang="en-GB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Децентрализованное предоставление услуг по приемлемым ценам</a:t>
            </a:r>
            <a:r>
              <a:rPr b="0" lang="en-GB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Благоприятная среда для вовлечения населения и наращивания потенциала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Решающим фактором является формирование эффективного партнерства на всех уровнях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ручиться политической поддержкой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ботать в духе доверия и сотрудничест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влечь в партнерство местные институты для осуществления программы, распространения опыта и влияния на политику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роверенные на практике механизмы партнерства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: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аритетное финансирова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вместное планирование и принятие решений (Областные и районные рабочие группы, Координационные Советы, Правления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вместное осуществление и мониторин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бмен опытом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ринципы нашего партнерского подхода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зрачность при принятии решений для всех партнеров, включая бенефициарие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пособность идти на компромиссы, которые адекватны реальности и приносят результат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отовность принять нестандартные, творческие и иногда, возможно, временные решения и мер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ращивание потенциала людей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Еще один урок Лондонской конференции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илотные проекты сыграли очень важную роль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Увидеть – значит поверить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!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»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ля эффективного формирования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литики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обходимо предоставление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оказательст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нновационные подходы необходимо проверить в реальных условиях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ключая низкозатратное распространение пилотных моделей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Положительный опыт» демонстрирует, что новые подходы приносят ощутимые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езультаты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Задачи ММР в рамках пилотной работы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: 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Сделать затраты на пилотную работу более эффективными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Усовершенствовать оценку затрат на комплексный подход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Более четко определить роль человеческого фактора при поддержке осуществляемых изменений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Распространение пилотных моделей также должно быть испытано в рамках пилотной работы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Подход должен быть приемлем по стоимости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Предпосылки и условия для успешного «масштабного и стратегического распространения»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Лондонская конференция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пытка проанализировать комплексный подход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 примере кейс-стади из трех стран (Россия, Украина и Молдова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рамках дискуссии по трем направлениям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правление, Влияние на политику, Реформ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кономический аспек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циальные вопросы и работа с населением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Рекомендации участников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ольше времени уделить дискусс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брать более узконаправленные тем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лучить более глубокое понимание инновационных подходов, разработанных программами из разных стран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четать обсуждение в зале с выездами на объекты осуществление проекта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1371240"/>
            <a:ext cx="87631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Реструктуризация социальной сферы, децентрализация сферы услуг, мобилизация общин (вовлечение населения) и создание рабочих мест на местном уровне 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Мы надеемся, что данная конференция позволит:</a:t>
            </a: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Улучшить наше понимание того, как добиться максимального эффекта с наименьшими затратами и тем самым способствовать более широкому распространению пилотных инициатив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Продемонстрировать примеры успешного взаимодействия на различных уровнях (СИГ, РРГ, сотрудничество с ЦЗ, местными НГО, частным сектором, межведомственная РГ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Обсудить, как добиться устойчивой положительной динамики</a:t>
            </a: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666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Вопросы и Дискусс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BD00028_" descr=""/>
          <p:cNvPicPr/>
          <p:nvPr/>
        </p:nvPicPr>
        <p:blipFill>
          <a:blip r:embed="rId1"/>
          <a:stretch/>
        </p:blipFill>
        <p:spPr>
          <a:xfrm>
            <a:off x="3352680" y="2419200"/>
            <a:ext cx="2819520" cy="2762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343400" y="5410080"/>
            <a:ext cx="91440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Некоторые из множества вопросов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Как наладить более согласованное сотрудничество между сельским населением, общественными организациями и органами власти на всех уровнях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Как обеспечить последовательность и координацию действий (с другими спонсорами, органами власти, местными инициативами) при различии подходов?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Какова роль местных институтов, созданных в рамках проектов ММР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?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Мы пытаемся добиться наличия развитых сельских инициативных групп. Каков их юридический статус? Могут ли они оказывать услуги на устойчивой основе? 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Центральные министерства/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местные органы власти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к можно помочь центральным министерствам и ведомствам в контексте перехода к децентрализованному оказанию услуг местными общественными организациями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к наладить диалог между центральными и местными органами власти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олжна ли децентрализация идти одинаковыми темпами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Является ли «асимметричная» децентрализация приемлемой с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литический точки зрения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Потенциал местных органов власти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к можно увеличить потенциал местных органов власти в эффективном и открытом процессе решения проблем бедных сельских жителей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к помочь местным органам власти найти оптимальное решение дилеммы, с которой они сталкиваются пытаясь защищать интересы бедных слоев населения  и, одновременно, стараясь получить больше средств в местный бюджет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4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Задачи, стоящие перед гражданским обществом: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57000"/>
            <a:ext cx="7848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СИГ/РРГ: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Рискуем ли мы, создавая «параллельные» структуры, дублирующие уже существующие организации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РРГ: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Как мы можем быть уверенны, что деятельность этой новой структуры будет более «прозрачной» для населения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Финансовая самоокупаемость и независимость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Взаимодействие с органами власти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?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Должно ли правительство финансировать общественные организации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Есть ли угроза коррупции общественных организаций и потери их связи с общественностью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?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Могут ли они находиться во власти «местной элиты»?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Социальный капитал еще не получил (должного) признания со стороны формальных банковских структур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редоставление услуг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Роль информационно-консультационных служб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Каким должно быть наиболее оптимальное сочетание предоставления услуг государственными организациями, частным сектором и гражданским обществом</a:t>
            </a:r>
            <a:r>
              <a:rPr b="0" lang="en-GB" sz="27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Снабжение в сельском хозяйстве?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Частное медицинское обслуживание на селе?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Частные дома культуры?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«Фермер фермеру» не был успешным</a:t>
            </a:r>
            <a:r>
              <a:rPr b="0" lang="en-GB" sz="27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Как способствовать диверсификации и созданию рабочих мест в несельхоз бизнесе?</a:t>
            </a:r>
            <a:r>
              <a:rPr b="0" lang="en-GB" sz="27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Возможен ли конфликт интересов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влечение населения в планирование и развитие местных инвестиций наращивает потенциал и формирует устойчивую основу для активного и направленного участия людей в жизни местных сообществ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то может противоречить планам соседних сообществ или региональным планам развит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циальный капитал и наращивание потенциала по принятию решений на местном уровне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ендерный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спект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нятие решений в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защиту прав бедных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или доминирование традиционного подхода «по праву сильного»?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0666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Вопросы и Дискусс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BD00028_" descr=""/>
          <p:cNvPicPr/>
          <p:nvPr/>
        </p:nvPicPr>
        <p:blipFill>
          <a:blip r:embed="rId1"/>
          <a:stretch/>
        </p:blipFill>
        <p:spPr>
          <a:xfrm>
            <a:off x="3352680" y="2419200"/>
            <a:ext cx="2819520" cy="2762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343400" y="5410080"/>
            <a:ext cx="91440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ЗНАЧЕНИЕ ОБМЕНА ОПЫТОМ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ru-RU" sz="4400" spc="-1" strike="noStrike">
                <a:solidFill>
                  <a:srgbClr val="ffffff"/>
                </a:solidFill>
                <a:latin typeface="Times New Roman"/>
              </a:rPr>
              <a:t>Контекст</a:t>
            </a:r>
            <a:r>
              <a:rPr b="0" i="1" lang="en-GB" sz="44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60280" y="193680"/>
            <a:ext cx="8883720" cy="62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одход устойчивого жизнеобеспечения позволил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251424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пределить необходимые параметры для анализа имеющихся ресурсов развития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демонстрировать взаимосвяз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ешать вопросы комплексного характер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едоставить всем участникам работы общую методическую базу и терминологи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Устойчивое жизнеобеспечение как один из ПОДХОДОВ к развитию сельских территорий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тражает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ложительный опыт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ает методику работ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спользуется другими организациями, не только ММ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Является развивающимся и динамичным, использует проверенные на практике принцип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Принципы подхода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Центральное положение люде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Открытость новым идеям и активное участи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онимание комплексного характера решаемых проблем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артнерство (межведомственное, многоуровневое и много-секторальное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GB" sz="25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960" y="167616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Устойчивость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Динамичность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Использование сильных сторон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опора на имеющиеся ресурсы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Цель – искоренение бедност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Основные уроки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блемы сельского развития имеют комплексный характе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нижение бедности требует многостороннего и целостного подход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обходимо реалистично оценивать количество времени, требуемое для решения системных экономических и социальных проблем и доказательства надежности предлагаемых моделе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Наличие прав чрезвычайно важно, но само по себе недостаточно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сто предоставление прав на землю и собственность не улучшает социально-экономическое положение люде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едным необходим ряд мер поддержки, чтобы они могли использовать имеющиеся ресурсы для улучшения своего социально-экономического положения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4T14:16:03Z</dcterms:created>
  <dc:creator>Angelika</dc:creator>
  <dc:description/>
  <dc:language>en-US</dc:language>
  <cp:lastModifiedBy>Bohdan Drozdowskij</cp:lastModifiedBy>
  <dcterms:modified xsi:type="dcterms:W3CDTF">2003-07-07T14:28:55Z</dcterms:modified>
  <cp:revision>43</cp:revision>
  <dc:subject/>
  <dc:title>PowerPoint Presentation</dc:title>
</cp:coreProperties>
</file>