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DD1-505A-4B4D-838C-6E75A6D3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665-C987-4496-B8D4-E2B36A1E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51F-552A-470D-BF74-B2DC9967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1FF-BE0C-44A5-8642-86963FD3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1DA-552B-4DDF-ADE2-58B9DF87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FDD-3BB2-448D-A436-F1DEBBDC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F67-D2CC-4A9E-AC3C-498515D3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41D-0702-42B3-B388-9B4A7E0E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D1C-81F1-406E-AF5B-8A9A5BBD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F40-8882-42D8-AB26-60CC75D9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40D-ECF5-42C9-B9F9-1076F387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BCC-18DD-4D8E-B243-419B5D4C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A59E-D17A-4C3A-BC91-364CB22EC0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849636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Partnership relations development</a:t>
            </a:r>
            <a:r>
              <a:rPr b="1" lang="uk-UA" sz="3200" spc="-1" strike="noStrike">
                <a:solidFill>
                  <a:srgbClr val="000099"/>
                </a:solidFill>
                <a:latin typeface="Arial Narrow"/>
              </a:rPr>
              <a:t> – </a:t>
            </a: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models, developed and implemented in Odessa ob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5715000"/>
            <a:ext cx="5181840" cy="764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amara N. Podvysotska</a:t>
            </a:r>
            <a:r>
              <a:rPr b="1" lang="uk-UA" sz="2400" spc="-1" strike="noStrike">
                <a:solidFill>
                  <a:srgbClr val="000099"/>
                </a:solidFill>
                <a:latin typeface="Arial Narrow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team leader of the Odessa oblast URLP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296640" cy="1535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3886200"/>
            <a:ext cx="4114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Non-government organisation </a:t>
            </a: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Rural development and legal unit</a:t>
            </a: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38098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pany </a:t>
            </a: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nsultagr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VELOPING PARTNERSHIP RELATIONS IS A KEY TO SUCCESSFUL PROGRAMM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629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articipation of the government bodies and other partners in the implementation of the Programme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Joint implementation and replication of the most successful rural livelihoods models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sing partners’ resources for the Programme implementation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ttracting oblast budget funding for providing  public good services to rural res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457200"/>
            <a:ext cx="6019920" cy="162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Cyr"/>
              </a:rPr>
              <a:t>Forms of attracting financial resources for implementing the Programme in the ob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029200"/>
            <a:ext cx="2438280" cy="12952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895480"/>
            <a:ext cx="2666880" cy="1800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olvement in implementation of the oblast and rayon programme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3124080"/>
            <a:ext cx="2895480" cy="764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ucting paid worksh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895480"/>
            <a:ext cx="1981440" cy="1557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icipation in the oblast competition for social projec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01-0131_1_IMG" descr=""/>
          <p:cNvPicPr/>
          <p:nvPr/>
        </p:nvPicPr>
        <p:blipFill>
          <a:blip r:embed="rId1"/>
          <a:stretch/>
        </p:blipFill>
        <p:spPr>
          <a:xfrm>
            <a:off x="6629400" y="0"/>
            <a:ext cx="32767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685800"/>
            <a:ext cx="601956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Cyr"/>
              </a:rPr>
              <a:t>Forms of attracting financial resources for implementing the Programme in the oblast </a:t>
            </a:r>
            <a:r>
              <a:rPr b="0" lang="uk-UA" sz="2800" spc="-1" strike="noStrike">
                <a:solidFill>
                  <a:srgbClr val="000099"/>
                </a:solidFill>
                <a:latin typeface="Arial Cy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1828800"/>
            <a:ext cx="2438280" cy="9144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362320"/>
            <a:ext cx="2971800" cy="916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business development  programme in Odessa oblast in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003-200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2438280"/>
            <a:ext cx="2971800" cy="14655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d workshops for community leaders on the subjects of social sphere assets transfer and maintenance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876920"/>
            <a:ext cx="2971800" cy="11912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project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outh Business Support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Rural Areas of Odessa oblast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2002, 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4267080"/>
            <a:ext cx="2133360" cy="916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the basis of the Rayon Coordination Counci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4267080"/>
            <a:ext cx="2209680" cy="11912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the basis of the Odessa Regional President’s Institute of Stat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019560" y="3886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86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733920"/>
            <a:ext cx="3124080" cy="642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int workshop on job creation in rural area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2003)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102-0210_IMG" descr=""/>
          <p:cNvPicPr/>
          <p:nvPr/>
        </p:nvPicPr>
        <p:blipFill>
          <a:blip r:embed="rId1"/>
          <a:stretch/>
        </p:blipFill>
        <p:spPr>
          <a:xfrm>
            <a:off x="7086600" y="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7:04:42Z</dcterms:created>
  <dc:creator>USER</dc:creator>
  <dc:description/>
  <dc:language>en-US</dc:language>
  <cp:lastModifiedBy>Valentyna Okladna</cp:lastModifiedBy>
  <dcterms:modified xsi:type="dcterms:W3CDTF">2003-07-07T12:58:02Z</dcterms:modified>
  <cp:revision>175</cp:revision>
  <dc:subject/>
  <dc:title>Презентация PowerPoint</dc:title>
</cp:coreProperties>
</file>