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5E8D-CE67-4FAF-845D-D72B71B5F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B02A-28B8-4CD2-AE7D-44D28EED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5ED5-71F4-4E16-B5E8-E26F9EC59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F83E-09B3-42AA-B167-CFB5F15CE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774B-A658-4DE6-9A9B-D9783795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CE07-CEE3-47A6-B870-4336B750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5C82-FAAB-486F-83CE-6D20F06C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108B-877F-4E24-8C77-A04D2BD7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0F5B-2228-4AD2-86FE-C9F6EC13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E932-6E35-4FB8-8E42-B78B728A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E68B-1219-48C3-9FDF-8FB5148A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70C8-6187-4110-A121-512B53F9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520D-EDAE-4BCD-B9D4-4BF183E253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440" y="2361960"/>
            <a:ext cx="8496360" cy="1447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Arial Narrow"/>
              </a:rPr>
              <a:t>Развитие инициативности сельских жителей - модели, разработанные и апробированные в Одесской обла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5257800"/>
            <a:ext cx="708660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 Narrow"/>
              </a:rPr>
              <a:t>Канд. экон. наук, доцент </a:t>
            </a:r>
            <a:r>
              <a:rPr b="1" lang="uk-UA" sz="2400" spc="-1" strike="noStrike">
                <a:solidFill>
                  <a:srgbClr val="000099"/>
                </a:solidFill>
                <a:latin typeface="Arial Narrow"/>
              </a:rPr>
              <a:t>Осипова Мария Михайло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929664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63520"/>
            <a:ext cx="4386240" cy="63324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Garamond"/>
              </a:rPr>
              <a:t>Низкая общественная активность сельских жите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2057400"/>
            <a:ext cx="6019920" cy="1117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99"/>
                </a:solidFill>
                <a:latin typeface="Arial Cyr"/>
              </a:rPr>
              <a:t>Содействие развитию инициативности сельских жите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939960"/>
            <a:ext cx="3878280" cy="946440"/>
          </a:xfrm>
          <a:prstGeom prst="rect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«.. Уровень вовлечения сельских жителей к деятельности формальных и неформальных общественных организаций является чрезвычайно низким – только 7%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5562720"/>
            <a:ext cx="2438280" cy="129528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Мероприят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657600"/>
            <a:ext cx="2666880" cy="14558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Использование институт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сельских координаторов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553080" y="3657600"/>
            <a:ext cx="2895840" cy="14346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Содействие созданию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обучению и работе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общественных организа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3657600"/>
            <a:ext cx="1981080" cy="14346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Создание сельских инициативных груп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4343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4419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92468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All_5_2" descr=""/>
          <p:cNvPicPr/>
          <p:nvPr/>
        </p:nvPicPr>
        <p:blipFill>
          <a:blip r:embed="rId1"/>
          <a:stretch/>
        </p:blipFill>
        <p:spPr>
          <a:xfrm>
            <a:off x="6781680" y="0"/>
            <a:ext cx="312444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63520"/>
            <a:ext cx="4386240" cy="63324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Garamond"/>
              </a:rPr>
              <a:t>Низкая общественная активность сельских  жите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143000"/>
            <a:ext cx="6019920" cy="9471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99"/>
                </a:solidFill>
                <a:latin typeface="Arial Cyr"/>
              </a:rPr>
              <a:t>Содействие развитию гражданского общества и общ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3048120"/>
            <a:ext cx="2438280" cy="129528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Мероприят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3352680"/>
            <a:ext cx="2971800" cy="173988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Тренинги по развитию инициативности сельских жителей, формирования, регистрации и организации работы  общественных организ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3352680"/>
            <a:ext cx="2971800" cy="11912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Обучение по написанию  социальных проектов и привлечению средств на их  реализац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8280070_2" descr=""/>
          <p:cNvPicPr/>
          <p:nvPr/>
        </p:nvPicPr>
        <p:blipFill>
          <a:blip r:embed="rId1"/>
          <a:stretch/>
        </p:blipFill>
        <p:spPr>
          <a:xfrm>
            <a:off x="6781680" y="0"/>
            <a:ext cx="3124440" cy="1901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581280" y="5029200"/>
            <a:ext cx="2971800" cy="916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Идентификация социально-экономических проблем сельских жителей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304920"/>
            <a:ext cx="6019920" cy="8254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Содействие развитию гражданского общества и общ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3352680"/>
            <a:ext cx="5867640" cy="14479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ероприятия, организованны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 основе использования местных ресурсов се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(Новоборисовский сельсове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еликомихайловского района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029200"/>
            <a:ext cx="2971800" cy="15541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роведение акции по озеленению села - посадка березового и липового сада в селе (участвовали около 30 сельских жителей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81280" y="5486400"/>
            <a:ext cx="2667240" cy="10674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Упорядочение (ремонт) спортплощадки в селе (участвовала сельская молодежь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Untitled-9" descr=""/>
          <p:cNvPicPr/>
          <p:nvPr/>
        </p:nvPicPr>
        <p:blipFill>
          <a:blip r:embed="rId1"/>
          <a:stretch/>
        </p:blipFill>
        <p:spPr>
          <a:xfrm>
            <a:off x="7543800" y="0"/>
            <a:ext cx="2362320" cy="1647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162920" y="4419720"/>
            <a:ext cx="2361960" cy="8240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Организация помощи сиротской многодетной семь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5486400"/>
            <a:ext cx="2590920" cy="10674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Содействие открытию магазина по продаже товаров первой необходим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2895480"/>
            <a:ext cx="5410080" cy="3682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дентификация пробл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1447920"/>
            <a:ext cx="7239240" cy="10087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Примеры реализованных инициатив женской общественной организацией “Надежда” в Новоборисовской СТО В.Михайловского р-н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19320" y="609480"/>
            <a:ext cx="6019560" cy="9471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99"/>
                </a:solidFill>
                <a:latin typeface="Arial"/>
              </a:rPr>
              <a:t>Содействие развитию гражданского общества и общ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1981080"/>
            <a:ext cx="3505320" cy="368280"/>
          </a:xfrm>
          <a:prstGeom prst="rect">
            <a:avLst/>
          </a:prstGeom>
          <a:solidFill>
            <a:srgbClr val="000099"/>
          </a:solidFill>
          <a:ln cap="rnd" w="9360">
            <a:solidFill>
              <a:srgbClr val="00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ПРОБЛЕ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1981080"/>
            <a:ext cx="3504960" cy="642600"/>
          </a:xfrm>
          <a:prstGeom prst="rect">
            <a:avLst/>
          </a:prstGeom>
          <a:solidFill>
            <a:srgbClr val="000099"/>
          </a:solidFill>
          <a:ln cap="rnd" w="9360">
            <a:solidFill>
              <a:srgbClr val="00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ВОЗМОЖНЫЕ ПУТИ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РЕШ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4952880"/>
            <a:ext cx="3504960" cy="10674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Широкое распространение опыта в пилотных общинах (буклеты, семинары, поездки по обмену опытом и др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2819520"/>
            <a:ext cx="3505320" cy="58068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Использование бюджетных средст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3809880"/>
            <a:ext cx="3504960" cy="8240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Использование механизма социального заказа на уровне области, района, сел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86400" y="3809880"/>
            <a:ext cx="3505320" cy="58068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азработка механизма на основе опыта в города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5029200"/>
            <a:ext cx="3504960" cy="7077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ассивность сельских жител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2743200"/>
            <a:ext cx="3505320" cy="8240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Устойчивость модели использования сельских координатор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4191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5410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103-0387_IMG" descr=""/>
          <p:cNvPicPr/>
          <p:nvPr/>
        </p:nvPicPr>
        <p:blipFill>
          <a:blip r:embed="rId1"/>
          <a:stretch/>
        </p:blipFill>
        <p:spPr>
          <a:xfrm>
            <a:off x="7467480" y="0"/>
            <a:ext cx="243864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7:04:42Z</dcterms:created>
  <dc:creator>USER</dc:creator>
  <dc:description/>
  <dc:language>en-US</dc:language>
  <cp:lastModifiedBy>Viktor R. KLYMONCHUK</cp:lastModifiedBy>
  <dcterms:modified xsi:type="dcterms:W3CDTF">2003-07-06T07:31:37Z</dcterms:modified>
  <cp:revision>138</cp:revision>
  <dc:subject/>
  <dc:title>Презентация PowerPoint</dc:title>
</cp:coreProperties>
</file>