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0D9-F81A-4422-9B56-EC59F0F9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492-D40F-4C6A-8EE5-008680A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86A-9699-4E17-A499-7EC10B2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6FB-88C2-449E-834A-CBC8A83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1B2-9C8D-477B-9480-1D623EB7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18D-8B87-4D4D-A7D4-C099AA2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8C0-4CE2-4325-B978-ED90CA4F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95C-042B-4B3E-9386-C9E8F6A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E44-6B1A-4F08-BC2B-70612B0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5A6-BE64-47BD-BA0B-BC30D379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E45-19C2-4EF6-BF43-90B7B1D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985-8ADB-448E-B876-92A10D7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137B-26D2-4429-8CC4-6B53FFBD82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849636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Rural Community Mobilisation </a:t>
            </a:r>
            <a:r>
              <a:rPr b="1" lang="uk-UA" sz="3200" spc="-1" strike="noStrike">
                <a:solidFill>
                  <a:srgbClr val="000099"/>
                </a:solidFill>
                <a:latin typeface="Arial Narrow"/>
              </a:rPr>
              <a:t>– </a:t>
            </a: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models developed and implemented in Odessa o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5257800"/>
            <a:ext cx="708660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ria M. Osipo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,  Ph. D. (Economics), Assistant Prof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2966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63520"/>
            <a:ext cx="4386240" cy="633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w level of public activity among rural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6019920" cy="1117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Cyr"/>
              </a:rPr>
              <a:t>Facilitating Rural Community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39960"/>
            <a:ext cx="3878280" cy="7333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«.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level of involving rural people in the activities of formal and non-formal NGOs is extremely low – it makes up only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7%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91120"/>
            <a:ext cx="2666880" cy="642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rural coordin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3657600"/>
            <a:ext cx="2895840" cy="1434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ilitating the establishment, training and activities of the 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114800"/>
            <a:ext cx="1981080" cy="764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rural initiativ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ll_5_2" descr=""/>
          <p:cNvPicPr/>
          <p:nvPr/>
        </p:nvPicPr>
        <p:blipFill>
          <a:blip r:embed="rId1"/>
          <a:stretch/>
        </p:blipFill>
        <p:spPr>
          <a:xfrm>
            <a:off x="6781680" y="0"/>
            <a:ext cx="3124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8600"/>
            <a:ext cx="4386240" cy="633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w level of public activity among rural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601992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Cyr"/>
              </a:rPr>
              <a:t>Facilitating the Development of Civil Society and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04812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352680"/>
            <a:ext cx="2971800" cy="11912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 in rural community mobilisation, establishment, registration and activities of 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352680"/>
            <a:ext cx="2971800" cy="1465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 in developing social projects and attracting resources for their implementation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8280070_2" descr=""/>
          <p:cNvPicPr/>
          <p:nvPr/>
        </p:nvPicPr>
        <p:blipFill>
          <a:blip r:embed="rId1"/>
          <a:stretch/>
        </p:blipFill>
        <p:spPr>
          <a:xfrm>
            <a:off x="6781680" y="0"/>
            <a:ext cx="3124440" cy="1901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81280" y="5029200"/>
            <a:ext cx="2971800" cy="916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ing social and economic problems of rural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601992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Cyr"/>
              </a:rPr>
              <a:t>Facilitating the Development of Civil Society and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352680"/>
            <a:ext cx="5867640" cy="14479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based on using local villag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oborysovka commun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lykomykhaylovsky rayo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029200"/>
            <a:ext cx="2971800" cy="1310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ting of greenery in the village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ting birch and lime tree garden in the village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rural people participated in the event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486400"/>
            <a:ext cx="266724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of the sports yard in the village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ment of rural youth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Untitled-9" descr=""/>
          <p:cNvPicPr/>
          <p:nvPr/>
        </p:nvPicPr>
        <p:blipFill>
          <a:blip r:embed="rId1"/>
          <a:stretch/>
        </p:blipFill>
        <p:spPr>
          <a:xfrm>
            <a:off x="7543800" y="0"/>
            <a:ext cx="2362320" cy="164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162920" y="3733920"/>
            <a:ext cx="236196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sing the provision of the  support to the family of orph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334120"/>
            <a:ext cx="2590920" cy="8240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stance in starting up of the essential goods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895480"/>
            <a:ext cx="54100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a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447920"/>
            <a:ext cx="7239240" cy="1008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xamples of initiatives implemented by Women NGO “Nadezhda” in Novoborysovka community, Velykomykhaylovsky 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609480"/>
            <a:ext cx="601956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Cyr"/>
              </a:rPr>
              <a:t>Facilitating the Development of Civil Society and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981080"/>
            <a:ext cx="3505320" cy="368280"/>
          </a:xfrm>
          <a:prstGeom prst="rect">
            <a:avLst/>
          </a:prstGeom>
          <a:solidFill>
            <a:srgbClr val="000099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981080"/>
            <a:ext cx="3504960" cy="368280"/>
          </a:xfrm>
          <a:prstGeom prst="rect">
            <a:avLst/>
          </a:prstGeom>
          <a:solidFill>
            <a:srgbClr val="000099"/>
          </a:solidFill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SIBL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952880"/>
            <a:ext cx="350496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semination in pilot communities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lets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s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on-sharing tours, etc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819520"/>
            <a:ext cx="3505320" cy="337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budget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809880"/>
            <a:ext cx="3504960" cy="10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acting budget funding for implementing social projects on the oblast, rayon and villag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809880"/>
            <a:ext cx="3505320" cy="580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ing mechanisms on the basis of urban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029200"/>
            <a:ext cx="3504960" cy="707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vity of rural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743200"/>
            <a:ext cx="3505320" cy="580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tainability of the rural coordinator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03-0387_IMG" descr=""/>
          <p:cNvPicPr/>
          <p:nvPr/>
        </p:nvPicPr>
        <p:blipFill>
          <a:blip r:embed="rId1"/>
          <a:stretch/>
        </p:blipFill>
        <p:spPr>
          <a:xfrm>
            <a:off x="7467480" y="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04:42Z</dcterms:created>
  <dc:creator>USER</dc:creator>
  <dc:description/>
  <dc:language>en-US</dc:language>
  <cp:lastModifiedBy>Valentyna Okladna</cp:lastModifiedBy>
  <dcterms:modified xsi:type="dcterms:W3CDTF">2003-07-07T15:52:20Z</dcterms:modified>
  <cp:revision>153</cp:revision>
  <dc:subject/>
  <dc:title>Презентация PowerPoint</dc:title>
</cp:coreProperties>
</file>