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7588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D296-B068-478D-8D01-BF6966A8A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FCD1-22DC-45C1-99D1-F6AD2F3B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3D9C-915C-44F4-865D-BE2AA0842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12C9-2DD7-45EE-8396-6C9DB0B27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A948-4927-4AAB-A4F0-97674F48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A7BE-1CB0-4EF7-BACB-AC641B0A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7277-1F86-4645-9054-A3385475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B364-7C71-48DE-AE76-CDE52275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4ADD-3460-4F72-A7B9-9DDE93AC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028B-AD6A-4B93-A7FF-F671A4BE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28FA-48F9-4041-9E7C-D7986A0C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D2F9-5F4C-46DA-9642-A40D154E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3A56-0301-4690-AF42-7A6AD9D57E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837720" y="1676160"/>
            <a:ext cx="8496360" cy="1447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Arial Narrow"/>
              </a:rPr>
              <a:t>Опыт развития партнерских отношений - модели, разработанные и апробированные в Одесской обла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9880" y="5715000"/>
            <a:ext cx="5181840" cy="764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Arial Narrow"/>
              </a:rPr>
              <a:t>Подвысоцкая Тамара Николаевна, </a:t>
            </a:r>
            <a:r>
              <a:rPr b="1" lang="uk-UA" sz="2000" spc="-1" strike="noStrike">
                <a:solidFill>
                  <a:srgbClr val="000099"/>
                </a:solidFill>
                <a:latin typeface="Arial Narrow"/>
              </a:rPr>
              <a:t>руководитель Программы в Одесской обла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9296640" cy="1535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90720" y="3886200"/>
            <a:ext cx="4114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Narrow"/>
              </a:rPr>
              <a:t>Общественная организация «Центр развития и правовой поддержки сел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10080" y="3809880"/>
            <a:ext cx="403884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Narrow"/>
              </a:rPr>
              <a:t>Предприятие  «Консалтагр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420040" cy="11430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РАЗВИТИЕ ФОРМ ПАРТНЕРСКИХ ОТНОШЕНИЙ – КЛЮЧ К УСПЕХУ РЕАЛИЗАЦИИ ПРОГРАМ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629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частие органов власти и других партнеров в реализации Программ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Совместное внедрение и распространение наиболее успешных моделей повышения уровня жизни сельского насел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Использование ресурсов партнеров для реализации Программ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Использование бюджетных средств местных органов власти для финансирования общественно - полезных услуг, предоставляемых  сельским жителя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457200"/>
            <a:ext cx="6019920" cy="1629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99"/>
                </a:solidFill>
                <a:latin typeface="Arial Cyr"/>
              </a:rPr>
              <a:t>Формы привлечения финансовых ресурсов на реализацию Программы в обла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029200"/>
            <a:ext cx="2438280" cy="129528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ПРИМЕ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2895480"/>
            <a:ext cx="2666880" cy="21841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Участие в реализации областных и районных программ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3124080"/>
            <a:ext cx="2895480" cy="76428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Проведение платных семинар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10280" y="2895480"/>
            <a:ext cx="1981440" cy="19227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Участие в областных конкурсах социальных проек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101-0131_1_IMG" descr=""/>
          <p:cNvPicPr/>
          <p:nvPr/>
        </p:nvPicPr>
        <p:blipFill>
          <a:blip r:embed="rId1"/>
          <a:stretch/>
        </p:blipFill>
        <p:spPr>
          <a:xfrm>
            <a:off x="6629400" y="0"/>
            <a:ext cx="327672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62120" y="685800"/>
            <a:ext cx="6019560" cy="8254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99"/>
                </a:solidFill>
                <a:latin typeface="Arial Cyr"/>
              </a:rPr>
              <a:t>Формы привлечения финансовых ресурсов на реализацию Программы в области</a:t>
            </a:r>
            <a:r>
              <a:rPr b="0" lang="uk-UA" sz="2800" spc="-1" strike="noStrike">
                <a:solidFill>
                  <a:srgbClr val="000099"/>
                </a:solidFill>
                <a:latin typeface="Arial Cy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1828800"/>
            <a:ext cx="2438280" cy="91440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ПРИМЕ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752480"/>
            <a:ext cx="2971800" cy="11912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рограмма развития малого предпринимательства в Одесской области на 2003-2004 гг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2438280"/>
            <a:ext cx="2971800" cy="14655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латные семинары для председателей сельсоветов по проблемам передачи и управления объектами социальной сфер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4876920"/>
            <a:ext cx="2971800" cy="173988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Социальный проект –Поддержка молодежного предпринимательства в сельской местности Одесской области (2002, 2003 гг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91520" y="4267080"/>
            <a:ext cx="2133360" cy="916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На базе заседания Координационного совета район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76920" y="4267080"/>
            <a:ext cx="2209680" cy="20142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На базе Одесского регионального института государственного управления при Президенте Украин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6019560" y="38862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62920" y="38862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3124080"/>
            <a:ext cx="3124440" cy="14655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мест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ятельнос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проведению семинара-тренинг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здан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ю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вых рабочих мест в сельской мест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2003г.)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102-0210_IMG" descr=""/>
          <p:cNvPicPr/>
          <p:nvPr/>
        </p:nvPicPr>
        <p:blipFill>
          <a:blip r:embed="rId1"/>
          <a:stretch/>
        </p:blipFill>
        <p:spPr>
          <a:xfrm>
            <a:off x="7086600" y="0"/>
            <a:ext cx="28195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7:04:42Z</dcterms:created>
  <dc:creator>USER</dc:creator>
  <dc:description/>
  <dc:language>en-US</dc:language>
  <cp:lastModifiedBy>Viktor R. KLYMONCHUK</cp:lastModifiedBy>
  <dcterms:modified xsi:type="dcterms:W3CDTF">2003-07-06T13:22:52Z</dcterms:modified>
  <cp:revision>153</cp:revision>
  <dc:subject/>
  <dc:title>Презентация PowerPoint</dc:title>
</cp:coreProperties>
</file>