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3DD-7DD9-4A32-9747-4FDECCF0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99C-D6B5-4719-B6EF-A70D49CC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D93-1204-438B-8A38-F5310133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782F-AD6F-4C9E-B743-96D4B940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33C8-79D2-4432-9EDF-7654B3DC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F90B6-51A6-47D9-8314-F2453CC1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BB4E-41C6-4420-A786-02B72E7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55DC-E607-468D-B0CA-D2AEE167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7144-2115-49FA-89B0-EC685497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A05D-775D-4ED1-9B6E-E2E5883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DFD5-8190-4965-86B8-93866C27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B898-0F69-43A8-AD42-D3FDDC27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643B-0194-472B-8F17-F3C862D3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BF8-DF89-4A82-849E-8D7C833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8CB1-4C51-4A4A-89B5-C9D77EE9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EF77-6FCA-48B6-98A4-3D4F232A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1AC-35F7-4E54-8F7F-3C6CBDA7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F55-122B-4EAD-AAEA-EB6236A2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283-BD04-4474-809B-C5AC533D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259-D715-487F-AAFF-7927EDE9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6BB-66B2-4A5A-BF87-D8E439CF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72EE-71DF-4AC4-B0DA-23E9021B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A80-4D4F-4A2C-A409-C8C90D0E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A99C-1D0A-42BB-B5D6-71BAF774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8474-B173-4CAB-9604-E59FDA4C4F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AAF2-C87F-4E54-B521-307DA15975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10100192" descr=""/>
          <p:cNvPicPr/>
          <p:nvPr/>
        </p:nvPicPr>
        <p:blipFill>
          <a:blip r:embed="rId1"/>
          <a:stretch/>
        </p:blipFill>
        <p:spPr>
          <a:xfrm>
            <a:off x="279360" y="-304920"/>
            <a:ext cx="9169560" cy="6877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2560" y="1599840"/>
            <a:ext cx="846144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 Narrow"/>
              </a:rPr>
              <a:t>Community mobilisatio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6754680" cy="11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57240" y="509112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Vladislav</a:t>
            </a:r>
            <a:r>
              <a:rPr b="1" lang="uk-UA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Karpenk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Narrow"/>
              </a:rPr>
              <a:t>Community Development Specialist, URLP, Ky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0481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Arial Narrow"/>
              </a:rPr>
              <a:t>Support to Village Initiative Group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701880"/>
            <a:ext cx="9144000" cy="10670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914400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Low rural people participation </a:t>
            </a:r>
            <a:br>
              <a:rPr sz="3200"/>
            </a:b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and activit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280" y="1488960"/>
            <a:ext cx="22860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zzle2"/>
          <p:cNvSpPr/>
          <p:nvPr/>
        </p:nvSpPr>
        <p:spPr>
          <a:xfrm>
            <a:off x="7924680" y="228600"/>
            <a:ext cx="1040040" cy="6494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295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velopment of 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Long-term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Community </a:t>
            </a:r>
            <a:br>
              <a:rPr sz="3200"/>
            </a:br>
            <a:r>
              <a:rPr b="0" i="1" lang="en-US" sz="3200" spc="-1" strike="noStrike">
                <a:solidFill>
                  <a:srgbClr val="ffcc66"/>
                </a:solidFill>
                <a:latin typeface="Arial"/>
              </a:rPr>
              <a:t>Socio-economic Development Program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63196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upport to the establishment and development of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749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809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rganisation of public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514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657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800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99428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Public Active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5627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8323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ool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ocial initiatives, grants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0400" y="759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34d"/>
                </a:solidFill>
                <a:latin typeface="Arial"/>
              </a:rPr>
              <a:t>Uncertainty. Dissociation. Unbelief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743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reation of a working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Questionnaires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roblems</a:t>
            </a: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nd n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orking out of key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Working out of an action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ear sources of fin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Narrow"/>
              </a:rPr>
              <a:t>Public discussions </a:t>
            </a:r>
            <a:r>
              <a:rPr b="1" lang="ru-RU" sz="3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66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ffff66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Arial Narrow"/>
              </a:rPr>
              <a:t>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 Narrow"/>
              </a:rPr>
              <a:t>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Narrow"/>
              </a:rPr>
              <a:t>Long-term Community Socio-economic Development Programm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57200" y="2666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actics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560" y="114480"/>
            <a:ext cx="288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Questionnai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457200" y="137160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Tool </a:t>
            </a:r>
            <a:r>
              <a:rPr b="1" lang="uk-UA" sz="3600" spc="-1" strike="noStrike">
                <a:solidFill>
                  <a:srgbClr val="ffffff"/>
                </a:solidFill>
                <a:latin typeface="Arial Narrow"/>
              </a:rPr>
              <a:t>І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</a:t>
            </a:r>
            <a:r>
              <a:rPr b="0" lang="ru-MD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ІІ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Organisation of public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(community)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35812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termination of clear development orienting poi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Broad public participation (about 8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mprehensive decisions and finan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United local (community) active memb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timulation of people’s activity and initia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228600" y="17524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actics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209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Discussions ‘within street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Community mee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Holidays / ev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Arial Narrow"/>
              </a:rPr>
              <a:t>Participation in the work of local author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228600" y="35812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Results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zhuk" descr=""/>
          <p:cNvPicPr/>
          <p:nvPr/>
        </p:nvPicPr>
        <p:blipFill>
          <a:blip r:embed="rId1"/>
          <a:stretch/>
        </p:blipFill>
        <p:spPr>
          <a:xfrm>
            <a:off x="6116760" y="1371600"/>
            <a:ext cx="2874960" cy="2157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040" y="-228960"/>
            <a:ext cx="952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Narrow"/>
              </a:rPr>
              <a:t>7 </a:t>
            </a:r>
            <a:r>
              <a:rPr b="1" lang="en-US" sz="3600" spc="-1" strike="noStrike">
                <a:solidFill>
                  <a:srgbClr val="ffcc66"/>
                </a:solidFill>
                <a:latin typeface="Arial Narrow"/>
              </a:rPr>
              <a:t>December</a:t>
            </a:r>
            <a:r>
              <a:rPr b="1" lang="ru-RU" sz="3600" spc="-1" strike="noStrike">
                <a:solidFill>
                  <a:srgbClr val="ffcc66"/>
                </a:solidFill>
                <a:latin typeface="Arial Narrow"/>
              </a:rPr>
              <a:t> 2002 – </a:t>
            </a:r>
            <a:r>
              <a:rPr b="1" lang="en-US" sz="3600" spc="-1" strike="noStrike">
                <a:solidFill>
                  <a:srgbClr val="ffcc66"/>
                </a:solidFill>
                <a:latin typeface="Arial Narrow"/>
              </a:rPr>
              <a:t>Day of Local Governance</a:t>
            </a:r>
            <a:r>
              <a:rPr b="1" lang="ru-RU" sz="36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uk-UA" sz="3600" spc="-1" strike="noStrike">
                <a:solidFill>
                  <a:srgbClr val="ffcc66"/>
                </a:solidFill>
                <a:latin typeface="Arial Narrow"/>
              </a:rPr>
              <a:t>         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ests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Games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t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iscussion of the Complex Community Development Programme for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2003-200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4114800"/>
            <a:ext cx="4952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Complex Community Development Programme for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2003-2006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 was appro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hanges and amendments to the community development plan were adop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Local fundraising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–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$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2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1010008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4549680"/>
            <a:ext cx="2874960" cy="2156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1120" y="341316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Arial Narrow"/>
              </a:rPr>
              <a:t>Results</a:t>
            </a: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609480"/>
            <a:ext cx="56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Arial Narrow"/>
              </a:rPr>
              <a:t>Zhukivka</a:t>
            </a:r>
            <a:r>
              <a:rPr b="0" lang="ru-RU" sz="2800" spc="-1" strike="noStrike">
                <a:solidFill>
                  <a:srgbClr val="ff0033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Arial Narrow"/>
              </a:rPr>
              <a:t>Community</a:t>
            </a:r>
            <a:r>
              <a:rPr b="0" lang="ru-RU" sz="2800" spc="-1" strike="noStrike">
                <a:solidFill>
                  <a:srgbClr val="ff0033"/>
                </a:solidFill>
                <a:latin typeface="Arial Narrow"/>
              </a:rPr>
              <a:t> (</a:t>
            </a:r>
            <a:r>
              <a:rPr b="0" lang="en-US" sz="2800" spc="-1" strike="noStrike">
                <a:solidFill>
                  <a:srgbClr val="ff0033"/>
                </a:solidFill>
                <a:latin typeface="Arial Narrow"/>
              </a:rPr>
              <a:t>Kyiv</a:t>
            </a:r>
            <a:r>
              <a:rPr b="0" lang="uk-UA" sz="2800" spc="-1" strike="noStrike">
                <a:solidFill>
                  <a:srgbClr val="ff0033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Arial Narrow"/>
              </a:rPr>
              <a:t>oblast</a:t>
            </a:r>
            <a:r>
              <a:rPr b="0" lang="ru-RU" sz="2800" spc="-1" strike="noStrike">
                <a:solidFill>
                  <a:srgbClr val="ff0033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2:36:13Z</dcterms:created>
  <dc:creator>SG</dc:creator>
  <dc:description/>
  <dc:language>en-US</dc:language>
  <cp:lastModifiedBy>SG</cp:lastModifiedBy>
  <dcterms:modified xsi:type="dcterms:W3CDTF">2003-07-07T07:03:16Z</dcterms:modified>
  <cp:revision>46</cp:revision>
  <dc:subject/>
  <dc:title>Презентация PowerPoint</dc:title>
</cp:coreProperties>
</file>