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F03-3783-4909-81C6-7C94832D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BCD9-DDFC-4A6C-B475-D4626F5D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98E-0D91-43D2-8310-85E9C153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5FE-9C7D-4176-B25B-31824891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B9DB-BB79-4441-BF05-C18AA4B1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9077-1C80-4BA3-B553-856B3B75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3A3-AC83-4ABF-9B13-137BBF18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BD41-B830-4E03-B046-02F54FB7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2EA1-0E70-4848-9273-0621C3E7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F9F6-0B22-4ECF-8557-C1509C12D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B2B-B550-48B0-9E5E-2F374242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D3A5-47A8-40D2-AC72-B7CD6484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700-9E88-4D63-B42E-06BA10F8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4115-ADB0-4404-985A-442716F4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B56C-A2F6-44B1-81ED-DE8870A6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01F8-3302-4A27-B9B3-AFEA68F3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7762-343F-47DD-BC65-DE08CFA5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A8A-860B-435D-A0E3-2E4F6B84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FAB-46B7-4A36-B9D8-E94276B0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A35B-E78D-4183-923A-48532EE4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206E-0B00-4E15-8570-8534BA6F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C7F-7973-4E68-AC5B-D968214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6057-4371-4A15-AD8C-AD987122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7DD9-BF45-4E4E-9004-255D332D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9531-F1E0-4308-9D14-68E9C8978C9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85E3-3053-465F-8115-79ACD4C71DD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92C5-6246-4BD8-AC09-7286ED44036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C65A-512D-46DF-9A6F-D34C48BEC5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10100192" descr=""/>
          <p:cNvPicPr/>
          <p:nvPr/>
        </p:nvPicPr>
        <p:blipFill>
          <a:blip r:embed="rId1"/>
          <a:stretch/>
        </p:blipFill>
        <p:spPr>
          <a:xfrm>
            <a:off x="228600" y="-76320"/>
            <a:ext cx="8975880" cy="6732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2560" y="1599840"/>
            <a:ext cx="8461440" cy="7621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 Narrow"/>
              </a:rPr>
              <a:t>Мобилизация общины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52280"/>
            <a:ext cx="6754680" cy="1116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857240" y="5091120"/>
            <a:ext cx="705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 Narrow"/>
              </a:rPr>
              <a:t>Владислав Карпен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Narrow"/>
              </a:rPr>
              <a:t>Специалист по развитию социальной сферы, Ки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30481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33"/>
                </a:solidFill>
                <a:latin typeface="Arial Narrow"/>
              </a:rPr>
              <a:t>«Поддержка сельских инициативных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33"/>
                </a:solidFill>
                <a:latin typeface="Arial Narrow"/>
              </a:rPr>
              <a:t>групп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3701880"/>
            <a:ext cx="9144000" cy="106704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10666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Низкая гражданская активность сельского населения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52280" y="1488960"/>
            <a:ext cx="2286000" cy="4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zzle2"/>
          <p:cNvSpPr/>
          <p:nvPr/>
        </p:nvSpPr>
        <p:spPr>
          <a:xfrm>
            <a:off x="7924680" y="228600"/>
            <a:ext cx="1040040" cy="649440"/>
          </a:xfrm>
          <a:prstGeom prst="pi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129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Долгосрочные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 (4-5 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лет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)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программы  соц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иально-экономическо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63196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Содействие созданию </a:t>
            </a:r>
            <a:br>
              <a:rPr sz="3200"/>
            </a:b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общественн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ых организаций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749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ІІ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581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Проведение общественных мероприятий</a:t>
            </a: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514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657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480060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499428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Общественно активная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55627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832360"/>
            <a:ext cx="2667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нструмент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Социальные инициативы, грант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MD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00400" y="759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234d"/>
                </a:solidFill>
                <a:latin typeface="Arial"/>
              </a:rPr>
              <a:t>Неопределенность.  Разобщенность.  Неверие.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7040" y="2743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Создание рабочей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групп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Анкетирование </a:t>
            </a:r>
            <a:r>
              <a:rPr b="1" lang="ru-R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проблемы и потреб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Выработка основных методо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азработка плана действ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Четкое определение финансирова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 Narrow"/>
              </a:rPr>
              <a:t>Публичное обсуждение </a:t>
            </a:r>
            <a:r>
              <a:rPr b="1" lang="ru-RU" sz="2800" spc="-1" strike="noStrike">
                <a:solidFill>
                  <a:srgbClr val="ffff66"/>
                </a:solidFill>
                <a:latin typeface="Wingdings"/>
                <a:ea typeface="Wingdings"/>
              </a:rPr>
              <a:t></a:t>
            </a:r>
            <a:r>
              <a:rPr b="1" lang="ru-RU" sz="2800" spc="-1" strike="noStrike">
                <a:solidFill>
                  <a:srgbClr val="ffff66"/>
                </a:solidFill>
                <a:latin typeface="Arial Narrow"/>
              </a:rPr>
              <a:t> Утверж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Обу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 Narrow"/>
              </a:rPr>
              <a:t>Мониторин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Стратег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295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Инструмент 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І.</a:t>
            </a:r>
            <a:r>
              <a:rPr b="0" lang="uk-UA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Разработка программ соц</a:t>
            </a:r>
            <a:r>
              <a:rPr b="1" lang="ru-RU" sz="2800" spc="-1" strike="noStrike">
                <a:solidFill>
                  <a:srgbClr val="ffcc66"/>
                </a:solidFill>
                <a:latin typeface="Arial Narrow"/>
              </a:rPr>
              <a:t>иально-экономического развития общин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666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Такти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9960" y="206280"/>
            <a:ext cx="30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нкетирование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3200" spc="-1" strike="noStrike">
                <a:solidFill>
                  <a:srgbClr val="ffffff"/>
                </a:solidFill>
                <a:latin typeface="Arial"/>
              </a:rPr>
              <a:t>Инструмент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ІІІ.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uk-UA" sz="2800" spc="-1" strike="noStrike">
                <a:solidFill>
                  <a:srgbClr val="ffcc66"/>
                </a:solidFill>
                <a:latin typeface="Arial Narrow"/>
              </a:rPr>
              <a:t>	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Проведение общественных   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ffcc66"/>
                </a:solidFill>
                <a:latin typeface="Arial"/>
              </a:rPr>
              <a:t>мероприятий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7040" y="33526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Определение четких ориентиров развит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Широкое вовлечение общественности (ок.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Комплексность решений и финансировани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Объединение местного акти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Стимулирование активности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228600" y="15238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Тактик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Уличное обсуж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Сход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Праздн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 </a:t>
            </a:r>
            <a:r>
              <a:rPr b="1" lang="ru-MD" sz="2800" spc="-1" strike="noStrike">
                <a:solidFill>
                  <a:srgbClr val="ffcc66"/>
                </a:solidFill>
                <a:latin typeface="Arial Narrow"/>
              </a:rPr>
              <a:t>Работа органов местного самоуправ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228600" y="3352680"/>
            <a:ext cx="22860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Результат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zhuk" descr=""/>
          <p:cNvPicPr/>
          <p:nvPr/>
        </p:nvPicPr>
        <p:blipFill>
          <a:blip r:embed="rId1"/>
          <a:stretch/>
        </p:blipFill>
        <p:spPr>
          <a:xfrm>
            <a:off x="6116760" y="1295280"/>
            <a:ext cx="2874960" cy="21574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9040" y="-76680"/>
            <a:ext cx="952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Narrow"/>
              </a:rPr>
              <a:t>7 декабря 2002 г. – день местного самоуправления </a:t>
            </a:r>
            <a:r>
              <a:rPr b="1" lang="uk-UA" sz="3600" spc="-1" strike="noStrike">
                <a:solidFill>
                  <a:srgbClr val="ffcc66"/>
                </a:solidFill>
                <a:latin typeface="Arial Narrow"/>
              </a:rPr>
              <a:t>         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Конкурс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Игр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Лотере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Обсуждение комплексной Программы развития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 СТО на 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2003-2006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 гг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191120" y="3809880"/>
            <a:ext cx="4952880" cy="3276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Одобрена комплексная Программа развития СТО на 2003-2006 г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Внесены изменения и дополнения в план развития СТ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Локальный фандрайзинг</a:t>
            </a:r>
            <a:r>
              <a:rPr b="1" lang="uk-UA" sz="28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$</a:t>
            </a:r>
            <a:r>
              <a:rPr b="1" lang="ru-RU" sz="2800" spc="-1" strike="noStrike">
                <a:solidFill>
                  <a:srgbClr val="ffffff"/>
                </a:solidFill>
                <a:latin typeface="Arial Narrow"/>
              </a:rPr>
              <a:t>2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1010008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228600" y="4473720"/>
            <a:ext cx="2874960" cy="215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31240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 Narrow"/>
              </a:rPr>
              <a:t>Итоги</a:t>
            </a:r>
            <a:r>
              <a:rPr b="0" lang="ru-RU" sz="40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14920" y="5335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Жуковская СТО (Киевская</a:t>
            </a:r>
            <a:r>
              <a:rPr b="0" lang="uk-UA" sz="2800" spc="-1" strike="noStrike">
                <a:solidFill>
                  <a:srgbClr val="ff0033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обл</a:t>
            </a:r>
            <a:r>
              <a:rPr b="0" lang="uk-UA" sz="2800" spc="-1" strike="noStrike">
                <a:solidFill>
                  <a:srgbClr val="ff0033"/>
                </a:solidFill>
                <a:latin typeface="Arial Narrow"/>
              </a:rPr>
              <a:t>.</a:t>
            </a:r>
            <a:r>
              <a:rPr b="0" lang="ru-RU" sz="2800" spc="-1" strike="noStrike">
                <a:solidFill>
                  <a:srgbClr val="ff0033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7T12:36:13Z</dcterms:created>
  <dc:creator>SG</dc:creator>
  <dc:description/>
  <dc:language>en-US</dc:language>
  <cp:lastModifiedBy>SG</cp:lastModifiedBy>
  <dcterms:modified xsi:type="dcterms:W3CDTF">2003-07-07T07:01:17Z</dcterms:modified>
  <cp:revision>33</cp:revision>
  <dc:subject/>
  <dc:title>Презентация PowerPoint</dc:title>
</cp:coreProperties>
</file>