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6E2-C86E-40A2-95AB-917436C1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FB0-8B9D-410C-A97A-C9EBAFBB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AE8-C665-4A43-8686-7A38A43F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043-3A92-4A46-B99B-BC4F0D7A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97E0-8008-4634-AEA6-F306C30F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948F-F1BF-448A-A480-1B6B2553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FB8E-7FC8-43E4-8BCB-E2ACF2F1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346F-27DA-4EC7-AA1F-ABF535C2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A207-8D92-4F02-95D4-0FF8B7C1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9373-7AB5-4BC0-9308-5F4F0334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1676-7BD3-40EA-8673-6EE19839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626-24B2-454E-B4F8-A6FC89F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615B-DA49-4C1D-B9AF-CB80DFF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A060-5413-4F53-8CCD-6D8B3DC7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1881-DB35-4FF7-8681-A775F15A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8CBE-5069-4399-B461-5C0294C2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2523-467B-49FE-A3D3-68538721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27B-AA96-49F8-A0F6-D61B7A80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8D6-FF10-49F1-8135-8303E2BF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467-7072-4A82-884A-09796F02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93A-4997-448E-B9AA-B34DFC6E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757-C1A0-45C4-922D-261295AC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0AC-6B35-4CF8-8E14-0AF6E7AD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CC1-1AD2-44DD-960F-1EF2AC45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59F1-14CB-4B88-9CB6-D9CB57EC30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1C4-C225-49F2-8B46-365E9ECBD7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19160" y="2114280"/>
            <a:ext cx="60195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Развитие общественных организаций на уровне сельской общины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DAD%20%20logo%20ua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6708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2120" y="4495680"/>
            <a:ext cx="5638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Представляет: Инна Герасимен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председател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ественной организации «Донецкое аграрное развитие» (ДА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_URLP" descr=""/>
          <p:cNvPicPr/>
          <p:nvPr/>
        </p:nvPicPr>
        <p:blipFill>
          <a:blip r:embed="rId3"/>
          <a:stretch/>
        </p:blipFill>
        <p:spPr>
          <a:xfrm>
            <a:off x="6629400" y="5380200"/>
            <a:ext cx="2006640" cy="107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FBC-C893-44D1-80F8-9C1F3D96D5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Что сдерживает развитие общественных организаций (NGO) в сельской местнос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Сложная процедура легализации N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затраты на легализацию N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Отсутствие грантовой истории у начинающих N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Отсутствие квалифицированного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Изолированность сельских N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Финансовая неустойчив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539-085C-4752-B8BD-850E3EC9E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Как активизировать развитие NGO в сельской местнос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ормировать сеть сельских первичных ячеек (подразделений) областной NGO (вместо создания обособленных NGO - юр.лиц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Untitled-1%20copy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2687760" cy="2525760"/>
          </a:xfrm>
          <a:prstGeom prst="rect">
            <a:avLst/>
          </a:prstGeom>
          <a:ln w="0">
            <a:noFill/>
          </a:ln>
        </p:spPr>
      </p:pic>
      <p:pic>
        <p:nvPicPr>
          <p:cNvPr id="92" name="семинар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3657600" cy="24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D4D-376F-400A-8CF6-7094F45AB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40132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Бесплатная легализация за 1 ден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Нет налогового и бух. уч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22760" y="1752120"/>
            <a:ext cx="40132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Платная легализация в течение 2-х ме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Полная ответственность перед контролирующими орган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Сравним аспекты создания: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первичной ячейки и NGO-юр.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0B1-D6B3-42EE-8DB0-03CA1C2DA2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Первичные ячейки и NGO-юр.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752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Возможности для 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4188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Содружество: ячейка - часть большо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Грантовая история-одна на все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Возможность стать независимой организац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22760" y="24188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Начинаешь с ну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Сам по себ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Неконкурентноспо-собен в получении гра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Неустойчив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407-9A49-4DCA-9E49-9A3C8BCFF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22760" y="2362320"/>
            <a:ext cx="40132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С 1998 г. по 2001 г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создано 4 N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 членов N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первичные ячейки и NGO-юр.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752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Возможности для репл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132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С начала 2003 г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создано 13 первичных яче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70 члено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896-0FED-4BE0-97D6-C7AFF17307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AD%20%20logo%20ua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6708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9568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Представила: Инна Герасимен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председатель 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Logo_URLP" descr=""/>
          <p:cNvPicPr/>
          <p:nvPr/>
        </p:nvPicPr>
        <p:blipFill>
          <a:blip r:embed="rId3"/>
          <a:stretch/>
        </p:blipFill>
        <p:spPr>
          <a:xfrm>
            <a:off x="6629400" y="5380200"/>
            <a:ext cx="2006640" cy="1077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19520" y="2114640"/>
            <a:ext cx="60195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Развитие общественных организаций на уровне сельской общ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36C-FCB7-4286-A8D2-8676C1810E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5:01:02Z</dcterms:created>
  <dc:creator>Natalya</dc:creator>
  <dc:description/>
  <dc:language>en-US</dc:language>
  <cp:lastModifiedBy>Viktor R. KLYMONCHUK</cp:lastModifiedBy>
  <cp:lastPrinted>2003-07-02T22:56:08Z</cp:lastPrinted>
  <dcterms:modified xsi:type="dcterms:W3CDTF">2003-07-06T08:51:38Z</dcterms:modified>
  <cp:revision>61</cp:revision>
  <dc:subject/>
  <dc:title>Заголовок слайда отсутствует</dc:title>
</cp:coreProperties>
</file>