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4C0-BE1C-4752-8E0C-A5655E3A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146-236D-4654-B4E1-10CE2F16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595-BA58-4A66-AC2A-F8AA2EE8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F51-031A-4541-ADC7-633A8D7B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8FA3-6FFD-45EE-AED0-AE0C4799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8BD8-CCD7-4705-B79D-1AA0F200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70B2-2A38-4613-B30B-6D366293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5B93-A219-4973-9AB2-BF750855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E154-6890-4AA9-9CB8-B175BCC4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B9A4-8DD8-4C33-A20B-ECBCEBAC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33AE-7D66-4F03-93A9-D9B7DDB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E92-8956-4B3A-AC45-ABE96801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71F7-FB33-4C12-BDB8-4B8E229F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155A-223A-45A6-BFAD-D082D6CB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27A4-8249-4DA1-9E69-6A61DFC0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8FD3-B2A6-45FB-BBA1-75D3DEE9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13EF-AEAD-4831-A90E-AE1516E0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7AD-17C2-4362-B1FF-47389107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E54-BF63-43DE-945C-331DBA46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BF6-0F89-48E2-9AF0-5A3B1F9C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DE9-0426-4923-8C57-2FD2B44A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72C-3B90-4F26-931C-ED017B49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BF0-2BA2-47E0-8A29-E88922B4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1BA-0993-4CBA-B491-3F5BBC73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CFAE-2BD2-41F7-9733-084646B4AF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65A-DB26-4CBB-8E1B-E51D9EA9E7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19160" y="2342880"/>
            <a:ext cx="60195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ahoma"/>
              </a:rPr>
              <a:t>Facilitating Community Organisation at Village level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DAD%20%20logo%20ua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6708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2120" y="449568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sented by Inna Gerasimenk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airman of the Boar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_URLP" descr=""/>
          <p:cNvPicPr/>
          <p:nvPr/>
        </p:nvPicPr>
        <p:blipFill>
          <a:blip r:embed="rId3"/>
          <a:stretch/>
        </p:blipFill>
        <p:spPr>
          <a:xfrm>
            <a:off x="6629400" y="5380200"/>
            <a:ext cx="2006640" cy="107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02C-A8A4-4F98-AA78-CA1DB1A5FD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What hinders NGO development  in rural area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licated procedure for the legalisation of NG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enditures for the legalisation of an N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ck of grant history of new NG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ck of qualified personn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solation of rural NG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ancial ins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D4D-F5D8-460E-BE76-EA8A8E1D79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How to accelerate the development of village-based NG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 networks of rural affiliates of Oblast NGO (instead of establishing independent NGOs as legal enti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Untitled-1%20copy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687760" cy="2525760"/>
          </a:xfrm>
          <a:prstGeom prst="rect">
            <a:avLst/>
          </a:prstGeom>
          <a:ln w="0">
            <a:noFill/>
          </a:ln>
        </p:spPr>
      </p:pic>
      <p:pic>
        <p:nvPicPr>
          <p:cNvPr id="92" name="семинар" descr=""/>
          <p:cNvPicPr/>
          <p:nvPr/>
        </p:nvPicPr>
        <p:blipFill>
          <a:blip r:embed="rId2"/>
          <a:stretch/>
        </p:blipFill>
        <p:spPr>
          <a:xfrm>
            <a:off x="4648320" y="3886200"/>
            <a:ext cx="3657600" cy="24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0E1-3FA2-4602-B607-C8550CB0EA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401328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ee legalised over 1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 taxation and bookkee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22760" y="1752120"/>
            <a:ext cx="401328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id legalisation over 2 mon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ully liable to taxation,bookkeeping and other legal procedur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90000"/>
                </a:solidFill>
                <a:latin typeface="Tahoma"/>
              </a:rPr>
              <a:t>Let’s compare legal procedures for  Affiliates   and   NGOs as a legal ent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EFD-6EA5-426C-9C61-D526B07331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Affiliates and NGOs as legal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752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Opportunities for th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41884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ellowship: affiliate is a part of a large organ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rant history - one for 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pportunity to become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22760" y="241884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rt from the ground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f its own ac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n-competitive in obtaining gr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t sustainab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04F-F930-451A-B4C6-B8074DE823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22760" y="2362320"/>
            <a:ext cx="40132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om 1998 till 200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eated 4 N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0 members of N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Tahoma"/>
              </a:rPr>
              <a:t>Affiliates and NGOs as legal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752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Opportunities for re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32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om the beginning of 200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eated 13 affilia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70 members of organis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D3D-6C04-47E3-8B6F-2CCF749C2A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DAD%20%20logo%20ua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67080" cy="3200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9568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esented by Inna Gerasimenk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airman of the Boar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Logo_URLP" descr=""/>
          <p:cNvPicPr/>
          <p:nvPr/>
        </p:nvPicPr>
        <p:blipFill>
          <a:blip r:embed="rId3"/>
          <a:stretch/>
        </p:blipFill>
        <p:spPr>
          <a:xfrm>
            <a:off x="6629400" y="5380200"/>
            <a:ext cx="2006640" cy="1077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19520" y="2343240"/>
            <a:ext cx="60195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ahoma"/>
              </a:rPr>
              <a:t>Facilitating Community Organisation at Village level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C51-04D3-4E5E-A9F0-0997212C77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5:01:02Z</dcterms:created>
  <dc:creator>Natalya</dc:creator>
  <dc:description/>
  <dc:language>en-US</dc:language>
  <cp:lastModifiedBy>Max</cp:lastModifiedBy>
  <cp:lastPrinted>2003-06-27T14:29:26Z</cp:lastPrinted>
  <dcterms:modified xsi:type="dcterms:W3CDTF">2003-07-03T19:58:38Z</dcterms:modified>
  <cp:revision>64</cp:revision>
  <dc:subject/>
  <dc:title>Заголовок слайда отсутствует</dc:title>
</cp:coreProperties>
</file>