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300c3"/>
              </a:buClr>
              <a:buSzPct val="63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00800"/>
            <a:ext cx="9144000" cy="457200"/>
          </a:xfrm>
          <a:prstGeom prst="horizontalScroll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316501"/>
              </a:gs>
              <a:gs pos="100000">
                <a:srgbClr val="ffffff"/>
              </a:gs>
            </a:gsLst>
            <a:lin ang="10800000"/>
          </a:gradFill>
          <a:ln w="6480">
            <a:solidFill>
              <a:srgbClr val="316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619280" y="6453360"/>
            <a:ext cx="590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ustainable Rural Livelihoods Program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317080" y="6524640"/>
            <a:ext cx="734760" cy="209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804000" y="6524640"/>
            <a:ext cx="14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38e00"/>
                </a:solidFill>
                <a:latin typeface="Comic Sans MS"/>
                <a:ea typeface="Arial"/>
              </a:rPr>
              <a:t>1999-2003 </a:t>
            </a:r>
            <a:r>
              <a:rPr b="1" lang="en-US" sz="900" spc="-1" strike="noStrike">
                <a:solidFill>
                  <a:srgbClr val="438e00"/>
                </a:solidFill>
                <a:latin typeface="Arial"/>
                <a:ea typeface="Arial"/>
              </a:rPr>
              <a:t>  ©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08000" y="6524640"/>
            <a:ext cx="792000" cy="21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9880" y="5181480"/>
            <a:ext cx="533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VASILY UZ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Doctor of Economic Science, Profes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600200"/>
            <a:ext cx="8534520" cy="25146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FROM PROJECT</a:t>
            </a:r>
            <a:br>
              <a:rPr sz="4400"/>
            </a:b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TO POLICY</a:t>
            </a:r>
            <a:br>
              <a:rPr sz="4400"/>
            </a:br>
            <a:r>
              <a:rPr b="1" lang="ru-RU" sz="3100" spc="-1" strike="noStrike">
                <a:solidFill>
                  <a:srgbClr val="114ffb"/>
                </a:solidFill>
                <a:latin typeface="Arial"/>
              </a:rPr>
              <a:t>(</a:t>
            </a:r>
            <a:r>
              <a:rPr b="1" lang="en-US" sz="3100" spc="-1" strike="noStrike">
                <a:solidFill>
                  <a:srgbClr val="114ffb"/>
                </a:solidFill>
                <a:latin typeface="Arial"/>
              </a:rPr>
              <a:t>pilot programme scaling-up strategy</a:t>
            </a:r>
            <a:r>
              <a:rPr b="1" lang="ru-RU" sz="3100" spc="-1" strike="noStrike">
                <a:solidFill>
                  <a:srgbClr val="114ffb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696080" y="304920"/>
            <a:ext cx="1066680" cy="609480"/>
            <a:chOff x="7696080" y="304920"/>
            <a:chExt cx="1066680" cy="609480"/>
          </a:xfrm>
        </p:grpSpPr>
        <p:sp>
          <p:nvSpPr>
            <p:cNvPr id="46" name=""/>
            <p:cNvSpPr/>
            <p:nvPr/>
          </p:nvSpPr>
          <p:spPr>
            <a:xfrm>
              <a:off x="7696080" y="304920"/>
              <a:ext cx="10666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438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96080" y="507960"/>
              <a:ext cx="1066680" cy="203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  <a:effectLst>
              <a:outerShdw dist="17819" dir="2700000" blurRad="0" rotWithShape="0">
                <a:srgbClr val="438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696080" y="711360"/>
              <a:ext cx="1066680" cy="2030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17819" dir="2700000" blurRad="0" rotWithShape="0">
                <a:srgbClr val="438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5791320" y="380880"/>
            <a:ext cx="1904760" cy="6858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ussian Fede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447920"/>
            <a:ext cx="8458200" cy="0"/>
          </a:xfrm>
          <a:prstGeom prst="line">
            <a:avLst/>
          </a:prstGeom>
          <a:ln w="254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8458200" cy="0"/>
          </a:xfrm>
          <a:prstGeom prst="line">
            <a:avLst/>
          </a:prstGeom>
          <a:ln w="254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4360" y="6222960"/>
            <a:ext cx="266040" cy="2764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1280" y="4343400"/>
            <a:ext cx="1447920" cy="1066680"/>
          </a:xfrm>
          <a:prstGeom prst="downArrow">
            <a:avLst>
              <a:gd name="adj1" fmla="val 28944"/>
              <a:gd name="adj2" fmla="val 29463"/>
            </a:avLst>
          </a:prstGeom>
          <a:solidFill>
            <a:srgbClr val="114ffb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371600"/>
            <a:ext cx="1447920" cy="2514600"/>
          </a:xfrm>
          <a:prstGeom prst="downArrow">
            <a:avLst>
              <a:gd name="adj1" fmla="val 28843"/>
              <a:gd name="adj2" fmla="val 17648"/>
            </a:avLst>
          </a:prstGeom>
          <a:solidFill>
            <a:srgbClr val="114ffb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228600"/>
            <a:ext cx="6858000" cy="5205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9a1e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Policy Influenc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914400"/>
            <a:ext cx="7315200" cy="457200"/>
          </a:xfrm>
          <a:prstGeom prst="rect">
            <a:avLst/>
          </a:prstGeom>
          <a:solidFill>
            <a:srgbClr val="114f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en Pilot Programme Exper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676520"/>
            <a:ext cx="1828800" cy="1371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Establishme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of specialise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institu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2362320"/>
            <a:ext cx="2209680" cy="1295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Preparation o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methodologi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materia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438280"/>
            <a:ext cx="2209680" cy="1295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Working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with civil societ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organis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7120" y="1600200"/>
            <a:ext cx="2360520" cy="1716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Liaising with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local, regiona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and federal leve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govern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3886200"/>
            <a:ext cx="5867640" cy="45720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ffecting change in polic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4419720"/>
            <a:ext cx="4800600" cy="914400"/>
          </a:xfrm>
          <a:prstGeom prst="ellipse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deral and reg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ws and re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5410080"/>
            <a:ext cx="594360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aling-up of the pilot program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5943600"/>
            <a:ext cx="68580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stainable rural development gaining moment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828800" y="1371600"/>
            <a:ext cx="1295280" cy="457200"/>
          </a:xfrm>
          <a:prstGeom prst="line">
            <a:avLst/>
          </a:prstGeom>
          <a:ln w="57240">
            <a:solidFill>
              <a:srgbClr val="31650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276720" y="1371600"/>
            <a:ext cx="304560" cy="990720"/>
          </a:xfrm>
          <a:prstGeom prst="line">
            <a:avLst/>
          </a:prstGeom>
          <a:ln w="57240">
            <a:solidFill>
              <a:srgbClr val="31650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1371600"/>
            <a:ext cx="609840" cy="1066680"/>
          </a:xfrm>
          <a:prstGeom prst="line">
            <a:avLst/>
          </a:prstGeom>
          <a:ln w="57240">
            <a:solidFill>
              <a:srgbClr val="31650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1371600"/>
            <a:ext cx="1295640" cy="304920"/>
          </a:xfrm>
          <a:prstGeom prst="line">
            <a:avLst/>
          </a:prstGeom>
          <a:ln w="57240">
            <a:solidFill>
              <a:srgbClr val="31650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4360" y="6222960"/>
            <a:ext cx="266040" cy="2764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8120" y="2819520"/>
            <a:ext cx="3036600" cy="1865520"/>
          </a:xfrm>
          <a:prstGeom prst="rect">
            <a:avLst/>
          </a:prstGeom>
          <a:solidFill>
            <a:srgbClr val="00ff00"/>
          </a:soli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RL Program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-ordination Counc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590920" y="1981080"/>
            <a:ext cx="4038480" cy="3885840"/>
            <a:chOff x="2590920" y="1981080"/>
            <a:chExt cx="4038480" cy="3885840"/>
          </a:xfrm>
        </p:grpSpPr>
        <p:sp>
          <p:nvSpPr>
            <p:cNvPr id="72" name=""/>
            <p:cNvSpPr/>
            <p:nvPr/>
          </p:nvSpPr>
          <p:spPr>
            <a:xfrm>
              <a:off x="2819520" y="1981080"/>
              <a:ext cx="685800" cy="83844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95680" y="2057400"/>
              <a:ext cx="0" cy="76212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5562720" y="2057400"/>
              <a:ext cx="838080" cy="76212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666880" y="2743200"/>
              <a:ext cx="381240" cy="30492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90920" y="3200400"/>
              <a:ext cx="457200" cy="7632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2590920" y="3962160"/>
              <a:ext cx="457200" cy="22860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2743200" y="4648320"/>
              <a:ext cx="304920" cy="38088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2819520" y="4723920"/>
              <a:ext cx="609480" cy="114300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4419720" y="4724280"/>
              <a:ext cx="0" cy="60984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5638680" y="4724280"/>
              <a:ext cx="609840" cy="45720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 flipV="1">
              <a:off x="6095880" y="4343040"/>
              <a:ext cx="457200" cy="30492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6095880" y="3809880"/>
              <a:ext cx="457200" cy="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6095880" y="2743200"/>
              <a:ext cx="533520" cy="38088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276720" y="1447920"/>
            <a:ext cx="2590560" cy="619560"/>
          </a:xfrm>
          <a:prstGeom prst="roundRect">
            <a:avLst>
              <a:gd name="adj" fmla="val 16667"/>
            </a:avLst>
          </a:prstGeom>
          <a:solidFill>
            <a:srgbClr val="c300c3"/>
          </a:solidFill>
          <a:ln w="9360">
            <a:solidFill>
              <a:srgbClr val="ffffff"/>
            </a:solidFill>
            <a:miter/>
          </a:ln>
          <a:effectLst>
            <a:outerShdw dist="89808" dir="483908" blurRad="0" rotWithShape="0">
              <a:srgbClr val="3165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mittee 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gricul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1371600"/>
            <a:ext cx="1541520" cy="619560"/>
          </a:xfrm>
          <a:prstGeom prst="roundRect">
            <a:avLst>
              <a:gd name="adj" fmla="val 16667"/>
            </a:avLst>
          </a:prstGeom>
          <a:solidFill>
            <a:srgbClr val="c300c3"/>
          </a:solidFill>
          <a:ln w="9360">
            <a:solidFill>
              <a:srgbClr val="ffffff"/>
            </a:solidFill>
            <a:miter/>
          </a:ln>
          <a:effectLst>
            <a:outerShdw dist="89808" dir="483908" blurRad="0" rotWithShape="0">
              <a:srgbClr val="3165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n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1960" y="2136600"/>
            <a:ext cx="2397240" cy="551880"/>
          </a:xfrm>
          <a:prstGeom prst="roundRect">
            <a:avLst>
              <a:gd name="adj" fmla="val 16667"/>
            </a:avLst>
          </a:prstGeom>
          <a:solidFill>
            <a:srgbClr val="c300c3"/>
          </a:solidFill>
          <a:ln w="9360">
            <a:solidFill>
              <a:srgbClr val="ffffff"/>
            </a:solidFill>
            <a:miter/>
          </a:ln>
          <a:effectLst>
            <a:outerShdw dist="89808" dir="483908" blurRad="0" rotWithShape="0">
              <a:srgbClr val="3165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mmittee 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erritories of the Ray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24480" y="1447920"/>
            <a:ext cx="1600200" cy="619560"/>
          </a:xfrm>
          <a:prstGeom prst="roundRect">
            <a:avLst>
              <a:gd name="adj" fmla="val 16667"/>
            </a:avLst>
          </a:prstGeom>
          <a:solidFill>
            <a:srgbClr val="c300c3"/>
          </a:solidFill>
          <a:ln w="9360">
            <a:solidFill>
              <a:srgbClr val="ffffff"/>
            </a:solidFill>
            <a:miter/>
          </a:ln>
          <a:effectLst>
            <a:outerShdw dist="89808" dir="483908" blurRad="0" rotWithShape="0">
              <a:srgbClr val="3165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mittee on Econom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4805280"/>
            <a:ext cx="2361960" cy="349560"/>
          </a:xfrm>
          <a:prstGeom prst="roundRect">
            <a:avLst>
              <a:gd name="adj" fmla="val 16667"/>
            </a:avLst>
          </a:prstGeom>
          <a:solidFill>
            <a:srgbClr val="c300c3"/>
          </a:solidFill>
          <a:ln w="9360">
            <a:solidFill>
              <a:srgbClr val="ffffff"/>
            </a:solidFill>
            <a:miter/>
          </a:ln>
          <a:effectLst>
            <a:outerShdw dist="89808" dir="483908" blurRad="0" rotWithShape="0">
              <a:srgbClr val="3165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ulture Committ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5334120"/>
            <a:ext cx="2495520" cy="888840"/>
          </a:xfrm>
          <a:prstGeom prst="roundRect">
            <a:avLst>
              <a:gd name="adj" fmla="val 16667"/>
            </a:avLst>
          </a:prstGeom>
          <a:solidFill>
            <a:srgbClr val="c300c3"/>
          </a:solidFill>
          <a:ln w="9360">
            <a:solidFill>
              <a:srgbClr val="ffffff"/>
            </a:solidFill>
            <a:miter/>
          </a:ln>
          <a:effectLst>
            <a:outerShdw dist="89808" dir="483908" blurRad="0" rotWithShape="0">
              <a:srgbClr val="3165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ermanent Committe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n Economy 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vestme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7520" y="2908440"/>
            <a:ext cx="2187720" cy="349560"/>
          </a:xfrm>
          <a:prstGeom prst="roundRect">
            <a:avLst>
              <a:gd name="adj" fmla="val 16667"/>
            </a:avLst>
          </a:prstGeom>
          <a:solidFill>
            <a:srgbClr val="c300c3"/>
          </a:solidFill>
          <a:ln w="9360">
            <a:solidFill>
              <a:srgbClr val="ffffff"/>
            </a:solidFill>
            <a:miter/>
          </a:ln>
          <a:effectLst>
            <a:outerShdw dist="89808" dir="483908" blurRad="0" rotWithShape="0">
              <a:srgbClr val="3165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mployment Cent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42000" y="2222640"/>
            <a:ext cx="1879560" cy="619560"/>
          </a:xfrm>
          <a:prstGeom prst="roundRect">
            <a:avLst>
              <a:gd name="adj" fmla="val 16667"/>
            </a:avLst>
          </a:prstGeom>
          <a:solidFill>
            <a:srgbClr val="c300c3"/>
          </a:solidFill>
          <a:ln w="9360">
            <a:solidFill>
              <a:srgbClr val="ffffff"/>
            </a:solidFill>
            <a:miter/>
          </a:ln>
          <a:effectLst>
            <a:outerShdw dist="89808" dir="483908" blurRad="0" rotWithShape="0">
              <a:srgbClr val="3165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partment of Utility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3733920"/>
            <a:ext cx="2216160" cy="888840"/>
          </a:xfrm>
          <a:prstGeom prst="roundRect">
            <a:avLst>
              <a:gd name="adj" fmla="val 16667"/>
            </a:avLst>
          </a:prstGeom>
          <a:solidFill>
            <a:srgbClr val="c300c3"/>
          </a:solidFill>
          <a:ln w="9360">
            <a:solidFill>
              <a:srgbClr val="ffffff"/>
            </a:solidFill>
            <a:miter/>
          </a:ln>
          <a:effectLst>
            <a:outerShdw dist="89808" dir="483908" blurRad="0" rotWithShape="0">
              <a:srgbClr val="3165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mittee on Soc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tection of the Popul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3276720"/>
            <a:ext cx="2173320" cy="888840"/>
          </a:xfrm>
          <a:prstGeom prst="roundRect">
            <a:avLst>
              <a:gd name="adj" fmla="val 16667"/>
            </a:avLst>
          </a:prstGeom>
          <a:solidFill>
            <a:srgbClr val="c300c3"/>
          </a:solidFill>
          <a:ln w="9360">
            <a:solidFill>
              <a:srgbClr val="ffffff"/>
            </a:solidFill>
            <a:miter/>
          </a:ln>
          <a:effectLst>
            <a:outerShdw dist="89808" dir="483908" blurRad="0" rotWithShape="0">
              <a:srgbClr val="3165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mittee on L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e and L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08840" y="5194440"/>
            <a:ext cx="2793960" cy="619560"/>
          </a:xfrm>
          <a:prstGeom prst="roundRect">
            <a:avLst>
              <a:gd name="adj" fmla="val 16667"/>
            </a:avLst>
          </a:prstGeom>
          <a:solidFill>
            <a:srgbClr val="c300c3"/>
          </a:solidFill>
          <a:ln w="9360">
            <a:solidFill>
              <a:srgbClr val="ffffff"/>
            </a:solidFill>
            <a:miter/>
          </a:ln>
          <a:effectLst>
            <a:outerShdw dist="89808" dir="483908" blurRad="0" rotWithShape="0">
              <a:srgbClr val="3165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mittee on Municipal Property Manag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5334120"/>
            <a:ext cx="2705040" cy="888840"/>
          </a:xfrm>
          <a:prstGeom prst="roundRect">
            <a:avLst>
              <a:gd name="adj" fmla="val 16667"/>
            </a:avLst>
          </a:prstGeom>
          <a:solidFill>
            <a:srgbClr val="c300c3"/>
          </a:solidFill>
          <a:ln w="0">
            <a:noFill/>
          </a:ln>
          <a:effectLst>
            <a:outerShdw dist="89808" dir="483908" blurRad="0" rotWithShape="0">
              <a:srgbClr val="3165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mittee on Youth Support, Physical Training and Spor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53080" y="4343400"/>
            <a:ext cx="1905120" cy="619560"/>
          </a:xfrm>
          <a:prstGeom prst="roundRect">
            <a:avLst>
              <a:gd name="adj" fmla="val 16667"/>
            </a:avLst>
          </a:prstGeom>
          <a:solidFill>
            <a:srgbClr val="c300c3"/>
          </a:solidFill>
          <a:ln w="9360">
            <a:solidFill>
              <a:srgbClr val="ffffff"/>
            </a:solidFill>
            <a:miter/>
          </a:ln>
          <a:effectLst>
            <a:outerShdw dist="89808" dir="483908" blurRad="0" rotWithShape="0">
              <a:srgbClr val="3165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olos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minist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33526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304920"/>
            <a:ext cx="7696080" cy="63000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  <a:effectLst>
            <a:outerShdw dist="73964" dir="19736436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aising with Gover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4360" y="6222960"/>
            <a:ext cx="266040" cy="2764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304920"/>
            <a:ext cx="8229600" cy="103212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1d7592"/>
              </a:gs>
              <a:gs pos="100000">
                <a:srgbClr val="33ccff"/>
              </a:gs>
            </a:gsLst>
            <a:lin ang="5400000"/>
          </a:gradFill>
          <a:ln w="0">
            <a:noFill/>
          </a:ln>
          <a:effectLst>
            <a:outerShdw dist="73964" dir="19736436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action of Civil Society Organisations and Governments of Various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2440" y="2133720"/>
            <a:ext cx="170496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Community bas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elf gover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(T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59280" y="1981080"/>
            <a:ext cx="39038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nitiative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ction plan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community mobil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3886200"/>
            <a:ext cx="2971800" cy="1393920"/>
          </a:xfrm>
          <a:prstGeom prst="rect">
            <a:avLst/>
          </a:prstGeom>
          <a:solidFill>
            <a:srgbClr val="fafd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ral administ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nicipal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al gover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deral gover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3886200"/>
            <a:ext cx="2336760" cy="1371600"/>
          </a:xfrm>
          <a:prstGeom prst="rect">
            <a:avLst/>
          </a:prstGeom>
          <a:solidFill>
            <a:srgbClr val="fafd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3886200"/>
            <a:ext cx="1546200" cy="1371600"/>
          </a:xfrm>
          <a:prstGeom prst="rect">
            <a:avLst/>
          </a:prstGeom>
          <a:solidFill>
            <a:srgbClr val="fafd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in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3886200"/>
            <a:ext cx="1495440" cy="1371600"/>
          </a:xfrm>
          <a:prstGeom prst="rect">
            <a:avLst/>
          </a:prstGeom>
          <a:solidFill>
            <a:srgbClr val="fafd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abl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gisl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11280" y="2421000"/>
            <a:ext cx="2514600" cy="533160"/>
          </a:xfrm>
          <a:prstGeom prst="rightArrow">
            <a:avLst>
              <a:gd name="adj1" fmla="val 50000"/>
              <a:gd name="adj2" fmla="val 117910"/>
            </a:avLst>
          </a:prstGeom>
          <a:solidFill>
            <a:srgbClr val="316501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4360" y="6222960"/>
            <a:ext cx="266040" cy="2764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62120" y="457200"/>
            <a:ext cx="7086600" cy="5814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9a1e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Enabling Legis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523880"/>
            <a:ext cx="2454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Federal La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2971800"/>
            <a:ext cx="2001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4ffb"/>
                </a:solidFill>
                <a:latin typeface="Arial"/>
              </a:rPr>
              <a:t>RF Governme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4ffb"/>
                </a:solidFill>
                <a:latin typeface="Arial"/>
              </a:rPr>
              <a:t>Resolu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4267080"/>
            <a:ext cx="261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onal Laws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lu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5257800"/>
            <a:ext cx="2611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Decre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of Municipal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3640" y="1371600"/>
            <a:ext cx="5757840" cy="12193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L on Agricultural Land Transf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L on Financial Revitalisation and Reorganis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 Agricultural Produc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L on Third Party Arbitration Cour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03640" y="2819520"/>
            <a:ext cx="5757840" cy="1295280"/>
          </a:xfrm>
          <a:prstGeom prst="rect">
            <a:avLst/>
          </a:prstGeom>
          <a:solidFill>
            <a:srgbClr val="114f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 Conciliation Procedur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Dispute Sett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 Inter-Ministerial Committees 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cial Revitalis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3640" y="4419720"/>
            <a:ext cx="575784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 Agricultural Lan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03640" y="5334120"/>
            <a:ext cx="5757840" cy="76176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 Claiming Land Shares to Expan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Household Plo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4360" y="6222960"/>
            <a:ext cx="266040" cy="2764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62120" y="304920"/>
            <a:ext cx="7391160" cy="63000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  <a:effectLst>
            <a:outerShdw dist="73964" dir="19736436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cialised Instit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143000"/>
            <a:ext cx="7467480" cy="539640"/>
          </a:xfrm>
          <a:prstGeom prst="rect">
            <a:avLst/>
          </a:prstGeom>
          <a:solidFill>
            <a:srgbClr val="114f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deral Inter-Ministerial Committee on Farm Revitalis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879560"/>
            <a:ext cx="7467480" cy="539640"/>
          </a:xfrm>
          <a:prstGeom prst="rect">
            <a:avLst/>
          </a:prstGeom>
          <a:solidFill>
            <a:srgbClr val="114f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RL Oblast Working Group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2616120"/>
            <a:ext cx="7467480" cy="540000"/>
          </a:xfrm>
          <a:prstGeom prst="rect">
            <a:avLst/>
          </a:prstGeom>
          <a:solidFill>
            <a:srgbClr val="114f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ritorial Committees on Farm Revitalis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352680"/>
            <a:ext cx="7467480" cy="540000"/>
          </a:xfrm>
          <a:prstGeom prst="rect">
            <a:avLst/>
          </a:prstGeom>
          <a:solidFill>
            <a:srgbClr val="114f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 Finance Institu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4089240"/>
            <a:ext cx="7467480" cy="540000"/>
          </a:xfrm>
          <a:prstGeom prst="rect">
            <a:avLst/>
          </a:prstGeom>
          <a:solidFill>
            <a:srgbClr val="114f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ral Consultancy Centre, demonstration s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4826160"/>
            <a:ext cx="7467480" cy="539640"/>
          </a:xfrm>
          <a:prstGeom prst="rect">
            <a:avLst/>
          </a:prstGeom>
          <a:solidFill>
            <a:srgbClr val="114f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Party Arbitration Cou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5562720"/>
            <a:ext cx="7467480" cy="539640"/>
          </a:xfrm>
          <a:prstGeom prst="rect">
            <a:avLst/>
          </a:prstGeom>
          <a:solidFill>
            <a:srgbClr val="114f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unity based self government (T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4360" y="6222960"/>
            <a:ext cx="266040" cy="2764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380880"/>
            <a:ext cx="7620120" cy="5630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1d7592"/>
              </a:gs>
              <a:gs pos="100000">
                <a:srgbClr val="33ccff"/>
              </a:gs>
            </a:gsLst>
            <a:lin ang="5400000"/>
          </a:gradFill>
          <a:ln w="0">
            <a:noFill/>
          </a:ln>
          <a:effectLst>
            <a:outerShdw dist="73964" dir="19736436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uals, Guidelines, Worksho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1295280"/>
            <a:ext cx="79171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anual (in 2 parts) prepared, approved 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A Scientific and Technical Council and launch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525760"/>
            <a:ext cx="791712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shed and distributed to all regions of the Russian Fede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o Governors and their deputies on AI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4179960"/>
            <a:ext cx="7916760" cy="7189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 (4) guidelin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the delivery of workshops prepa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5410080"/>
            <a:ext cx="79171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shops are delive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4360" y="6222960"/>
            <a:ext cx="266040" cy="2764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15:04:12Z</dcterms:created>
  <dc:creator>Т Яковлева</dc:creator>
  <dc:description/>
  <dc:language>en-US</dc:language>
  <cp:lastModifiedBy>Bohdan Drozdowskij</cp:lastModifiedBy>
  <dcterms:modified xsi:type="dcterms:W3CDTF">2003-07-07T12:27:42Z</dcterms:modified>
  <cp:revision>113</cp:revision>
  <dc:subject/>
  <dc:title>Заголовок слайда отсутствует</dc:title>
</cp:coreProperties>
</file>