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65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937224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774960" y="937224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90FE-40E6-44AD-B92F-164C5806BF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сходя из обозначенных проблем возникают следующие задач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действовать информированию населения и вовлечению его в процесс управления инфраструктур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еспечить диалог и взаимодействие между населением, администрацией и предпринимател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действовать передаче объектов социальной инфраструктуры в муниципальную собственность или иным собственникам, которые могут содержать эти объек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действовать привлечению финансовых средств для развития социальной сфе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300c3"/>
              </a:buClr>
              <a:buSzPct val="63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0800"/>
            <a:ext cx="9144000" cy="457200"/>
          </a:xfrm>
          <a:prstGeom prst="horizontalScroll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316501"/>
              </a:gs>
              <a:gs pos="100000">
                <a:srgbClr val="ffffff"/>
              </a:gs>
            </a:gsLst>
            <a:lin ang="10800000"/>
          </a:gradFill>
          <a:ln w="6480">
            <a:solidFill>
              <a:srgbClr val="316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619280" y="6453360"/>
            <a:ext cx="590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ustainable Rural Livelihoods Program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17080" y="6524640"/>
            <a:ext cx="734760" cy="20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04000" y="652464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8e00"/>
                </a:solidFill>
                <a:latin typeface="Comic Sans MS"/>
                <a:ea typeface="Arial"/>
              </a:rPr>
              <a:t>1999-2003 </a:t>
            </a:r>
            <a:r>
              <a:rPr b="1" lang="en-US" sz="900" spc="-1" strike="noStrike">
                <a:solidFill>
                  <a:srgbClr val="438e00"/>
                </a:solidFill>
                <a:latin typeface="Arial"/>
                <a:ea typeface="Arial"/>
              </a:rPr>
              <a:t>  ©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08000" y="6524640"/>
            <a:ext cx="79200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96080" y="304920"/>
            <a:ext cx="1066680" cy="609480"/>
            <a:chOff x="7696080" y="304920"/>
            <a:chExt cx="1066680" cy="609480"/>
          </a:xfrm>
        </p:grpSpPr>
        <p:sp>
          <p:nvSpPr>
            <p:cNvPr id="51" name=""/>
            <p:cNvSpPr/>
            <p:nvPr/>
          </p:nvSpPr>
          <p:spPr>
            <a:xfrm>
              <a:off x="7696080" y="304920"/>
              <a:ext cx="1066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38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96080" y="507960"/>
              <a:ext cx="1066680" cy="203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438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96080" y="711360"/>
              <a:ext cx="1066680" cy="203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438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791320" y="380880"/>
            <a:ext cx="1904760" cy="6858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ussian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ed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8600" y="4800600"/>
            <a:ext cx="3987720" cy="1419480"/>
            <a:chOff x="228600" y="4800600"/>
            <a:chExt cx="3987720" cy="1419480"/>
          </a:xfrm>
        </p:grpSpPr>
        <p:sp>
          <p:nvSpPr>
            <p:cNvPr id="56" name=""/>
            <p:cNvSpPr/>
            <p:nvPr/>
          </p:nvSpPr>
          <p:spPr>
            <a:xfrm>
              <a:off x="228600" y="4800600"/>
              <a:ext cx="3962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r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Lubov Ovchintsev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5638680"/>
              <a:ext cx="398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16501"/>
                  </a:solidFill>
                  <a:latin typeface="Arial"/>
                </a:rPr>
                <a:t>Sociologist</a:t>
              </a:r>
              <a:r>
                <a:rPr b="1" lang="ru-RU" sz="2000" spc="-1" strike="noStrike">
                  <a:solidFill>
                    <a:srgbClr val="316501"/>
                  </a:solidFill>
                  <a:latin typeface="Arial"/>
                </a:rPr>
                <a:t>,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16501"/>
                  </a:solidFill>
                  <a:latin typeface="Arial"/>
                </a:rPr>
                <a:t>Ph.D, economic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432080" y="163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9760" y="1295280"/>
            <a:ext cx="8686800" cy="3009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e800e"/>
                </a:solidFill>
                <a:latin typeface="Arial"/>
              </a:rPr>
              <a:t>Rural Development</a:t>
            </a:r>
            <a:r>
              <a:rPr b="1" lang="ru-RU" sz="6600" spc="-1" strike="noStrike">
                <a:solidFill>
                  <a:srgbClr val="1e800e"/>
                </a:solidFill>
                <a:latin typeface="Arial"/>
              </a:rPr>
              <a:t>:</a:t>
            </a:r>
            <a:r>
              <a:rPr b="1" lang="ru-RU" sz="66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afd00"/>
                </a:solidFill>
                <a:latin typeface="Arial"/>
              </a:rPr>
              <a:t>Community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afd00"/>
                </a:solidFill>
                <a:latin typeface="Arial"/>
              </a:rPr>
              <a:t>Mobilisation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8001000" cy="0"/>
          </a:xfrm>
          <a:prstGeom prst="line">
            <a:avLst/>
          </a:prstGeom>
          <a:ln w="25704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704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4360" y="622296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431640"/>
            <a:ext cx="9144000" cy="5321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609480"/>
            <a:ext cx="4419360" cy="4572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ussian Fed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1447920"/>
            <a:ext cx="5486400" cy="39344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ms of Community Mobilis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50000"/>
              </a:lnSpc>
              <a:buClr>
                <a:srgbClr val="000000"/>
              </a:buClr>
              <a:buSzPct val="2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ritorial Community-Based Self-Government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50000"/>
              </a:lnSpc>
              <a:buClr>
                <a:srgbClr val="000000"/>
              </a:buClr>
              <a:buSzPct val="2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 Council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50000"/>
              </a:lnSpc>
              <a:buClr>
                <a:srgbClr val="000000"/>
              </a:buClr>
              <a:buSzPct val="2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ral Community Meeting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50000"/>
              </a:lnSpc>
              <a:buClr>
                <a:srgbClr val="000000"/>
              </a:buClr>
              <a:buSzPct val="2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Point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50000"/>
              </a:lnSpc>
              <a:buClr>
                <a:srgbClr val="000000"/>
              </a:buClr>
              <a:buSzPct val="2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men’s clubs, etc.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1200" y="4038480"/>
            <a:ext cx="2306880" cy="2284200"/>
          </a:xfrm>
          <a:prstGeom prst="rect">
            <a:avLst/>
          </a:prstGeom>
          <a:solidFill>
            <a:srgbClr val="990099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438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izhny Novgorod Obl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scow Ob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ningrad Obl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yol Ob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irov Ob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olgograd Ob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stov Ob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anovo Ob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m Ob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360" y="617220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1371600"/>
            <a:ext cx="8458200" cy="685800"/>
          </a:xfrm>
          <a:prstGeom prst="rect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ed Legis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133720"/>
            <a:ext cx="8458200" cy="761760"/>
          </a:xfrm>
          <a:prstGeom prst="rect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ts in the Concept of the new Law on Local 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3048120"/>
            <a:ext cx="8458200" cy="1143000"/>
          </a:xfrm>
          <a:prstGeom prst="rect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ed to have local governments along with municipa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343400"/>
            <a:ext cx="8458200" cy="685800"/>
          </a:xfrm>
          <a:prstGeom prst="rect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Line with Tra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5181480"/>
            <a:ext cx="8458200" cy="1127160"/>
          </a:xfrm>
          <a:prstGeom prst="rect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isting informal links between community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ministration and busi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304920"/>
            <a:ext cx="7925040" cy="9471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9a1e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hy Territorial Community-Based Self-Government</a:t>
            </a:r>
            <a:r>
              <a:rPr b="1" lang="ru-RU" sz="2800" spc="-1" strike="noStrike">
                <a:solidFill>
                  <a:srgbClr val="fafd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TOS</a:t>
            </a:r>
            <a:r>
              <a:rPr b="1" lang="ru-RU" sz="2800" spc="-1" strike="noStrike">
                <a:solidFill>
                  <a:srgbClr val="fafd00"/>
                </a:solidFill>
                <a:latin typeface="Arial"/>
              </a:rPr>
              <a:t>)?</a:t>
            </a:r>
            <a:r>
              <a:rPr b="1" lang="ru-RU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4360" y="624852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304920"/>
            <a:ext cx="7925040" cy="642600"/>
          </a:xfrm>
          <a:prstGeom prst="rect">
            <a:avLst/>
          </a:prstGeom>
          <a:gradFill rotWithShape="0">
            <a:gsLst>
              <a:gs pos="0">
                <a:srgbClr val="adaf00"/>
              </a:gs>
              <a:gs pos="50000">
                <a:srgbClr val="fafd00"/>
              </a:gs>
              <a:gs pos="100000">
                <a:srgbClr val="ada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ommunity Mobili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8840" y="1143000"/>
            <a:ext cx="349920" cy="4597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81200" y="1143000"/>
            <a:ext cx="185868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8840" y="1874880"/>
            <a:ext cx="349920" cy="4597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1752480"/>
            <a:ext cx="7086600" cy="825480"/>
          </a:xfrm>
          <a:prstGeom prst="rect">
            <a:avLst/>
          </a:prstGeom>
          <a:solidFill>
            <a:srgbClr val="66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nalysis of specific situation and identification of the potential “growth point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8840" y="2768760"/>
            <a:ext cx="349920" cy="4597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7240" y="2743200"/>
            <a:ext cx="616392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raining in forms and methods of 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8840" y="3429000"/>
            <a:ext cx="349920" cy="4597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80840" y="3429000"/>
            <a:ext cx="339948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articipatory p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8840" y="4237200"/>
            <a:ext cx="349920" cy="4597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4114800"/>
            <a:ext cx="7010280" cy="825480"/>
          </a:xfrm>
          <a:prstGeom prst="rect">
            <a:avLst/>
          </a:prstGeom>
          <a:solidFill>
            <a:srgbClr val="66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ecuring cooperation between community, administration and busi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8840" y="5105520"/>
            <a:ext cx="349920" cy="4597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7240" y="5105520"/>
            <a:ext cx="440208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btaining institutional sta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8840" y="5867280"/>
            <a:ext cx="349920" cy="4597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0840" y="5791320"/>
            <a:ext cx="519300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esson sharing and disse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0680" y="624852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71360"/>
            <a:ext cx="6324480" cy="6053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952880" y="838080"/>
            <a:ext cx="3962520" cy="497052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Lodeinoye Pole Rayon of Leningrad Oblast there are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S’s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have helped resolv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cal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local res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ed from their acti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0680" y="624852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581280" y="2666880"/>
            <a:ext cx="1447920" cy="1600200"/>
          </a:xfrm>
          <a:prstGeom prst="downArrow">
            <a:avLst>
              <a:gd name="adj1" fmla="val 50000"/>
              <a:gd name="adj2" fmla="val 27629"/>
            </a:avLst>
          </a:prstGeom>
          <a:solidFill>
            <a:srgbClr val="114ffb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04920"/>
            <a:ext cx="7925040" cy="642600"/>
          </a:xfrm>
          <a:prstGeom prst="rect">
            <a:avLst/>
          </a:prstGeom>
          <a:gradFill rotWithShape="0">
            <a:gsLst>
              <a:gs pos="0">
                <a:srgbClr val="005e00"/>
              </a:gs>
              <a:gs pos="50000">
                <a:srgbClr val="00cc00"/>
              </a:gs>
              <a:gs pos="100000">
                <a:srgbClr val="005e00"/>
              </a:gs>
            </a:gsLst>
            <a:lin ang="5400000"/>
          </a:gradFill>
          <a:ln w="0">
            <a:noFill/>
          </a:ln>
          <a:effectLst>
            <a:outerShdw dist="109184" dir="3271692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lems tackled by TOS’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295280"/>
            <a:ext cx="3124440" cy="1905120"/>
          </a:xfrm>
          <a:prstGeom prst="ellipse">
            <a:avLst/>
          </a:prstGeom>
          <a:solidFill>
            <a:srgbClr val="fafd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loc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1295280"/>
            <a:ext cx="3124440" cy="190512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4267080"/>
            <a:ext cx="57913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airs of roads, wells, rural medical centres; improvement of local territory; arranging leisure for children, aid to aged people; cutting wood; restoring churches, etc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360" y="622296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304920"/>
            <a:ext cx="7924680" cy="520560"/>
          </a:xfrm>
          <a:prstGeom prst="rect">
            <a:avLst/>
          </a:prstGeom>
          <a:gradFill rotWithShape="0">
            <a:gsLst>
              <a:gs pos="0">
                <a:srgbClr val="0a2f97"/>
              </a:gs>
              <a:gs pos="50000">
                <a:srgbClr val="114ffb"/>
              </a:gs>
              <a:gs pos="100000">
                <a:srgbClr val="0a2f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upport and Development of TOS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1066680"/>
            <a:ext cx="5399280" cy="68580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650065"/>
              </a:gs>
              <a:gs pos="100000">
                <a:srgbClr val="9900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 of project implemente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methods of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860480"/>
            <a:ext cx="5486400" cy="6858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Informing and training community lea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655720"/>
            <a:ext cx="5399280" cy="38124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650065"/>
              </a:gs>
              <a:gs pos="100000">
                <a:srgbClr val="9900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-going ad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144960"/>
            <a:ext cx="5418000" cy="4572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Dissemin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3711600"/>
            <a:ext cx="5399280" cy="38088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650065"/>
              </a:gs>
              <a:gs pos="100000">
                <a:srgbClr val="9900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uring coop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200480"/>
            <a:ext cx="5418000" cy="3808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Enabling legal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4691160"/>
            <a:ext cx="5399280" cy="83808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650065"/>
              </a:gs>
              <a:gs pos="100000">
                <a:srgbClr val="9900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and economic “passports” of rural territo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638680"/>
            <a:ext cx="5486400" cy="7016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Grant programmes for support of social 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60" y="624852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5:04:12Z</dcterms:created>
  <dc:creator>Любовь</dc:creator>
  <dc:description/>
  <dc:language>en-US</dc:language>
  <cp:lastModifiedBy>Любовь</cp:lastModifiedBy>
  <dcterms:modified xsi:type="dcterms:W3CDTF">2003-07-04T11:09:52Z</dcterms:modified>
  <cp:revision>96</cp:revision>
  <dc:subject/>
  <dc:title>Заголовок слайда отсутствует</dc:title>
</cp:coreProperties>
</file>