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65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774960" y="937224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2ECB-9584-42AA-8F31-FBC19DFF06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сходя из обозначенных проблем возникают следующие задач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действовать информированию населения и вовлечению его в процесс управления инфраструктур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еспечить диалог и взаимодействие между населением, администрацией и предпринимател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действовать передаче объектов социальной инфраструктуры в муниципальную собственность или иным собственникам, которые могут содержать эти объек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действовать привлечению финансовых средств для развития социальной сфе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300c3"/>
              </a:buClr>
              <a:buSzPct val="63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45720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316501"/>
              </a:gs>
              <a:gs pos="100000">
                <a:srgbClr val="ffffff"/>
              </a:gs>
            </a:gsLst>
            <a:lin ang="10800000"/>
          </a:gradFill>
          <a:ln w="648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19280" y="6453360"/>
            <a:ext cx="59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stainable Rural Livelihoods Program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17080" y="6524640"/>
            <a:ext cx="734760" cy="20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04000" y="652464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e00"/>
                </a:solidFill>
                <a:latin typeface="Comic Sans MS"/>
                <a:ea typeface="Arial"/>
              </a:rPr>
              <a:t>1999-2003 </a:t>
            </a:r>
            <a:r>
              <a:rPr b="1" lang="en-US" sz="900" spc="-1" strike="noStrike">
                <a:solidFill>
                  <a:srgbClr val="438e00"/>
                </a:solidFill>
                <a:latin typeface="Arial"/>
                <a:ea typeface="Arial"/>
              </a:rPr>
              <a:t>  ©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08000" y="6524640"/>
            <a:ext cx="792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96080" y="304920"/>
            <a:ext cx="1066680" cy="609480"/>
            <a:chOff x="7696080" y="304920"/>
            <a:chExt cx="1066680" cy="609480"/>
          </a:xfrm>
        </p:grpSpPr>
        <p:sp>
          <p:nvSpPr>
            <p:cNvPr id="51" name=""/>
            <p:cNvSpPr/>
            <p:nvPr/>
          </p:nvSpPr>
          <p:spPr>
            <a:xfrm>
              <a:off x="7696080" y="304920"/>
              <a:ext cx="1066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96080" y="507960"/>
              <a:ext cx="1066680" cy="203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96080" y="711360"/>
              <a:ext cx="1066680" cy="203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791320" y="380880"/>
            <a:ext cx="1904760" cy="685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оссийская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Федер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4800600"/>
            <a:ext cx="3987720" cy="1663200"/>
            <a:chOff x="228600" y="4800600"/>
            <a:chExt cx="3987720" cy="1663200"/>
          </a:xfrm>
        </p:grpSpPr>
        <p:sp>
          <p:nvSpPr>
            <p:cNvPr id="56" name=""/>
            <p:cNvSpPr/>
            <p:nvPr/>
          </p:nvSpPr>
          <p:spPr>
            <a:xfrm>
              <a:off x="228600" y="4800600"/>
              <a:ext cx="3962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3000"/>
            </a:bodyPr>
            <a:p>
              <a:pPr algn="r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ОВЧИНЦЕВА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Любовь Александро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638680"/>
              <a:ext cx="398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16501"/>
                  </a:solidFill>
                  <a:latin typeface="Arial"/>
                </a:rPr>
                <a:t>Социолог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16501"/>
                  </a:solidFill>
                  <a:latin typeface="Arial"/>
                </a:rPr>
                <a:t>кандидат экономических нау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43208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9760" y="1295280"/>
            <a:ext cx="8686800" cy="3009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e800e"/>
                </a:solidFill>
                <a:latin typeface="Arial"/>
              </a:rPr>
              <a:t>Сельское развитие:</a:t>
            </a:r>
            <a:r>
              <a:rPr b="1" lang="en-US" sz="6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afd00"/>
                </a:solidFill>
                <a:latin typeface="Arial"/>
              </a:rPr>
              <a:t>вовлечение населения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8001000" cy="0"/>
          </a:xfrm>
          <a:prstGeom prst="line">
            <a:avLst/>
          </a:prstGeom>
          <a:ln w="2570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70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431640"/>
            <a:ext cx="9144000" cy="5321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609480"/>
            <a:ext cx="4419360" cy="4572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Российская Феде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1447920"/>
            <a:ext cx="5486400" cy="3934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Формы общественного участ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50000"/>
              </a:lnSpc>
              <a:buClr>
                <a:srgbClr val="000000"/>
              </a:buClr>
              <a:buSzPct val="2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рриториальное общественное самоуправле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50000"/>
              </a:lnSpc>
              <a:buClr>
                <a:srgbClr val="000000"/>
              </a:buClr>
              <a:buSzPct val="2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ственные совет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50000"/>
              </a:lnSpc>
              <a:buClr>
                <a:srgbClr val="000000"/>
              </a:buClr>
              <a:buSzPct val="2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ходы гражда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50000"/>
              </a:lnSpc>
              <a:buClr>
                <a:srgbClr val="000000"/>
              </a:buClr>
              <a:buSzPct val="2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онные пункт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50000"/>
              </a:lnSpc>
              <a:buClr>
                <a:srgbClr val="000000"/>
              </a:buClr>
              <a:buSzPct val="2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енские клуб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0480" y="4038480"/>
            <a:ext cx="2225880" cy="2284200"/>
          </a:xfrm>
          <a:prstGeom prst="rect">
            <a:avLst/>
          </a:prstGeom>
          <a:solidFill>
            <a:srgbClr val="990099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438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ижегородская об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сковская об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Ленинградская об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рловская об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ировская об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лгоградская об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остовская об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вановская об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мская об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360" y="617220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ая законодательная ба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133720"/>
            <a:ext cx="7772400" cy="76176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С хорошо вписывается в концепци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вого закона МС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048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обходимость дополнить муниципальн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разования  территориальны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ститутами само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343400"/>
            <a:ext cx="7772400" cy="68580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звучность тради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181480"/>
            <a:ext cx="7772400" cy="112716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личие неформальных форм взаимодейств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ления, администрации и бизне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04920"/>
            <a:ext cx="7925040" cy="9471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9a1e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Почему территориальное общественное самоуправление (ТОС)?</a:t>
            </a: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4360" y="624852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304920"/>
            <a:ext cx="7925040" cy="642600"/>
          </a:xfrm>
          <a:prstGeom prst="rect">
            <a:avLst/>
          </a:prstGeom>
          <a:gradFill rotWithShape="0">
            <a:gsLst>
              <a:gs pos="0">
                <a:srgbClr val="adaf00"/>
              </a:gs>
              <a:gs pos="50000">
                <a:srgbClr val="fafd00"/>
              </a:gs>
              <a:gs pos="100000">
                <a:srgbClr val="ada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Вовлечение населен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8840" y="114300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82640" y="1143000"/>
            <a:ext cx="290556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Информир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8840" y="187488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1752480"/>
            <a:ext cx="7086600" cy="82548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Изучение конкретной ситуации и выявление опорных точек разви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8840" y="276876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80840" y="2743200"/>
            <a:ext cx="590940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бучение формам и методам рабо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8840" y="342900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82640" y="3429000"/>
            <a:ext cx="474804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Интерактивное планир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8840" y="423720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114800"/>
            <a:ext cx="7010280" cy="82548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беспечение взаимодействия населения, администрации и бизне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8840" y="510552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3720" y="5105520"/>
            <a:ext cx="559872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беспечение формального стату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8840" y="586728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81200" y="5791320"/>
            <a:ext cx="547056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бмен опытом и распростра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0680" y="624852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171360"/>
            <a:ext cx="6324480" cy="6053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952880" y="838080"/>
            <a:ext cx="3962520" cy="509292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Лодейнопольском районе Ленинградской области действуе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 ТОСов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помогли реш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ее 100 местных пробл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езный эффект от которых распространился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00 жите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0680" y="624852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81280" y="2666880"/>
            <a:ext cx="1447920" cy="1600200"/>
          </a:xfrm>
          <a:prstGeom prst="downArrow">
            <a:avLst>
              <a:gd name="adj1" fmla="val 50000"/>
              <a:gd name="adj2" fmla="val 27629"/>
            </a:avLst>
          </a:prstGeom>
          <a:solidFill>
            <a:srgbClr val="114ff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04920"/>
            <a:ext cx="7925040" cy="64260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50000">
                <a:srgbClr val="00cc00"/>
              </a:gs>
              <a:gs pos="100000">
                <a:srgbClr val="005e00"/>
              </a:gs>
            </a:gsLst>
            <a:lin ang="5400000"/>
          </a:gradFill>
          <a:ln w="0">
            <a:noFill/>
          </a:ln>
          <a:effectLst>
            <a:outerShdw dist="109184" dir="3271692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акие проблемы решает ТОС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295280"/>
            <a:ext cx="3124440" cy="1905120"/>
          </a:xfrm>
          <a:prstGeom prst="ellipse">
            <a:avLst/>
          </a:prstGeom>
          <a:solidFill>
            <a:srgbClr val="fafd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блемы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покоя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1295280"/>
            <a:ext cx="3124440" cy="190512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сурс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уп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теля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267080"/>
            <a:ext cx="557856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монт дорог, колодцев, ФАП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агоустрой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досуга дет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 престарел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готовка д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становление церквей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6640" y="624852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304920"/>
            <a:ext cx="7924680" cy="520560"/>
          </a:xfrm>
          <a:prstGeom prst="rect">
            <a:avLst/>
          </a:prstGeom>
          <a:gradFill rotWithShape="0">
            <a:gsLst>
              <a:gs pos="0">
                <a:srgbClr val="0a2f97"/>
              </a:gs>
              <a:gs pos="50000">
                <a:srgbClr val="114ffb"/>
              </a:gs>
              <a:gs pos="100000">
                <a:srgbClr val="0a2f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Поддержка и развитие ТО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1066680"/>
            <a:ext cx="5399280" cy="68580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650065"/>
              </a:gs>
              <a:gs pos="100000">
                <a:srgbClr val="9900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учение исполнителей проект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ам рабо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860480"/>
            <a:ext cx="5486400" cy="685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Информирование и обуч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активистов-общественни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2655720"/>
            <a:ext cx="5399280" cy="38124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650065"/>
              </a:gs>
              <a:gs pos="100000">
                <a:srgbClr val="9900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нсультационное сопровожд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144960"/>
            <a:ext cx="5418000" cy="4572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спространение опы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3711600"/>
            <a:ext cx="5399280" cy="38088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650065"/>
              </a:gs>
              <a:gs pos="100000">
                <a:srgbClr val="9900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еспечение взаимодей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200480"/>
            <a:ext cx="5418000" cy="380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Нормативно-правовая поддерж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4691160"/>
            <a:ext cx="5399280" cy="83808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650065"/>
              </a:gs>
              <a:gs pos="100000">
                <a:srgbClr val="9900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ставление социально-экономических паспортов сельских территор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638680"/>
            <a:ext cx="5486400" cy="7016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Осуществление грантных програм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в области поддержки социальной сфе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4360" y="624852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5:04:12Z</dcterms:created>
  <dc:creator>Любовь</dc:creator>
  <dc:description/>
  <dc:language>en-US</dc:language>
  <cp:lastModifiedBy>Любовь</cp:lastModifiedBy>
  <dcterms:modified xsi:type="dcterms:W3CDTF">2003-07-04T11:09:02Z</dcterms:modified>
  <cp:revision>92</cp:revision>
  <dc:subject/>
  <dc:title>Заголовок слайда отсутствует</dc:title>
</cp:coreProperties>
</file>