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300c3"/>
              </a:buClr>
              <a:buSzPct val="63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45720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316501"/>
              </a:gs>
              <a:gs pos="100000">
                <a:srgbClr val="ffffff"/>
              </a:gs>
            </a:gsLst>
            <a:lin ang="10800000"/>
          </a:gradFill>
          <a:ln w="648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19280" y="6453360"/>
            <a:ext cx="59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ustainable Rural Livelihoods Program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7080" y="6524640"/>
            <a:ext cx="734760" cy="20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04000" y="652464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e00"/>
                </a:solidFill>
                <a:latin typeface="Comic Sans MS"/>
                <a:ea typeface="Arial"/>
              </a:rPr>
              <a:t>1999-2003 </a:t>
            </a:r>
            <a:r>
              <a:rPr b="1" lang="en-US" sz="900" spc="-1" strike="noStrike">
                <a:solidFill>
                  <a:srgbClr val="438e00"/>
                </a:solidFill>
                <a:latin typeface="Arial"/>
                <a:ea typeface="Arial"/>
              </a:rPr>
              <a:t>  ©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08000" y="6524640"/>
            <a:ext cx="792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9880" y="5181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УЗУН  Василий Якимо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октор экономических наук, професс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00200"/>
            <a:ext cx="8534520" cy="251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ОТ    ПРОЕКТА 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                К     ПОЛИТИКЕ</a:t>
            </a:r>
            <a:br>
              <a:rPr sz="4400"/>
            </a:br>
            <a:r>
              <a:rPr b="1" lang="ru-RU" sz="3100" spc="-1" strike="noStrike">
                <a:solidFill>
                  <a:srgbClr val="114ffb"/>
                </a:solidFill>
                <a:latin typeface="Arial"/>
              </a:rPr>
              <a:t>(стратегия распространения результатов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96080" y="304920"/>
            <a:ext cx="1066680" cy="609480"/>
            <a:chOff x="7696080" y="304920"/>
            <a:chExt cx="1066680" cy="609480"/>
          </a:xfrm>
        </p:grpSpPr>
        <p:sp>
          <p:nvSpPr>
            <p:cNvPr id="46" name=""/>
            <p:cNvSpPr/>
            <p:nvPr/>
          </p:nvSpPr>
          <p:spPr>
            <a:xfrm>
              <a:off x="7696080" y="304920"/>
              <a:ext cx="1066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96080" y="507960"/>
              <a:ext cx="1066680" cy="203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96080" y="711360"/>
              <a:ext cx="1066680" cy="203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438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791320" y="380880"/>
            <a:ext cx="1904760" cy="685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оссийская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Федер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254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8458200" cy="0"/>
          </a:xfrm>
          <a:prstGeom prst="line">
            <a:avLst/>
          </a:prstGeom>
          <a:ln w="254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1280" y="4343400"/>
            <a:ext cx="1447920" cy="1066680"/>
          </a:xfrm>
          <a:prstGeom prst="downArrow">
            <a:avLst>
              <a:gd name="adj1" fmla="val 28944"/>
              <a:gd name="adj2" fmla="val 29463"/>
            </a:avLst>
          </a:prstGeom>
          <a:solidFill>
            <a:srgbClr val="114ff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371600"/>
            <a:ext cx="1447920" cy="2514600"/>
          </a:xfrm>
          <a:prstGeom prst="downArrow">
            <a:avLst>
              <a:gd name="adj1" fmla="val 28843"/>
              <a:gd name="adj2" fmla="val 17648"/>
            </a:avLst>
          </a:prstGeom>
          <a:solidFill>
            <a:srgbClr val="114ff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28600"/>
            <a:ext cx="6858000" cy="5205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9a1e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Влияние на политик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914400"/>
            <a:ext cx="7315200" cy="45720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актический опыт пилотной програм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676520"/>
            <a:ext cx="1828800" cy="1371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Формировани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специальных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институ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362320"/>
            <a:ext cx="2209680" cy="1295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Подготовк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методическ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матери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438280"/>
            <a:ext cx="2209680" cy="1295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Взаимодействи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с гражданским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обществ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1600200"/>
            <a:ext cx="2360520" cy="1716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Взаимодействи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с местным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региональным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и федеральным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властям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3886200"/>
            <a:ext cx="586764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ияние на политик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419720"/>
            <a:ext cx="4800600" cy="91440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едеральные 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гиональные законы и постанов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410080"/>
            <a:ext cx="594360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пространение программ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943600"/>
            <a:ext cx="6858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ирование системы устойчивого сельского разви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828800" y="1371600"/>
            <a:ext cx="1295280" cy="457200"/>
          </a:xfrm>
          <a:prstGeom prst="line">
            <a:avLst/>
          </a:prstGeom>
          <a:ln w="57240">
            <a:solidFill>
              <a:srgbClr val="31650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76720" y="1371600"/>
            <a:ext cx="304560" cy="990720"/>
          </a:xfrm>
          <a:prstGeom prst="line">
            <a:avLst/>
          </a:prstGeom>
          <a:ln w="57240">
            <a:solidFill>
              <a:srgbClr val="31650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371600"/>
            <a:ext cx="609840" cy="1066680"/>
          </a:xfrm>
          <a:prstGeom prst="line">
            <a:avLst/>
          </a:prstGeom>
          <a:ln w="57240">
            <a:solidFill>
              <a:srgbClr val="31650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1371600"/>
            <a:ext cx="1295640" cy="304920"/>
          </a:xfrm>
          <a:prstGeom prst="line">
            <a:avLst/>
          </a:prstGeom>
          <a:ln w="57240">
            <a:solidFill>
              <a:srgbClr val="31650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8120" y="2819520"/>
            <a:ext cx="3036600" cy="1865520"/>
          </a:xfrm>
          <a:prstGeom prst="rect">
            <a:avLst/>
          </a:prstGeom>
          <a:solidFill>
            <a:srgbClr val="00ff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ординационный совет програм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90920" y="1981080"/>
            <a:ext cx="4038480" cy="3885840"/>
            <a:chOff x="2590920" y="1981080"/>
            <a:chExt cx="4038480" cy="3885840"/>
          </a:xfrm>
        </p:grpSpPr>
        <p:sp>
          <p:nvSpPr>
            <p:cNvPr id="72" name=""/>
            <p:cNvSpPr/>
            <p:nvPr/>
          </p:nvSpPr>
          <p:spPr>
            <a:xfrm>
              <a:off x="2819520" y="1981080"/>
              <a:ext cx="685800" cy="83844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95680" y="2057400"/>
              <a:ext cx="0" cy="76212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562720" y="2057400"/>
              <a:ext cx="838080" cy="76212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66880" y="2743200"/>
              <a:ext cx="381240" cy="30492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0920" y="3200400"/>
              <a:ext cx="457200" cy="7632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590920" y="3962160"/>
              <a:ext cx="457200" cy="22860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743200" y="4648320"/>
              <a:ext cx="304920" cy="38088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819520" y="4723920"/>
              <a:ext cx="609480" cy="114300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419720" y="4724280"/>
              <a:ext cx="0" cy="60984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638680" y="4724280"/>
              <a:ext cx="609840" cy="45720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6095880" y="4343040"/>
              <a:ext cx="457200" cy="30492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095880" y="3809880"/>
              <a:ext cx="45720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095880" y="2743200"/>
              <a:ext cx="533520" cy="38088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276720" y="1447920"/>
            <a:ext cx="2590560" cy="61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митет  п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ельскому хозяйств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371600"/>
            <a:ext cx="1541520" cy="61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инансовый комите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133720"/>
            <a:ext cx="2371680" cy="61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митет по работ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 территориям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1447920"/>
            <a:ext cx="1600200" cy="61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митет  по экономик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4805280"/>
            <a:ext cx="2361960" cy="34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митет  по культур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5334120"/>
            <a:ext cx="2495520" cy="88884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стоянная комисс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 экономике и инвестиция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895480"/>
            <a:ext cx="2212920" cy="61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 занятости насе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209680"/>
            <a:ext cx="1905120" cy="88884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правление коммунального обслужив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733920"/>
            <a:ext cx="2216160" cy="88884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митет  по социальной защите насе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3276720"/>
            <a:ext cx="2173320" cy="88884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митет  по землепользованию и землеустройств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181480"/>
            <a:ext cx="2819520" cy="88884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митет  по управлению муниципальным имуществ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5334120"/>
            <a:ext cx="2705040" cy="88884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0">
            <a:noFill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митет  по делам молодежи, физкультуры и спорт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4343400"/>
            <a:ext cx="1905120" cy="619560"/>
          </a:xfrm>
          <a:prstGeom prst="roundRect">
            <a:avLst>
              <a:gd name="adj" fmla="val 16667"/>
            </a:avLst>
          </a:prstGeom>
          <a:solidFill>
            <a:srgbClr val="c300c3"/>
          </a:solidFill>
          <a:ln w="9360">
            <a:solidFill>
              <a:srgbClr val="ffffff"/>
            </a:solidFill>
            <a:miter/>
          </a:ln>
          <a:effectLst>
            <a:outerShdw dist="89808" dir="483908" blurRad="0" rotWithShape="0">
              <a:srgbClr val="3165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лостные админист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352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04920"/>
            <a:ext cx="7696080" cy="6300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  <a:effectLst>
            <a:outerShdw dist="73964" dir="1973643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аимодействие с властя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229600" cy="10321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1d7592"/>
              </a:gs>
              <a:gs pos="100000">
                <a:srgbClr val="33ccff"/>
              </a:gs>
            </a:gsLst>
            <a:lin ang="5400000"/>
          </a:gradFill>
          <a:ln w="0">
            <a:noFill/>
          </a:ln>
          <a:effectLst>
            <a:outerShdw dist="73964" dir="1973643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заимодействие гражданского общества и властей разных уровн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2440" y="2133720"/>
            <a:ext cx="1704960" cy="3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О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1981080"/>
            <a:ext cx="52578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Инициатив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ограмма действи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рганизация люд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886200"/>
            <a:ext cx="2971800" cy="1393920"/>
          </a:xfrm>
          <a:prstGeom prst="rect">
            <a:avLst/>
          </a:prstGeom>
          <a:solidFill>
            <a:srgbClr val="faf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ие админист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ите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иональные вла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деральные вла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886200"/>
            <a:ext cx="233676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дминистратив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886200"/>
            <a:ext cx="154620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нансов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3886200"/>
            <a:ext cx="14954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в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2133720"/>
            <a:ext cx="2514600" cy="533160"/>
          </a:xfrm>
          <a:prstGeom prst="rightArrow">
            <a:avLst>
              <a:gd name="adj1" fmla="val 50000"/>
              <a:gd name="adj2" fmla="val 117910"/>
            </a:avLst>
          </a:prstGeom>
          <a:solidFill>
            <a:srgbClr val="316501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457200"/>
            <a:ext cx="708660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9a1e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Правовая поддерж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5238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Федерально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законодатель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971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Постановле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Правительства Р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42670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ы и Постанов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бъектов РФ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25780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Решения муниципаль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рга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1371600"/>
            <a:ext cx="5398920" cy="12193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коны   «Об обороте земли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О финансовом оздоровлении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О ТРАС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819520"/>
            <a:ext cx="5398920" cy="129528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О согласительных процедур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 урегулированию споров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О межведомственных комиссиях п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инансовому оздоровлению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4419720"/>
            <a:ext cx="5398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О землях сельхозназначени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5334120"/>
            <a:ext cx="5398920" cy="76176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О расширен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ПХ за счет земельных долей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304920"/>
            <a:ext cx="7391160" cy="6300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  <a:effectLst>
            <a:outerShdw dist="73964" dir="1973643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ециальные институ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143000"/>
            <a:ext cx="7467480" cy="53964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едеральная межведомственная комиссия по Ф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79560"/>
            <a:ext cx="7467480" cy="53964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ная рабочая группа по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616120"/>
            <a:ext cx="7467480" cy="54000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ерриториальные комиссии по Ф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352680"/>
            <a:ext cx="7467480" cy="54000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рганизации микрокредит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089240"/>
            <a:ext cx="7467480" cy="54000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КЦ, демонстрационные объек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826160"/>
            <a:ext cx="7467480" cy="53964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5562720"/>
            <a:ext cx="7467480" cy="53964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380880"/>
            <a:ext cx="7620120" cy="5630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1d7592"/>
              </a:gs>
              <a:gs pos="100000">
                <a:srgbClr val="33ccff"/>
              </a:gs>
            </a:gsLst>
            <a:lin ang="5400000"/>
          </a:gradFill>
          <a:ln w="0">
            <a:noFill/>
          </a:ln>
          <a:effectLst>
            <a:outerShdw dist="73964" dir="1973643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собия, практикумы, семина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295280"/>
            <a:ext cx="79171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овлено двухтомное пособие, одобрено НТС МС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шла презентация в МСХ Р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525760"/>
            <a:ext cx="79171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дано, разослано во все субъекты РФ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губернаторам и их заместителям по АПК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179960"/>
            <a:ext cx="79167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овлены 4 практикума для семина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410080"/>
            <a:ext cx="79171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одятся обучающие семина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4360" y="6222960"/>
            <a:ext cx="266040" cy="276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04:12Z</dcterms:created>
  <dc:creator>Т Яковлева</dc:creator>
  <dc:description/>
  <dc:language>en-US</dc:language>
  <cp:lastModifiedBy>Bohdan Drozdowskij</cp:lastModifiedBy>
  <dcterms:modified xsi:type="dcterms:W3CDTF">2003-07-07T12:27:23Z</dcterms:modified>
  <cp:revision>98</cp:revision>
  <dc:subject/>
  <dc:title>Заголовок слайда отсутствует</dc:title>
</cp:coreProperties>
</file>