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074-C519-4EFE-85F9-E81D1E2E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1D2-05B7-4144-AE5E-C0AC37D6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17B-D1A6-49F8-AF1E-DF0C66E9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D4A-1C99-448C-9E90-99E3CEDB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1002-94BF-4AA9-A0F7-335DFF65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94B0-7D0D-4C6F-B4CC-9500C286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6A91-D5C2-4E92-A027-843219EF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9DB8-E9FC-4557-B2BB-29AADA81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4F0F-E8C6-42AF-9B0A-7994760F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EBCE-24D3-462B-A5AF-CEC6DD44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7AF9-FAFD-497B-A868-883ABDD8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9BB-5FAD-4C1D-ACAB-54F2CA8C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DC83-888B-4B43-8F8D-B82B8903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B5D1-EF95-4AC4-8C3F-76957321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D679-D494-4D95-8B04-52868FE2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250A-EACE-411B-8228-7351FF71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86F2-6E8C-4B62-9959-8A17E0B4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C66-09DF-4057-B537-5D42855B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872-EB9C-469A-B6DC-D36BE674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88D-D77A-48B8-82AB-F6A129C1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B68-3AE9-43E7-BE7A-0CCF43C0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E5E-15FA-4E36-B201-73AF41FB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8F9-E25A-4510-A51E-60CA7063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071-8A23-4FEF-A96B-AEDBF5BF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121E-EEDB-441A-B5FC-2CA1614546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02B1-DAE2-45B6-92D1-C84E2B43DC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79640" y="1349280"/>
            <a:ext cx="6629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152280"/>
            <a:ext cx="441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Проект Поддержки Проекта Инвестиций и Услуг в Сельской Мест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ябр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2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вра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716960" y="380880"/>
            <a:ext cx="969840" cy="273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345360" y="407880"/>
            <a:ext cx="1317600" cy="246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85800" y="173160"/>
            <a:ext cx="933480" cy="588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7200" y="70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2104920"/>
            <a:ext cx="54547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Развитие сельских бизн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Поддержка ЗС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Доступ к юридической консуль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Социальная инфра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Диверсификация с-х культур (передовые технологии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Виды бизнесов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15800" y="1908000"/>
          <a:ext cx="8820360" cy="457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908000"/>
                    <a:ext cx="882036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1332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ступ к финансированию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артнерство с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FC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5800" y="1809720"/>
          <a:ext cx="8229600" cy="4821120"/>
        </p:xfrm>
        <a:graphic>
          <a:graphicData uri="http://schemas.openxmlformats.org/drawingml/2006/table">
            <a:tbl>
              <a:tblPr/>
              <a:tblGrid>
                <a:gridCol w="5122800"/>
                <a:gridCol w="3106800"/>
              </a:tblGrid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Организ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Результ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Создание корпорации по сельскому финансированию</a:t>
                      </a: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Создание центра по сельскому развит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Создание Заемно-Сберегательной Ассоциации Гражд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6625 </a:t>
                      </a:r>
                      <a:r>
                        <a:rPr b="0" lang="ru-RU" sz="2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редитов </a:t>
                      </a:r>
                      <a:r>
                        <a:rPr b="0" lang="en-GB" sz="2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(14 </a:t>
                      </a:r>
                      <a:r>
                        <a:rPr b="0" lang="ru-RU" sz="2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млн</a:t>
                      </a:r>
                      <a:r>
                        <a:rPr b="0" lang="en-GB" sz="2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 USD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17 </a:t>
                      </a:r>
                      <a:r>
                        <a:rPr b="0" lang="ru-RU" sz="2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ЗСА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9a0000"/>
                        </a:buClr>
                        <a:buSzPct val="75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Создано </a:t>
                      </a:r>
                      <a:r>
                        <a:rPr b="0" lang="en-GB" sz="2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04  67,000 </a:t>
                      </a:r>
                      <a:r>
                        <a:rPr b="0" lang="ru-RU" sz="2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чле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епятствия в развитии партнерст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ные подходы партнер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чность общ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чный опыт в реализации программ по партнер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ерспективы по устойчиво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185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Улучшить отношения с существующими партнерскими организациями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Привлечение новых организаций для развития различных направлений общего интере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Разработка совместных программ по развит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пр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.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Создание фонда гарантирования кредитов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Постоянные форумы и круглые сто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отрудничество с другими организациям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емирный Бан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нд Социальных Инвестиций Молдов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СИ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циональное агентство по консалтингу и обучению в сельском хозяйств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C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рпорация по сельскому финансировани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RF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омпонент по развитию сельских бизнесо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7720" y="1905120"/>
            <a:ext cx="8185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4 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Агентства по развитию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(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НПО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20 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мобильных груп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40 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консультантов по развит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Группа поддерж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Юри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Финанси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Другие консультанты (местные и международные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) 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 необх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Развитие партнерст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тельство Молдов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CAPMU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мирный Бан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тных коммерческих бан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рпорация по сельскому финансиров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Развитие партнерст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морандум о сотрудничеств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блюдательный сов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авительство РМ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B,DFID,SIDA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углые сто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финанс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6120"/>
            <a:ext cx="78771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иды деятельности поддержанные в партнерстве в рамках компонента по развитию сельских бизнесов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Инвестиции в любой жизнеспособный сельскохозяйственный или несельскохозяйственный бизнес в сельской местности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Переработка, упаковка с-х продукции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маркетинг, механизированные услуги и.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Сельский туризм, народные промыслы, теле-радио станции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сельская инфраструктура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(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общественные бани и парикмахерские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)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и.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остижения партнерст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данные заявления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       - 13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Зарегистрированные бизнеса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- 46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Кредитованные бизнесы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  - 14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Из них получили гранты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- 9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Созданы новые рабочие места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- 277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Инвестиционные кредиты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3200" y="1989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ая стоимость инвестиционных проек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4 M U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 ни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едит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              1.7 M U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ранты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          0.2 M U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ичный вклад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  0.5 M U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остижения на макро уровне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ервый год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     2.3 M U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пл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ервый год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     2.5 M U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6:11:55Z</dcterms:created>
  <dc:creator>Iuliana Petrovici</dc:creator>
  <dc:description/>
  <dc:language>en-US</dc:language>
  <cp:lastModifiedBy>Iuliana</cp:lastModifiedBy>
  <dcterms:modified xsi:type="dcterms:W3CDTF">2003-07-08T06:11:18Z</dcterms:modified>
  <cp:revision>182</cp:revision>
  <dc:subject/>
  <dc:title>Sustainable Rural Livelihood Project</dc:title>
</cp:coreProperties>
</file>