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576-582B-4925-A04C-7E33E236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75B-C2AC-4B54-A220-BE7628D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F77-BDBF-4063-AB49-FF742517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0ED-0543-477E-A459-9D4BD86E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A4E-4714-4075-A9F7-7D3AA88D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7C1-5D67-4945-8BAB-DE00CBAD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0E4-C789-4D4E-AD87-9EC042A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327-F863-4146-ACAF-5582AF8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D82-4095-4A80-A7AA-88C27E87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05BF-0CDB-43ED-96FC-DFA49B8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8419-135A-443A-92CD-73985AF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C97-01B7-4894-B1AF-CE3F4A9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DAF7-B349-4D6D-9BDA-91A411D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55C8-D9D9-4AD5-B0B8-DC980C1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45AB-32F4-4140-9C68-B539A22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917F-0DA7-4375-AE59-54A64838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861A-F16B-4F13-A9AC-522327CE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7F1-0C47-484F-BE14-AA28B399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35F-ADDE-43D5-B14C-93031AA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3B1-225A-46D6-AD7F-38B6D8D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577-22D1-445E-A03F-7852CE9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1D2-85A2-44AB-BB70-FD7531D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B36-B78D-4C87-B2D6-DA5EDFF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1F8-5D99-49DA-A29A-798C7B6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D429-F1DB-4FFB-9974-B0A392D22C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99E-172D-49C7-A46C-B25488E8F5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79640" y="1349280"/>
            <a:ext cx="6629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52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Support to Rural Investment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and Services Pro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2-Feb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716960" y="380880"/>
            <a:ext cx="969840" cy="273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45360" y="407880"/>
            <a:ext cx="1317600" cy="24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85800" y="173160"/>
            <a:ext cx="933480" cy="588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104920"/>
            <a:ext cx="54547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ural Business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Support to S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Access to legal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Socia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Crop Diversification (Good Agricultural Practic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ange of business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1905120"/>
          <a:ext cx="82836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2836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3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ess to financial services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(Partnership with RFC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1809720"/>
          <a:ext cx="8229600" cy="4845240"/>
        </p:xfrm>
        <a:graphic>
          <a:graphicData uri="http://schemas.openxmlformats.org/drawingml/2006/table">
            <a:tbl>
              <a:tblPr/>
              <a:tblGrid>
                <a:gridCol w="5122800"/>
                <a:gridCol w="3106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Organis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reation of Rural Finance Corporation 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reation of Rural Development </a:t>
                      </a: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en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reation of Savings and Credit Associations of Citizens (SCA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6625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14 mln US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7 SCA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4 created 67,000 me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ediments in Partnership Develop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fferent approaches of partn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ufficient communic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ufficient experience in partnership program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stainability prospec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8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mprove relations with existing partners organis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Attracting new relevant organisations in activities of mutual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Elaborate joint development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(ex. Development of the Rural Credit Guaranty Fu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Permanent forra and round t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operating with different Organiz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cial Investment Fund (SI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Consulting Agency in Agriculture (ACS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ral Finance Corporation (RF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ural Business Development Compon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7720" y="1905120"/>
            <a:ext cx="818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4 Development Agencies (NG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20 mobile t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40 development off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Support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Legal specia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inancial specia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Other consultants (local and international) on 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nership Develop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vernment of Moldova (CAPM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Commercial Local Ba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ral Finance Corp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nership Develop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randum of Understan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ering Committee (Gov, WB, DFID, SIDA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nd T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 funding arrang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tivities Supported by Partnership within RBDC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nvestment in any sustainable agricultural or non agricultural business in the Rural Area, lik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Agricultural processing, packing, marketing, machinery services, etc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ural tourism, handcrafts, TV &amp; radio stations, community infrastructure (public bath housing &amp; hairdressing), etc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chievements as a result of partn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Applications submitted          - 13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Businesses registered           - 4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Businesses received credit     - 14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Out of them received grants   - 9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ew Jobs created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      - 27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Investment loan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vestment projects’ costs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4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which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 portion –               1.7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ching Grant –           0.2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contribution –   0.5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ains at macro leve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xes to be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first year –      2.3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laries to be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first year –      2.5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6:11:55Z</dcterms:created>
  <dc:creator>Iuliana Petrovici</dc:creator>
  <dc:description/>
  <dc:language>en-US</dc:language>
  <cp:lastModifiedBy>Iuliana</cp:lastModifiedBy>
  <dcterms:modified xsi:type="dcterms:W3CDTF">2003-07-08T06:11:45Z</dcterms:modified>
  <cp:revision>120</cp:revision>
  <dc:subject/>
  <dc:title>Sustainable Rural Livelihood Project</dc:title>
</cp:coreProperties>
</file>