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411-D728-47E4-BDCB-CF4C634D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695-4AA7-4D93-BE1F-6B733E83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0DE-9353-435B-A510-4D57BAA7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170-C0D2-4720-A562-2F7DB642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2E3B-731B-4870-B675-90C68295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655E-9C9C-4DE1-B748-1795F241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9200-0E45-4A7F-8395-C29160AB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6D28-7E75-462C-8AAB-439E1B3F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54A4-68B2-4008-91C5-04057540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2C31-0516-4CA7-B4F4-54B709CF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16DE-E134-4D1B-BF1E-B680EF6C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06B-D0E2-4A8B-AB18-91B991B6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ACA0-E4FE-4509-8CB1-F6A8C704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1E0B-10F1-4BD4-BC93-87BA6646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695A-88AF-4454-892D-ED9AF8CD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1FB9-2669-4103-B052-0BB72E80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EBFB-AB54-4417-9B07-DC04041F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B22E-009B-4393-8976-23F16597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6B1-1E77-4690-B28C-4B08BCAB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F34-D582-4013-B4DC-EB614D6C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3B7-0DD8-4E3D-9552-DCE5B796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EA2-2363-467C-8B74-6FA96B46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DCC-C6F2-46E2-AE29-5807E458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BE9-2A22-4965-93AA-3324AA2E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D354-8681-4DC4-B60E-A03D2D3B28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503F-79F7-44C5-946A-5CF2BEC58E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66680" y="380880"/>
            <a:ext cx="5160960" cy="1219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Verdana"/>
              </a:rPr>
              <a:t>SUPPORT TO RURAL INVESTMENT AND SERVICES PROJECT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2743200"/>
            <a:ext cx="6629400" cy="1676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Role of NGOs and initiative groups in solving communit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977240" y="380880"/>
            <a:ext cx="1166760" cy="815760"/>
            <a:chOff x="7977240" y="380880"/>
            <a:chExt cx="1166760" cy="81576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8076960" y="380880"/>
              <a:ext cx="9144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977240" y="981000"/>
              <a:ext cx="11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SUPORT  PENTRU  PROIECTU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NVESTI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Ţ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I ŞI SERVICII RU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45360" y="407880"/>
            <a:ext cx="1317600" cy="246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516720" y="836640"/>
            <a:ext cx="1152360" cy="3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1D7F-8224-4ECC-A472-5B4652B179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654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Verdana"/>
              </a:rPr>
              <a:t>Recommendations to improve the partnership between local public administration</a:t>
            </a:r>
            <a:r>
              <a:rPr b="1" lang="ru-RU" sz="2600" spc="-1" strike="noStrike">
                <a:solidFill>
                  <a:srgbClr val="333399"/>
                </a:solidFill>
                <a:latin typeface="Verdana"/>
              </a:rPr>
              <a:t> (</a:t>
            </a:r>
            <a:r>
              <a:rPr b="1" lang="en-US" sz="2600" spc="-1" strike="noStrike">
                <a:solidFill>
                  <a:srgbClr val="333399"/>
                </a:solidFill>
                <a:latin typeface="Verdana"/>
              </a:rPr>
              <a:t>LPA</a:t>
            </a:r>
            <a:r>
              <a:rPr b="1" lang="ru-RU" sz="2600" spc="-1" strike="noStrike">
                <a:solidFill>
                  <a:srgbClr val="333399"/>
                </a:solidFill>
                <a:latin typeface="Verdana"/>
              </a:rPr>
              <a:t>) </a:t>
            </a:r>
            <a:r>
              <a:rPr b="1" lang="en-US" sz="2600" spc="-1" strike="noStrike">
                <a:solidFill>
                  <a:srgbClr val="333399"/>
                </a:solidFill>
                <a:latin typeface="Verdana"/>
              </a:rPr>
              <a:t>and NGO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clude additional responsibilities for LPA regarding partnership with NG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ining of LPA to work with NG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eate consultancy structures LPA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GO for elaboration of development program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ttract internal and external resources to promote  these strategic elements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FID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B, USAID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620120" y="457200"/>
            <a:ext cx="1166760" cy="815760"/>
            <a:chOff x="7620120" y="457200"/>
            <a:chExt cx="1166760" cy="81576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7719840" y="457200"/>
              <a:ext cx="9144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620120" y="1057320"/>
              <a:ext cx="11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SUPORT  PENTRU  PROIECTU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NVESTI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Ţ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I ŞI SERVICII RU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0E6-AFE4-4B83-842F-71AD6FA7F1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7848720" y="330120"/>
            <a:ext cx="1166760" cy="815760"/>
            <a:chOff x="7848720" y="330120"/>
            <a:chExt cx="1166760" cy="81576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948440" y="330120"/>
              <a:ext cx="9144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848720" y="930240"/>
              <a:ext cx="11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SUPORT  PENTRU  PROIECTU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NVESTI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Ţ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I ŞI SERVICII RU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219320" y="914400"/>
            <a:ext cx="586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Verdana"/>
              </a:rPr>
              <a:t>Initiative groups</a:t>
            </a: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409840"/>
            <a:ext cx="75409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buClr>
                <a:srgbClr val="33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MD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ntification of formal and informal leaders of the vill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buClr>
                <a:srgbClr val="33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MD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reation of initiative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buClr>
                <a:srgbClr val="33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MD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ntification of community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buClr>
                <a:srgbClr val="33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buClr>
                <a:srgbClr val="33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cial pass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buClr>
                <a:srgbClr val="33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buClr>
                <a:srgbClr val="33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MD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laboration of economic and social development programmes of the vill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7D77-B0B5-4086-B5FC-6FF9388C78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	</a:t>
            </a:r>
            <a:br>
              <a:rPr sz="2400"/>
            </a:b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Examples of projects implemented by initiative group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stallation of the entrance sign in the village of Baimacl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rection of Stefan cel Mare monument in the village of Cirpe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habilitation of the water supply system in the village of Enichio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772400" y="533520"/>
            <a:ext cx="1166760" cy="815400"/>
            <a:chOff x="7772400" y="533520"/>
            <a:chExt cx="1166760" cy="81540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7872120" y="533520"/>
              <a:ext cx="9144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772400" y="1133280"/>
              <a:ext cx="11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SUPORT  PENTRU  PROIECTU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NVESTI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Ţ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I ŞI SERVICII RU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383-3C71-43B1-B7B3-818BD8B5B4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9907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Verdana"/>
              </a:rPr>
              <a:t>NGO creation and implementation of different projects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minars on NGO creation and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ject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0 projects have been implemented in pilot vill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clu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cological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ealth protection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r rehabilitation of social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establishment of village trad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orma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543800" y="228600"/>
            <a:ext cx="1166760" cy="815760"/>
            <a:chOff x="7543800" y="228600"/>
            <a:chExt cx="1166760" cy="8157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7643520" y="228600"/>
              <a:ext cx="9144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543800" y="828720"/>
              <a:ext cx="11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SUPORT  PENTRU  PROIECTU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NVESTI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Ţ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I ŞI SERVICII RU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615-3AF5-42A6-B3DC-D1737DE95C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Verdana"/>
              </a:rPr>
              <a:t>NGO impact on the Baraboi village development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re are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4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GOs in the vill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GOs have implemented 10 projects since the beginning of the project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er supply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asificatio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health cente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mmunity development center and others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tal cost of the projects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 552 000 Lei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 00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sources attracted from outside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3 800 000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i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70 0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sources attracted from outside exceed 4 times the village annual bud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s a result, the access of population to services has improv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620120" y="380880"/>
            <a:ext cx="1166760" cy="815760"/>
            <a:chOff x="7620120" y="380880"/>
            <a:chExt cx="1166760" cy="81576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7719840" y="380880"/>
              <a:ext cx="9144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620120" y="981000"/>
              <a:ext cx="11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SUPORT  PENTRU  PROIECTU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NVESTI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Ţ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I ŞI SERVICII RU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494-3BEA-40A2-8D50-0C43CE350E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172200" cy="14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Verdana"/>
              </a:rPr>
              <a:t>NGO network for development and sustainability or community development center</a:t>
            </a:r>
            <a:r>
              <a:rPr b="1" lang="ru-RU" sz="2200" spc="-1" strike="noStrike">
                <a:solidFill>
                  <a:srgbClr val="003399"/>
                </a:solidFill>
                <a:latin typeface="Verdana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003399"/>
                </a:solidFill>
                <a:latin typeface="Verdana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Verdana"/>
              </a:rPr>
              <a:t>project example</a:t>
            </a:r>
            <a:r>
              <a:rPr b="1" lang="ru-RU" sz="2200" spc="-1" strike="noStrike">
                <a:solidFill>
                  <a:srgbClr val="003399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rpo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ociation of NGOs from 6 villages in one operational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GO consolid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community development initi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ment and suppor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a continuous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GO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 –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initiative groups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–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local public administration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private s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ous training and increase in the rural citizens’ level of knowle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ject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ining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formation bulleti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formation boards, specialised brochures, experience exchange forum  among similar centers from other commun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B86-8FFE-4E87-8B18-9130821219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Verdana"/>
              </a:rPr>
              <a:t>Improved access to information and information technologies </a:t>
            </a:r>
            <a:r>
              <a:rPr b="1" lang="ru-RU" sz="2600" spc="-1" strike="noStrike">
                <a:solidFill>
                  <a:srgbClr val="003399"/>
                </a:solidFill>
                <a:latin typeface="Verdana"/>
              </a:rPr>
              <a:t>(</a:t>
            </a:r>
            <a:r>
              <a:rPr b="1" lang="en-US" sz="2600" spc="-1" strike="noStrike">
                <a:solidFill>
                  <a:srgbClr val="003399"/>
                </a:solidFill>
                <a:latin typeface="Verdana"/>
              </a:rPr>
              <a:t>project example</a:t>
            </a:r>
            <a:r>
              <a:rPr b="1" lang="ru-RU" sz="2600" spc="-1" strike="noStrike">
                <a:solidFill>
                  <a:srgbClr val="003399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ion of Informational and Train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ional Cent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des 5 vill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oject go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d access to advanced information technologi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ining people in PC utilis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d access to information (legal, business, teaching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arget grou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epreneur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upil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cal public administratio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youth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gricultural enterprises’ specia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467480" y="609480"/>
            <a:ext cx="1166760" cy="815760"/>
            <a:chOff x="7467480" y="609480"/>
            <a:chExt cx="1166760" cy="81576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7567200" y="609480"/>
              <a:ext cx="9144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467480" y="1209600"/>
              <a:ext cx="11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SUPORT  PENTRU  PROIECTU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NVESTI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Ţ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I ŞI SERVICII RU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E08-3036-470F-BE47-E74932276B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Partnership development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mportance of partnership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-1969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G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unterbalance to the state power and private s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-1969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G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sibility for citizens to get involved in solving their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-1969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efficient service pro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-1969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ibute to social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-1969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cus on interests and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дание дом бы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дание правления колхоз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нтр здоровья, детсады, школы, дома культуры и.т.п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620120" y="380880"/>
            <a:ext cx="1166760" cy="815760"/>
            <a:chOff x="7620120" y="380880"/>
            <a:chExt cx="1166760" cy="81576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7719840" y="380880"/>
              <a:ext cx="9144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620120" y="981000"/>
              <a:ext cx="11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SUPORT  PENTRU  PROIECTU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NVESTI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Ţ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I ŞI SERVICII RU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E65-F7B3-49D3-A53C-891B016FD2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553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Verdana"/>
              </a:rPr>
              <a:t>Examples of successful collaboration</a:t>
            </a:r>
            <a:r>
              <a:rPr b="1" lang="en-US" sz="2600" spc="-1" strike="noStrike">
                <a:solidFill>
                  <a:srgbClr val="003399"/>
                </a:solidFill>
                <a:latin typeface="Verdana"/>
              </a:rPr>
              <a:t> NGO</a:t>
            </a:r>
            <a:r>
              <a:rPr b="1" lang="ru-RU" sz="2600" spc="-1" strike="noStrike">
                <a:solidFill>
                  <a:srgbClr val="003399"/>
                </a:solidFill>
                <a:latin typeface="Verdana"/>
              </a:rPr>
              <a:t> – </a:t>
            </a:r>
            <a:r>
              <a:rPr b="1" lang="en-US" sz="2600" spc="-1" strike="noStrike">
                <a:solidFill>
                  <a:srgbClr val="003399"/>
                </a:solidFill>
                <a:latin typeface="Verdana"/>
              </a:rPr>
              <a:t>local public administration</a:t>
            </a:r>
            <a:r>
              <a:rPr b="1" lang="ru-RU" sz="2600" spc="-1" strike="noStrike">
                <a:solidFill>
                  <a:srgbClr val="003399"/>
                </a:solidFill>
                <a:latin typeface="Verdana"/>
              </a:rPr>
              <a:t>-</a:t>
            </a:r>
            <a:r>
              <a:rPr b="1" lang="en-US" sz="2600" spc="-1" strike="noStrike">
                <a:solidFill>
                  <a:srgbClr val="003399"/>
                </a:solidFill>
                <a:latin typeface="Verdana"/>
              </a:rPr>
              <a:t> private sector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pair of a kindergarten and its reorganisation into a youth center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pair of a health cent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cost –200 000 Lei ($14 30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 public administration –38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GO –31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vate sector –16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pulation –13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696080" y="380880"/>
            <a:ext cx="1166760" cy="815760"/>
            <a:chOff x="7696080" y="380880"/>
            <a:chExt cx="1166760" cy="81576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7795800" y="380880"/>
              <a:ext cx="9144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696080" y="981000"/>
              <a:ext cx="11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SUPORT  PENTRU  PROIECTU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NVESTI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</a:rPr>
                <a:t>Ţ</a:t>
              </a:r>
              <a:r>
                <a:rPr b="1" lang="ro-RO" sz="400" spc="-1" strike="noStrike">
                  <a:solidFill>
                    <a:srgbClr val="008000"/>
                  </a:solidFill>
                  <a:latin typeface="Verdana"/>
                  <a:ea typeface="Times New Roman"/>
                </a:rPr>
                <a:t>II ŞI SERVICII RU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3F3-E157-45AA-AE1F-24DD8338C4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7:02:46Z</dcterms:created>
  <dc:creator>UCIPA</dc:creator>
  <dc:description/>
  <dc:language>en-US</dc:language>
  <cp:lastModifiedBy>Iuliana</cp:lastModifiedBy>
  <dcterms:modified xsi:type="dcterms:W3CDTF">2003-07-08T05:38:58Z</dcterms:modified>
  <cp:revision>336</cp:revision>
  <dc:subject/>
  <dc:title>PowerPoint Presentation</dc:title>
</cp:coreProperties>
</file>