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5BE1-9F0E-44C0-9FE9-A5AD20666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8348-114D-4648-82FD-8D1DED2C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C183-E1BB-4671-8F73-0247EA11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4FD3-E1A6-48BB-B859-98A6F207D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6A40-E861-4325-B3A1-47F5D8246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7927-5F0C-4F63-A0F0-5F14053D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2346-6559-4A6F-AA53-0791CDAF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4AF9-385A-4C18-B6AC-B21D84F0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8752-921B-4933-8530-133D10FE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E7F9-0722-4DE8-A566-B63C9E21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138C-623A-4876-9F31-1C6ACD70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0F05-EA67-499B-B9B4-74B388EF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4A85-DB98-4784-AC02-DCCE85C6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D1C9-43E5-45FD-A41D-75CFB324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1501-E89D-4081-A497-DDCBF67A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1E99-5860-4937-A2F4-C65A8E888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CC92-929F-4C5F-82E0-17865BB3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651B-319A-4888-87EC-F095017B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7096-CF11-4B6D-9791-A84BB113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72C9-8B83-48AC-89C4-FBE41790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1D68-D8E9-4B10-8277-206CDC1C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6CCE-C06F-4972-8724-0241DEBD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5517-AC57-45ED-9EBF-CEE352CB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EB54-755D-4DFB-BDA3-B571F7AC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A4D1-5000-436D-9F95-4839D0BE01E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D4BE-5571-4355-9150-763D2D916B3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979640" y="1349280"/>
            <a:ext cx="6629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838080"/>
            <a:ext cx="86868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152280"/>
            <a:ext cx="441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РЕСПУБЛИКА МОЛДО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716960" y="380880"/>
            <a:ext cx="969840" cy="273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345360" y="407880"/>
            <a:ext cx="1317600" cy="2462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57200" y="701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1989000"/>
            <a:ext cx="8675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Изучение опыта других ст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Разработка мод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Тестирование моде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Разработка юридической ба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Обучение специалистов министерств и Н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Пример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Агентство по консалтингу и обучению в с/х (</a:t>
            </a:r>
            <a:r>
              <a:rPr b="0" lang="ro-RO" sz="2400" spc="-1" strike="noStrike">
                <a:solidFill>
                  <a:srgbClr val="006666"/>
                </a:solidFill>
                <a:latin typeface="Verdana"/>
              </a:rPr>
              <a:t>ACSA</a:t>
            </a: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Фонд социальных инвестиций (</a:t>
            </a:r>
            <a:r>
              <a:rPr b="0" lang="ro-RO" sz="2400" spc="-1" strike="noStrike">
                <a:solidFill>
                  <a:srgbClr val="006666"/>
                </a:solidFill>
                <a:latin typeface="Verdana"/>
              </a:rPr>
              <a:t>FISM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Компонент по развитию бизнеса в сельской местности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(RBD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87520" y="868320"/>
            <a:ext cx="63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Межминистерская координ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798480"/>
            <a:ext cx="8163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ДИАЛОГ МЕЖДУ ЦЕНТАЛЬНЫМИ И МЕСТНЫМИ ОРГАНАМИ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ние ассоциаций представителей местных органов вла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явление проблем (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есоблюдение законодательства, блокирование финансовых ресурсов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вижение предложений через эти ассоци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ация постоянных рабочих групп, круглые столы, и.т.д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учение успешных моделей (местных и зарубежных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 местных и центральных органов вла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ка совместных стратегических планов развития и поддержка в их внедрени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116424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Децентрализация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37720" y="1905120"/>
            <a:ext cx="8185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Разработка плана по децентрализ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Постепенный переход к децентрализованному оказанию услу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798480"/>
            <a:ext cx="8163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Увеличение потенциала местных органов власти (1)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 специалистов местных органов вла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чество между местными оранами власти, НПО, инициативными группами и предпринимателя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ка стратегий и планов развит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едрение стратег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билизация местных ресурс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ранты 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SM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юджетные ресурс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71200" y="798480"/>
            <a:ext cx="8163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Увеличение потенциала местных органов власти (2)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мощь в создании мелкого и среднего бизнеса (привлечение инвестиций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овые рабочие мест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работная плат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лог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ознание местными органами власти позитивного эффекта вследствии предоставления преемлемых услов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оставление преемлемых условий на первоначальном этап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дача в аренду на выгодных условия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свобождение от местных налогов и сбор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ние местного фонда помощи малоимущи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вобождение от местных налогов и сборов для бедных слоев насе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6:11:55Z</dcterms:created>
  <dc:creator>Iuliana Petrovici</dc:creator>
  <dc:description/>
  <dc:language>en-US</dc:language>
  <cp:lastModifiedBy>Iuliana</cp:lastModifiedBy>
  <dcterms:modified xsi:type="dcterms:W3CDTF">2003-07-11T07:41:42Z</dcterms:modified>
  <cp:revision>191</cp:revision>
  <dc:subject/>
  <dc:title>Sustainable Rural Livelihood Project</dc:title>
</cp:coreProperties>
</file>