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060-B5D0-48F7-BC78-C918DED6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D84-7B27-4211-B7D8-FEAC3391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051-5A2D-4B25-A8F1-23A94576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EB9-EC77-4849-8EE8-3C0472C2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FB69-C4E2-4615-89EB-A2A76621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BBFF-858D-4470-8C96-E696F410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5239-6260-4DFC-A6E5-678CCBBC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E964-1DA3-4CA0-97C8-04E1831F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78B9-F990-4151-ACB5-32CEBC64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AC19-7FEC-4486-B88C-DFFD65BD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E09F-290B-45E7-95B8-ECF146E4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ECC-6F02-4C75-A52C-E0E2514F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DEAC-57D9-45B3-886C-BF48CF62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5264-A0E2-43A8-B650-41C30F7E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5A4B-11B4-42E7-9C20-92998649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6100-674B-4F74-B174-4E249378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1955-BCFE-4CBD-ADF1-55A5FAA0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649-94CD-4775-AD77-3050FA66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677-7BAF-45A0-BEA9-C8685493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7A1-B56F-493D-8FBB-3687B13F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BDD-FF55-4046-9EF9-D176C794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6EB-EB78-491A-82C4-A88BE80B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7932-A604-43C6-82D2-D39D0D8D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86A-4F20-4FAA-B56C-3CAC32E9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03BF-6A31-4BCA-9FCD-6AF40F9376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9519-F6A9-428B-B9DC-6D068A5F94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16000" y="260280"/>
            <a:ext cx="5400720" cy="158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80"/>
                </a:solidFill>
                <a:latin typeface="Verdana"/>
              </a:rPr>
              <a:t>ПРОЕКТ ПОДДЕРЖКИ ПРОЕКТА ИНВЕСТИЦИЙ  И УСЛУГ В СЕЛЬСКОЙ МЕСТНОСТИ</a:t>
            </a:r>
            <a:r>
              <a:rPr b="1" lang="en-US" sz="2600" spc="-1" strike="noStrike">
                <a:solidFill>
                  <a:srgbClr val="006600"/>
                </a:solidFill>
                <a:latin typeface="Verdana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2743200"/>
            <a:ext cx="6629400" cy="1676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Verdana"/>
              </a:rPr>
              <a:t>Роль НПО и инициативных групп в разрешении проблем общ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977240" y="380880"/>
            <a:ext cx="1166760" cy="815760"/>
            <a:chOff x="7977240" y="380880"/>
            <a:chExt cx="1166760" cy="8157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8076960" y="380880"/>
              <a:ext cx="9144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77240" y="98100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88000" y="404640"/>
            <a:ext cx="1317600" cy="246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659640" y="836640"/>
            <a:ext cx="1152360" cy="3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F40-CDB7-4823-BEED-B54888E785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400800" cy="14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Рекомендации по улучшению партнерства между местными органами самоуправления </a:t>
            </a:r>
            <a:br>
              <a:rPr sz="2600"/>
            </a:b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(МОС) и НПО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сение обязанностей для МОС по реализации партнерства с НП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учение МОС по работе с НП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здание консультационных структур МОС-НПО для разработки и внедрения программ по развит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влечение внутренних и внешних средств для продвижения этих стратегических элементов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FID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B, USAID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0120" y="457200"/>
            <a:ext cx="1166760" cy="815760"/>
            <a:chOff x="7620120" y="457200"/>
            <a:chExt cx="1166760" cy="81576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7719840" y="457200"/>
              <a:ext cx="9144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620120" y="105732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B88-ED7A-498B-88A3-6C4EBCD91A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7620120" y="533520"/>
            <a:ext cx="1166760" cy="815400"/>
            <a:chOff x="7620120" y="533520"/>
            <a:chExt cx="1166760" cy="8154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719840" y="533520"/>
              <a:ext cx="9144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620120" y="113328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219320" y="914400"/>
            <a:ext cx="58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Инициативные группы</a:t>
            </a: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409840"/>
            <a:ext cx="75409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MD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дентификация формальных и неформальных лидеров с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MD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оздание инициативных груп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MD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дентификация проблем с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Cоциальные паспор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MD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работка программ по экономическому и социальному развитию с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E93-1ED9-4B3F-9682-72FBC769FF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	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Примеры проектов инициативных групп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становка указателя въезда в село Баймакли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оздвижение памятника Штефану Великому  в селе Кырпешть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осстановление водопровода а селе  Енике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772400" y="533520"/>
            <a:ext cx="1166760" cy="815400"/>
            <a:chOff x="7772400" y="533520"/>
            <a:chExt cx="1166760" cy="81540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7872120" y="533520"/>
              <a:ext cx="9144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72400" y="113328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6FF-F2A3-4E16-BD72-AAC15781D1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Создание НПО и реализация </a:t>
            </a:r>
            <a:br>
              <a:rPr sz="2600"/>
            </a:b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различных проектов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минары по созданию и развитию НП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зработка проек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сего проектов реализовано в пилотных селах –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з ни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кологические проек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екты в здравоохране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 реабилитации социальных объек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 восстановлению традиций се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 информатиз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696080" y="609480"/>
            <a:ext cx="1166760" cy="815760"/>
            <a:chOff x="7696080" y="609480"/>
            <a:chExt cx="1166760" cy="8157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7795800" y="609480"/>
              <a:ext cx="9144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696080" y="120960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02E-9A51-4B2B-A7B3-4DE2EF4906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Влияние НПО на развитие села Барабой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уществуют 4 НПО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 момента начала работы проекта в селе созданными НПО было реализовано 10 проектов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водоснабжение, газификация, медицинский центр, центр развития села и другие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Общая стоимость проектов –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4 552 000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Лей (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5 000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Было привлечено извне – 3 800 000 Лей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270 000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влеченные средства превышают в 4 раза годовой бюджет села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 результате их реализации повысился уровень доступности населения к услугам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72400" y="533520"/>
            <a:ext cx="1166760" cy="815400"/>
            <a:chOff x="7772400" y="533520"/>
            <a:chExt cx="1166760" cy="81540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872120" y="533520"/>
              <a:ext cx="9144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772400" y="113328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6C8-BB80-49A7-B998-F29941A258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1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Сеть по устойчивости НПО или центр по развитию села </a:t>
            </a:r>
            <a:br>
              <a:rPr sz="2600"/>
            </a:b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(пример проекта)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8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9880" indent="-479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динение НПО 6-и сел в единой функциональной се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9880" indent="-479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солидация общественных организац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9880" indent="-479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держка первичных инициатив по развитию се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9880" indent="-479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тие и поддержка беспрерывного диалог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ПО - инициативные группы- органы самоуправления-частный секто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9880" indent="-479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тоянное обучение и повышение уровня знаний членов общи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ятельности проек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нинги, информационный бюллетень, инф. панели, специализированные брошюры, форум по обмену опытом между подобными центрами в разных местност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22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20120" y="533520"/>
            <a:ext cx="1166760" cy="815400"/>
            <a:chOff x="7620120" y="533520"/>
            <a:chExt cx="1166760" cy="8154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7719840" y="533520"/>
              <a:ext cx="9144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620120" y="113328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6C8-51CD-4F4B-8857-6F8A752C35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457200"/>
            <a:ext cx="6469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Информационное обеспечение</a:t>
            </a:r>
            <a:br>
              <a:rPr sz="2600"/>
            </a:b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(пример проекта)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ние регионального центра по доступу сельского населения к информации и обучению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ет 5 се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Цели проек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ступ к новейшим информационным технологиям; к Интернет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 населения навыкам работы на компьютер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спечение доступности к новейшей информации нормативно-законодательной,по бизнесу, педагогике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Целевые групп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приниматели, учителя, ученики, местные органы власти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лодежь, специалисты сельхозпредприят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620120" y="533520"/>
            <a:ext cx="1166760" cy="815400"/>
            <a:chOff x="7620120" y="533520"/>
            <a:chExt cx="1166760" cy="81540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7719840" y="533520"/>
              <a:ext cx="9144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620120" y="113328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E3F-DC41-44F4-A669-302A65A8C5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Развитие партнерства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ажность развития партнерст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-186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ПО – противовес государственной власти 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астного сект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-186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ПО – возможность участия граждан в разрешени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х    пробле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-186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олее эффективное предоставление услу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-186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особствуют социальному интегрирован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-186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центрируют интересы и треб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ание дом бы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ание правления колхоз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нтр здоровья, детсады, школы, дома культуры и.т.п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0120" y="380880"/>
            <a:ext cx="1166760" cy="815760"/>
            <a:chOff x="7620120" y="380880"/>
            <a:chExt cx="1166760" cy="8157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7719840" y="380880"/>
              <a:ext cx="9144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620120" y="98100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D45-FC18-421A-A6C7-ECE4BE107A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553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Примеры успешного сотрудничества НПО – Органы местного самоуправления- частный сектор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монт здания детсада и его перепрофилирование в молодежный цент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монт медицинского центр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тоимость проект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– 200 000 Лей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$14 300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ария –38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ПО –3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кономические агенты –1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селение –1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96080" y="380880"/>
            <a:ext cx="1166760" cy="815760"/>
            <a:chOff x="7696080" y="380880"/>
            <a:chExt cx="1166760" cy="81576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7795800" y="380880"/>
              <a:ext cx="9144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696080" y="98100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22A-38DD-4517-8692-7B7414BCF2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02:46Z</dcterms:created>
  <dc:creator>UCIPA</dc:creator>
  <dc:description/>
  <dc:language>en-US</dc:language>
  <cp:lastModifiedBy>Iuliana</cp:lastModifiedBy>
  <dcterms:modified xsi:type="dcterms:W3CDTF">2003-07-08T05:37:31Z</dcterms:modified>
  <cp:revision>296</cp:revision>
  <dc:subject/>
  <dc:title>PowerPoint Presentation</dc:title>
</cp:coreProperties>
</file>