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A18-3666-433F-8064-C2DCEBA0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7C1-00B4-489E-8DFF-7397D1E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F26-F2D7-49A1-ABA8-919A0E87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60A-FB44-4F5A-BDFF-73E69ADE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AD0D-8E2B-499A-B7AC-18015AE6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13CA-7589-49D7-B10E-7121AAD9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4D3C-0A82-452C-ADDB-106F5A8C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4566-E6B9-4E4D-9678-39D380E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770E-A0DC-4244-8781-C99F095E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9DA6-77B8-4DC5-81ED-5CC8C860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9C2B-B36A-453B-8764-5C4EBDF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E4D-8E28-44D5-B68C-FBEE039E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9D54-ABAA-4F87-9478-FC2B07EA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50FB-6004-4E65-ACC5-3103775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DD81-D4C9-4340-A63E-D80A794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3DB1-0A41-45B9-9FEB-13E9627D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EE1D-1131-4035-8465-646C29F0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DCB-AE19-4E97-B140-28760C30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EE8-303A-4A31-8133-9D703484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FD9-B8D2-4313-8534-87345A05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7CB-7913-492B-A04A-223435EB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7DE-ACF7-4BA9-9B49-C9B46F1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94E-E8E5-480F-B783-629DBBCF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E99-AF33-416B-A7ED-6BE94E2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F067-705C-4817-B4DD-AFBA17C0D7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bfd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C2B6-7AFE-4F1F-85FB-CAB9F8A090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27432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Сільське господарство України в умовах СОТ: очікування виробників і прогнози експертів</a:t>
            </a:r>
            <a:r>
              <a:rPr b="0" i="1" lang="uk-UA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371600" y="5410080"/>
            <a:ext cx="6934320" cy="1074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71500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амара Осташ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</a:rPr>
              <a:t>Якими будуть наслідки для сільського населення України?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298520" y="1746360"/>
          <a:ext cx="712944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1746360"/>
                    <a:ext cx="712944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640-DE04-441B-B4A9-9420B08594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Очікування негативних наслідків для населення 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19040" y="1789200"/>
          <a:ext cx="8224920" cy="43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789200"/>
                    <a:ext cx="822492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55F-709A-41E4-B6FE-93BB1C3E49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Очікувані позитивні наслідки для населення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14400" y="1828800"/>
          <a:ext cx="77724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724-435B-4C4B-963C-FD33661DC6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Негативні очікування для сільського населення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33520" y="1523880"/>
          <a:ext cx="8153280" cy="49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1532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1E0-0F55-44A6-9BFF-2E63811BAF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Позитивні очікування для сільського населення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19040" y="1558800"/>
          <a:ext cx="8298000" cy="45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558800"/>
                    <a:ext cx="82980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E28-B707-4613-9BF4-CC9D0339C6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їни, які приєднуються до СОТ, беруть на себе  зобов'язання з чотирьох основних напрямків</a:t>
            </a: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ступ на ринок сільськогосподарських і продовольчих товар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ержавна підтримка сільського господарст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експортна конкуренція у сільськогосподарській і продовольчій торгівлі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анітарні і фітосанітарні заход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7AF-6059-407A-9566-E76CD503F4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Зелена скринька” СОТ: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-360" y="2147760"/>
            <a:ext cx="89154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наукові дослідження, підготовка і підвищення кваліфікації кадрів, інформаційно-консультаційне обслуговуванн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ветеринарні і фітосанітарні заходи, контроль безпеки продуктів харчуванн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прияння збуту сільгосппродукції, включаючи збирання, обробку і розповсюдження ринкової інформаці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вдосконалення інфраструктури (будівництво шляхів, електромереж, меліоративних споруд) за виключенням операційних витрат на її утриманн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утримання стратегічних продовольчих запасів, внутрішня продовольча допомог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забезпечення гарантованого доходу сільгоспвиробникам, удосконалення землекористування тощ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ідтримка доходів виробників, не пов'язана з видом і обсягом виробниц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прияння структурній перебудові сільськогосподарського виробниц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хорона навколишнього середовищ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ограми регіонального розвит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F3F-A63F-488A-A7B3-5B06032285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стка заходів “зеленої скриньки” СОТ у структурі державної підтримки сільського господарства України: 2003-2005 рр.</a:t>
            </a:r>
            <a:r>
              <a:rPr b="0" i="1" lang="ru-RU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082520" y="2496960"/>
          <a:ext cx="6855120" cy="33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496960"/>
                    <a:ext cx="685512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8A3-A8CB-4A87-8207-FC15F358E4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92988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Негативні очікування для галузі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60280" y="1674720"/>
          <a:ext cx="881712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674720"/>
                    <a:ext cx="88171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E19-91D4-4764-9784-71986AC164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Найбільш песимістичними є очікування сільгоспвиробників: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868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1% сільгоспвиробників передбачають зниження конкурентоспроможності вітчизняної продукції на внутрішньому ринк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8% виробників прогнозують зменшення виробництва сільгосппродукції в сільськогосподарських підприємствах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1ED-E3D6-4F86-986B-707F7F1D5C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Соціологічне дослідження</a:t>
            </a:r>
            <a:br>
              <a:rPr sz="4400"/>
            </a:b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оведене у квітні 2005 року у Київський, Донецькій, Луганській і Одеській област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питано 800 респонденті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клад вибір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00 керівників сільгосппідприємств і фермері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00 представників органів влади обласного, районного рівня, органів місцевого самоврядування і спеціалісти дорадчих служ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EF1-6CD2-424D-BD55-582D814B2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380880" y="896760"/>
          <a:ext cx="8313840" cy="59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96760"/>
                    <a:ext cx="8313840" cy="59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137160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Жовта скринька” у бюджеті 2005 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079-DD70-40BF-B6D3-1237DF2712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Позитивні очікування для економіки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1880" y="1919160"/>
          <a:ext cx="7966080" cy="404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19160"/>
                    <a:ext cx="7966080" cy="40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497-B491-48A9-B63A-E89239E15D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66"/>
                </a:solidFill>
                <a:latin typeface="Times New Roman"/>
              </a:rPr>
              <a:t>Позитивні очікування для економіки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30320" y="1789200"/>
          <a:ext cx="8658000" cy="43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789200"/>
                    <a:ext cx="86580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C25-9498-437E-8856-A20053C652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66"/>
                </a:solidFill>
                <a:latin typeface="Times New Roman"/>
              </a:rPr>
              <a:t>Думки щодо СОТ: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74760" y="1789200"/>
          <a:ext cx="826920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789200"/>
                    <a:ext cx="82692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7D1-46C0-408A-9103-46B95C0D12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Хто з учасників аграрного ринку виграє від вступу до СОТ?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57200" y="1828800"/>
          <a:ext cx="8385120" cy="44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38512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580-79D7-4631-A4C1-CBF063152E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66"/>
                </a:solidFill>
                <a:latin typeface="Times New Roman"/>
              </a:rPr>
              <a:t>Хто з учасників аграрного ринку виграє від вступу до СОТ: найменші виграші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60360" y="2021040"/>
          <a:ext cx="8529480" cy="43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2021040"/>
                    <a:ext cx="852948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479-6EF7-4B6F-83CF-746D5CE318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Times New Roman"/>
              </a:rPr>
              <a:t>Чи володієте Ви інформацією про СОТ?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96960" y="1990800"/>
          <a:ext cx="7691400" cy="415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990800"/>
                    <a:ext cx="76914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5B7-56F7-4CC1-A51E-4D25847DC2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Times New Roman"/>
              </a:rPr>
              <a:t>Чи варто Україні вступати до СОТ?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57160" y="1914480"/>
          <a:ext cx="744876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914480"/>
                    <a:ext cx="744876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6D3-6F4D-4A5E-A52E-20C7DE6C14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imes New Roman"/>
              </a:rPr>
              <a:t>Якщо Ви вважаєте, що треба, то як швидко?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2560" y="1747800"/>
          <a:ext cx="793296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747800"/>
                    <a:ext cx="79329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5DD-1D54-4CDB-94C7-3B395F58C7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Times New Roman"/>
              </a:rPr>
              <a:t>Регіональні відмінності:</a:t>
            </a:r>
            <a:endParaRPr b="0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95240" y="1790640"/>
          <a:ext cx="730728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790640"/>
                    <a:ext cx="73072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5E0-CB7F-45B0-AD93-7BB80EC1E1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</a:rPr>
              <a:t>Якими будуть наслідки для економіки України?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12920" y="1976400"/>
          <a:ext cx="8329320" cy="42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976400"/>
                    <a:ext cx="832932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453-876C-40DE-90C4-DE4942FB4F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</a:rPr>
              <a:t>Якими будуть наслідки для сільгоспвиробників?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98520" y="1919160"/>
          <a:ext cx="6755040" cy="44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1919160"/>
                    <a:ext cx="6755040" cy="44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84E-201B-4CC7-BA0D-D407400F57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</a:rPr>
              <a:t>Якими будуть наслідки для населення України?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298520" y="1746360"/>
          <a:ext cx="704376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1746360"/>
                    <a:ext cx="70437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4B3-1B5E-450D-A58A-AE89B2206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40:33Z</dcterms:created>
  <dc:creator>user </dc:creator>
  <dc:description/>
  <dc:language>en-US</dc:language>
  <cp:lastModifiedBy>user </cp:lastModifiedBy>
  <dcterms:modified xsi:type="dcterms:W3CDTF">2005-07-12T12:10:39Z</dcterms:modified>
  <cp:revision>51</cp:revision>
  <dc:subject/>
  <dc:title>PowerPoint Presentation</dc:title>
</cp:coreProperties>
</file>