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61D-D650-46AF-9B98-29E133B7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1AC-5ECF-4484-81C8-8458906F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2A3-7F6B-44DA-90AC-DFA130FA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E1D-3F0B-4DBE-BF9D-162DACE1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1818-165F-4410-8F65-1A14F8CD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E3D0-7E7F-4C5B-8DF8-0B77D412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E020-243B-4510-BCE7-6CBD3FB7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EB78-A9A7-487E-82EF-70A75ACC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C0C7-0A1D-4C60-9024-8C11CD1E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2140-23C3-4818-B076-9D210C31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D9D2-4845-44A3-9272-216A8AA5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41D-2B5A-48D5-9EB9-1DF14A2D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E560-2F8E-4EB4-A12A-425CA5BD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8BD6-1B52-4C4C-B0E8-F8312465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8CE1-A908-4307-8498-650DF0E9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3062-0D53-40C9-8D29-116D1777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4ABC-047E-4D6D-A02D-C4577866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0BE-D21F-446A-B968-5FA2CAB7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DE7-8236-43B6-94D0-291DEAA6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60A-06FF-47B9-B0C5-DF69AB8C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BF1-10AC-4FCC-8DC6-E414F00A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EFF-7EB2-44EF-9BA6-7FF769FA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953-FB84-4534-9E29-B05A5A07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438-CE0C-4C23-9A88-79DA1C6A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32B9-8CC7-4DC8-B0E6-633F349B02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bfd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D168-B9DE-4B50-A30F-8085201882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27432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Сільське господарство України в умовах СОТ: очікування виробників і прогнози експертів</a:t>
            </a:r>
            <a:r>
              <a:rPr b="0" i="1" lang="uk-UA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371600" y="5410080"/>
            <a:ext cx="6934320" cy="1074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71500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амара Осташ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Times New Roman"/>
              </a:rPr>
              <a:t>Якими будуть наслідки для сільського населення України?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298520" y="1746360"/>
          <a:ext cx="7129440" cy="44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1746360"/>
                    <a:ext cx="712944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04A-B32E-4461-98E2-D890276793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Очікування негативних наслідків для населення 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19040" y="1789200"/>
          <a:ext cx="8224920" cy="43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789200"/>
                    <a:ext cx="822492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812-3365-42C6-BF89-330779952B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Очікувані позитивні наслідки для населення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914400" y="1828800"/>
          <a:ext cx="77724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772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080-72D8-427F-8726-53A6FE8430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Негативні очікування для сільського населення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33520" y="1523880"/>
          <a:ext cx="8153280" cy="495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1532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416-7001-4FD9-85DA-89A91AB809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Позитивні очікування для сільського населення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19040" y="1558800"/>
          <a:ext cx="8298000" cy="45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558800"/>
                    <a:ext cx="82980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A30-BBA4-4B08-90A8-2E39C6277C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їни, які приєднуються до СОТ, беруть на себе  зобов'язання з чотирьох основних напрямків</a:t>
            </a: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оступ на ринок сільськогосподарських і продовольчих товар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ержавна підтримка сільського господарст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експортна конкуренція у сільськогосподарській і продовольчій торгівлі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анітарні і фітосанітарні заход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D7A-709D-4F99-8AF7-1D62971942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Зелена скринька” СОТ: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-360" y="2147760"/>
            <a:ext cx="89154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наукові дослідження, підготовка і підвищення кваліфікації кадрів, інформаційно-консультаційне обслуговуванн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ветеринарні і фітосанітарні заходи, контроль безпеки продуктів харчуванн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прияння збуту сільгосппродукції, включаючи збирання, обробку і розповсюдження ринкової інформаці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вдосконалення інфраструктури (будівництво шляхів, електромереж, меліоративних споруд) за виключенням операційних витрат на її утриманн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утримання стратегічних продовольчих запасів, внутрішня продовольча допомог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безпечення гарантованого доходу сільгоспвиробникам, удосконалення землекористування тощ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ідтримка доходів виробників, не пов'язана з видом і обсягом виробниц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прияння структурній перебудові сільськогосподарського виробниц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хорона навколишнього середовищ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грами регіонального розвит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BEE-1BBA-4F05-B0C2-93B46213A3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стка заходів “зеленої скриньки” СОТ у структурі державної підтримки сільського господарства України: 2003-2005 рр.</a:t>
            </a:r>
            <a:r>
              <a:rPr b="0" i="1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082520" y="2496960"/>
          <a:ext cx="6855120" cy="33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496960"/>
                    <a:ext cx="685512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BFD-31C5-49A0-8A12-E21CBC9B4F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Негативні очікування для галузі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60280" y="1674720"/>
          <a:ext cx="881712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674720"/>
                    <a:ext cx="88171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F38-F5F7-4F92-8ED3-BF5C303328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Найбільш песимістичними є очікування сільгоспвиробників: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868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1% сільгоспвиробників передбачають зниження конкурентоспроможності вітчизняної продукції на внутрішньому ринк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8% виробників прогнозують зменшення виробництва сільгосппродукції в сільськогосподарських підприємствах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BD3-9E3B-4B40-A33D-989EF606B5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Соціологічне дослідження</a:t>
            </a:r>
            <a:br>
              <a:rPr sz="4400"/>
            </a:b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роведене у квітні 2005 року у Київський, Донецькій, Луганській і Одеській област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питано 800 респонденті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клад вибір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00 керівників сільгосппідприємств і фермері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00 представників органів влади обласного, районного рівня, органів місцевого самоврядування і спеціалісти дорадчих служ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EE5-45AB-487C-B312-55313EFF3F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380880" y="896760"/>
          <a:ext cx="8313840" cy="59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96760"/>
                    <a:ext cx="8313840" cy="59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137160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Жовта скринька” у бюджеті 2005 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026-B042-4353-9D3C-EF6EB4C812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Позитивні очікування для економіки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61880" y="1919160"/>
          <a:ext cx="7966080" cy="40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19160"/>
                    <a:ext cx="7966080" cy="40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244-F79A-4275-A733-40532A5E5D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Позитивні очікування для економіки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30320" y="1789200"/>
          <a:ext cx="8658000" cy="437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789200"/>
                    <a:ext cx="86580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989-237D-40B9-9BF7-31505FFB31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66"/>
                </a:solidFill>
                <a:latin typeface="Times New Roman"/>
              </a:rPr>
              <a:t>Думки щодо СОТ: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74760" y="1789200"/>
          <a:ext cx="826920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789200"/>
                    <a:ext cx="82692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0BA-C921-4C55-BC7F-C292257701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Хто з учасників аграрного ринку виграє від вступу до СОТ?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57200" y="1828800"/>
          <a:ext cx="8385120" cy="444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38512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85C-3EDE-4782-9F52-7EB3A5AC9E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Хто з учасників аграрного ринку виграє від вступу до СОТ: найменші виграші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60360" y="2021040"/>
          <a:ext cx="8529480" cy="437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2021040"/>
                    <a:ext cx="852948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838-0971-492E-856F-78D15B1EE1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66"/>
                </a:solidFill>
                <a:latin typeface="Times New Roman"/>
              </a:rPr>
              <a:t>Чи володієте Ви інформацією про СОТ?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96960" y="1990800"/>
          <a:ext cx="7691400" cy="415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990800"/>
                    <a:ext cx="76914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41A-49EE-4D49-95C2-9E5B773024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66"/>
                </a:solidFill>
                <a:latin typeface="Times New Roman"/>
              </a:rPr>
              <a:t>Чи варто Україні вступати до СОТ?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857160" y="1914480"/>
          <a:ext cx="744876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914480"/>
                    <a:ext cx="744876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398-7688-4D15-9FE0-755B3E1292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Якщо Ви вважаєте, що треба, то як швидко?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82560" y="1747800"/>
          <a:ext cx="793296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747800"/>
                    <a:ext cx="79329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B50-7BA0-4BD2-932E-2E8441C11B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66"/>
                </a:solidFill>
                <a:latin typeface="Times New Roman"/>
              </a:rPr>
              <a:t>Регіональні відмінності: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95240" y="1790640"/>
          <a:ext cx="730728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790640"/>
                    <a:ext cx="73072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E2F-A051-43F7-BD51-6F9D55529E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Times New Roman"/>
              </a:rPr>
              <a:t>Якими будуть наслідки для економіки України?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12920" y="1976400"/>
          <a:ext cx="8329320" cy="42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976400"/>
                    <a:ext cx="832932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B3D-54E9-4FE0-AFE6-711A5C60F7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Times New Roman"/>
              </a:rPr>
              <a:t>Якими будуть наслідки для сільгоспвиробників?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98520" y="1919160"/>
          <a:ext cx="6755040" cy="44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1919160"/>
                    <a:ext cx="6755040" cy="44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26B-E494-4E11-ADA7-865663FC63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Times New Roman"/>
              </a:rPr>
              <a:t>Якими будуть наслідки для населення України?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298520" y="1746360"/>
          <a:ext cx="704376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1746360"/>
                    <a:ext cx="70437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6E0-D46B-4AA4-8934-71C3D7E6EA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40:33Z</dcterms:created>
  <dc:creator>user </dc:creator>
  <dc:description/>
  <dc:language>en-US</dc:language>
  <cp:lastModifiedBy>user </cp:lastModifiedBy>
  <dcterms:modified xsi:type="dcterms:W3CDTF">2005-07-12T12:10:39Z</dcterms:modified>
  <cp:revision>51</cp:revision>
  <dc:subject/>
  <dc:title>PowerPoint Presentation</dc:title>
</cp:coreProperties>
</file>